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5936A-8CF4-4984-8F31-6430B964F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B344F-2BCC-480F-8F42-2BAE9693B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DDCA9-6947-43C3-A839-B2F081810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3673D-C291-475C-882D-E303DC575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52D3D-69C4-49D5-90C8-BBF87E240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17306-F98E-4C0F-BA11-2774FD9B5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A0A53-28E0-4D4B-849F-2FA88906E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D7367-D414-41FB-A474-B21C0BE85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EBC34-FBEB-4003-86C7-7D66418FE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B6F68-1ED3-403E-828E-CDCD1246F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43C6A-B4F9-46FE-A89B-DD56CD71D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8C38A-5798-4DDF-B5F2-2616C09BF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等线 Light"/>
              </a:rPr>
              <a:t>Click to edit the title text format</a:t>
            </a:r>
            <a:endParaRPr b="0" lang="en-US" sz="4400" spc="-1" strike="noStrike">
              <a:solidFill>
                <a:srgbClr val="000000"/>
              </a:solidFill>
              <a:latin typeface="等线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lick to edit the outline text format</a:t>
            </a:r>
            <a:endParaRPr b="0" lang="en-US" sz="2800" spc="-1" strike="noStrike">
              <a:solidFill>
                <a:srgbClr val="000000"/>
              </a:solidFill>
              <a:latin typeface="等线"/>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cond Outline Level</a:t>
            </a:r>
            <a:endParaRPr b="0" lang="en-US" sz="2800" spc="-1" strike="noStrike">
              <a:solidFill>
                <a:srgbClr val="000000"/>
              </a:solidFill>
              <a:latin typeface="等线"/>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Third Outline Level</a:t>
            </a:r>
            <a:endParaRPr b="0" lang="en-US" sz="2800" spc="-1" strike="noStrike">
              <a:solidFill>
                <a:srgbClr val="000000"/>
              </a:solidFill>
              <a:latin typeface="等线"/>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ourth Outline Level</a:t>
            </a:r>
            <a:endParaRPr b="0" lang="en-US" sz="2800" spc="-1" strike="noStrike">
              <a:solidFill>
                <a:srgbClr val="000000"/>
              </a:solidFill>
              <a:latin typeface="等线"/>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ifth Outline Level</a:t>
            </a:r>
            <a:endParaRPr b="0" lang="en-US" sz="2800" spc="-1" strike="noStrike">
              <a:solidFill>
                <a:srgbClr val="000000"/>
              </a:solidFill>
              <a:latin typeface="等线"/>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ixth Outline Level</a:t>
            </a:r>
            <a:endParaRPr b="0" lang="en-US" sz="2800" spc="-1" strike="noStrike">
              <a:solidFill>
                <a:srgbClr val="000000"/>
              </a:solidFill>
              <a:latin typeface="等线"/>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venth Outline Level</a:t>
            </a:r>
            <a:endParaRPr b="0" lang="en-US" sz="2800" spc="-1" strike="noStrike">
              <a:solidFill>
                <a:srgbClr val="000000"/>
              </a:solidFill>
              <a:latin typeface="等线"/>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等线"/>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6A562-5006-4F9A-8274-C6A273A7B057}" type="slidenum">
              <a:rPr b="0" lang="zh-CN" sz="1200" spc="-1" strike="noStrike">
                <a:solidFill>
                  <a:srgbClr val="898989"/>
                </a:solidFill>
                <a:latin typeface="等线"/>
              </a:rPr>
              <a:t>&lt;number&gt;</a:t>
            </a:fld>
            <a:endParaRPr b="0" lang="en-US" sz="12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9" descr=""/>
          <p:cNvPicPr/>
          <p:nvPr/>
        </p:nvPicPr>
        <p:blipFill>
          <a:blip r:embed="rId1"/>
          <a:srcRect l="0" t="0" r="42150" b="48020"/>
          <a:stretch/>
        </p:blipFill>
        <p:spPr>
          <a:xfrm>
            <a:off x="7345440" y="2511360"/>
            <a:ext cx="4846680" cy="4346640"/>
          </a:xfrm>
          <a:prstGeom prst="rect">
            <a:avLst/>
          </a:prstGeom>
          <a:ln w="0">
            <a:noFill/>
          </a:ln>
        </p:spPr>
      </p:pic>
      <p:sp>
        <p:nvSpPr>
          <p:cNvPr id="42" name="Rectangle 5"/>
          <p:cNvSpPr/>
          <p:nvPr/>
        </p:nvSpPr>
        <p:spPr>
          <a:xfrm>
            <a:off x="2473200" y="2049480"/>
            <a:ext cx="7245360" cy="2760480"/>
          </a:xfrm>
          <a:prstGeom prst="rect">
            <a:avLst/>
          </a:prstGeom>
          <a:noFill/>
          <a:ln w="38160">
            <a:solidFill>
              <a:srgbClr val="3d735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43" name="图片 16" descr=""/>
          <p:cNvPicPr/>
          <p:nvPr/>
        </p:nvPicPr>
        <p:blipFill>
          <a:blip r:embed="rId2"/>
          <a:srcRect l="17878" t="35014" r="0" b="43149"/>
          <a:stretch/>
        </p:blipFill>
        <p:spPr>
          <a:xfrm>
            <a:off x="0" y="0"/>
            <a:ext cx="5837400" cy="2166840"/>
          </a:xfrm>
          <a:prstGeom prst="rect">
            <a:avLst/>
          </a:prstGeom>
          <a:ln w="0">
            <a:noFill/>
          </a:ln>
        </p:spPr>
      </p:pic>
      <p:sp>
        <p:nvSpPr>
          <p:cNvPr id="44" name="文本框 5"/>
          <p:cNvSpPr/>
          <p:nvPr/>
        </p:nvSpPr>
        <p:spPr>
          <a:xfrm>
            <a:off x="4595760" y="2416320"/>
            <a:ext cx="3110040" cy="93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3d7351"/>
                </a:solidFill>
                <a:latin typeface="方正清刻本悦宋简体"/>
                <a:ea typeface="方正清刻本悦宋简体"/>
              </a:rPr>
              <a:t>后元音</a:t>
            </a:r>
            <a:endParaRPr b="0" lang="en-US" sz="5500" spc="-1" strike="noStrike">
              <a:solidFill>
                <a:srgbClr val="000000"/>
              </a:solidFill>
              <a:latin typeface="等线"/>
            </a:endParaRPr>
          </a:p>
        </p:txBody>
      </p:sp>
      <p:sp>
        <p:nvSpPr>
          <p:cNvPr id="45" name="文本框 6"/>
          <p:cNvSpPr/>
          <p:nvPr/>
        </p:nvSpPr>
        <p:spPr>
          <a:xfrm>
            <a:off x="3983040" y="3251160"/>
            <a:ext cx="4665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d7351"/>
                </a:solidFill>
                <a:latin typeface="方正清刻本悦宋简体"/>
                <a:ea typeface="方正清刻本悦宋简体"/>
              </a:rPr>
              <a:t>Back Vowels</a:t>
            </a:r>
            <a:endParaRPr b="0" lang="en-US" sz="4000" spc="-1" strike="noStrike">
              <a:solidFill>
                <a:srgbClr val="000000"/>
              </a:solidFill>
              <a:latin typeface="等线"/>
            </a:endParaRPr>
          </a:p>
        </p:txBody>
      </p:sp>
      <p:sp>
        <p:nvSpPr>
          <p:cNvPr id="46" name="文本框 32"/>
          <p:cNvSpPr/>
          <p:nvPr/>
        </p:nvSpPr>
        <p:spPr>
          <a:xfrm>
            <a:off x="5511960" y="4270320"/>
            <a:ext cx="126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7351"/>
                </a:solidFill>
                <a:latin typeface="微软雅黑"/>
                <a:ea typeface="微软雅黑"/>
              </a:rPr>
              <a:t>制作人：李牧云</a:t>
            </a:r>
            <a:endParaRPr b="0" lang="en-US" sz="1200" spc="-1" strike="noStrike">
              <a:solidFill>
                <a:srgbClr val="000000"/>
              </a:solidFill>
              <a:latin typeface="等线"/>
            </a:endParaRPr>
          </a:p>
        </p:txBody>
      </p:sp>
      <p:sp>
        <p:nvSpPr>
          <p:cNvPr id="47" name="直接连接符 10"/>
          <p:cNvSpPr/>
          <p:nvPr/>
        </p:nvSpPr>
        <p:spPr>
          <a:xfrm>
            <a:off x="4143240" y="4410000"/>
            <a:ext cx="1300320" cy="0"/>
          </a:xfrm>
          <a:prstGeom prst="line">
            <a:avLst/>
          </a:prstGeom>
          <a:ln w="6480">
            <a:solidFill>
              <a:srgbClr val="3d73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等线"/>
            </a:endParaRPr>
          </a:p>
        </p:txBody>
      </p:sp>
      <p:sp>
        <p:nvSpPr>
          <p:cNvPr id="48" name="直接连接符 11"/>
          <p:cNvSpPr/>
          <p:nvPr/>
        </p:nvSpPr>
        <p:spPr>
          <a:xfrm>
            <a:off x="6896160" y="4410000"/>
            <a:ext cx="1299960" cy="0"/>
          </a:xfrm>
          <a:prstGeom prst="line">
            <a:avLst/>
          </a:prstGeom>
          <a:ln w="6480">
            <a:solidFill>
              <a:srgbClr val="3d73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等线"/>
            </a:endParaRPr>
          </a:p>
        </p:txBody>
      </p:sp>
    </p:spTree>
  </p:cSld>
  <p:transition>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 name="组合 9"/>
          <p:cNvGrpSpPr/>
          <p:nvPr/>
        </p:nvGrpSpPr>
        <p:grpSpPr>
          <a:xfrm>
            <a:off x="673200" y="1389240"/>
            <a:ext cx="4505400" cy="5204880"/>
            <a:chOff x="673200" y="1389240"/>
            <a:chExt cx="4505400" cy="5204880"/>
          </a:xfrm>
        </p:grpSpPr>
        <p:sp>
          <p:nvSpPr>
            <p:cNvPr id="153" name="文本框 10"/>
            <p:cNvSpPr/>
            <p:nvPr/>
          </p:nvSpPr>
          <p:spPr>
            <a:xfrm>
              <a:off x="861480" y="1389240"/>
              <a:ext cx="4128840" cy="520560"/>
            </a:xfrm>
            <a:prstGeom prst="rect">
              <a:avLst/>
            </a:prstGeom>
            <a:solidFill>
              <a:srgbClr val="3d735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   V.S.   /ʊ/</a:t>
              </a:r>
              <a:endParaRPr b="0" lang="en-US" sz="2800" spc="-1" strike="noStrike">
                <a:solidFill>
                  <a:srgbClr val="000000"/>
                </a:solidFill>
                <a:latin typeface="等线"/>
              </a:endParaRPr>
            </a:p>
          </p:txBody>
        </p:sp>
        <p:sp>
          <p:nvSpPr>
            <p:cNvPr id="154" name="矩形 11"/>
            <p:cNvSpPr/>
            <p:nvPr/>
          </p:nvSpPr>
          <p:spPr>
            <a:xfrm>
              <a:off x="673200" y="2140560"/>
              <a:ext cx="4505400" cy="44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a:t>
              </a:r>
              <a:endParaRPr b="0" lang="en-US" sz="2000" spc="-1" strike="noStrike">
                <a:solidFill>
                  <a:srgbClr val="000000"/>
                </a:solidFill>
                <a:latin typeface="等线"/>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ack of the tongue is raised to the closed position. The lips are more rounded and closed than for /ʊ/, but not protruded. </a:t>
              </a:r>
              <a:endParaRPr b="0" lang="en-US" sz="2000" spc="-1" strike="noStrike">
                <a:solidFill>
                  <a:srgbClr val="000000"/>
                </a:solidFill>
                <a:latin typeface="等线"/>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ʊ/</a:t>
              </a:r>
              <a:endParaRPr b="0" lang="en-US" sz="2000" spc="-1" strike="noStrike">
                <a:solidFill>
                  <a:srgbClr val="000000"/>
                </a:solidFill>
                <a:latin typeface="等线"/>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art nearer to the center than to back of the tongue is raised to just above the close-mid position. The tip of the tongue is retracted from the lower teeth. The lips are closely but loosely rounded. The sound is the shortest of all the vowels.</a:t>
              </a:r>
              <a:endParaRPr b="0" lang="en-US" sz="2000" spc="-1" strike="noStrike">
                <a:solidFill>
                  <a:srgbClr val="000000"/>
                </a:solidFill>
                <a:latin typeface="等线"/>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p:txBody>
        </p:sp>
      </p:grpSp>
      <p:sp>
        <p:nvSpPr>
          <p:cNvPr id="155" name="矩形 21"/>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156" name="组合 22" descr=""/>
          <p:cNvPicPr/>
          <p:nvPr/>
        </p:nvPicPr>
        <p:blipFill>
          <a:blip r:embed="rId1"/>
          <a:stretch/>
        </p:blipFill>
        <p:spPr>
          <a:xfrm>
            <a:off x="237960" y="206280"/>
            <a:ext cx="578160" cy="576360"/>
          </a:xfrm>
          <a:prstGeom prst="rect">
            <a:avLst/>
          </a:prstGeom>
          <a:ln w="0">
            <a:noFill/>
          </a:ln>
        </p:spPr>
      </p:pic>
      <p:sp>
        <p:nvSpPr>
          <p:cNvPr id="157" name="文本框 25"/>
          <p:cNvSpPr/>
          <p:nvPr/>
        </p:nvSpPr>
        <p:spPr>
          <a:xfrm>
            <a:off x="964800" y="212760"/>
            <a:ext cx="767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Pronunciation of Each Back Vowel (2)</a:t>
            </a:r>
            <a:endParaRPr b="0" lang="en-US" sz="3200" spc="-1" strike="noStrike">
              <a:solidFill>
                <a:srgbClr val="000000"/>
              </a:solidFill>
              <a:latin typeface="等线"/>
            </a:endParaRPr>
          </a:p>
        </p:txBody>
      </p:sp>
      <p:pic>
        <p:nvPicPr>
          <p:cNvPr id="158" name="图片 4" descr=""/>
          <p:cNvPicPr/>
          <p:nvPr/>
        </p:nvPicPr>
        <p:blipFill>
          <a:blip r:embed="rId2"/>
          <a:stretch/>
        </p:blipFill>
        <p:spPr>
          <a:xfrm>
            <a:off x="6235560" y="3919680"/>
            <a:ext cx="4984920" cy="2714400"/>
          </a:xfrm>
          <a:prstGeom prst="rect">
            <a:avLst/>
          </a:prstGeom>
          <a:ln w="0">
            <a:noFill/>
          </a:ln>
        </p:spPr>
      </p:pic>
      <p:graphicFrame>
        <p:nvGraphicFramePr>
          <p:cNvPr id="159" name=""/>
          <p:cNvGraphicFramePr/>
          <p:nvPr/>
        </p:nvGraphicFramePr>
        <p:xfrm>
          <a:off x="6235560" y="1266840"/>
          <a:ext cx="4984920" cy="2452680"/>
        </p:xfrm>
        <a:graphic>
          <a:graphicData uri="http://schemas.openxmlformats.org/drawingml/2006/table">
            <a:tbl>
              <a:tblPr/>
              <a:tblGrid>
                <a:gridCol w="2492280"/>
                <a:gridCol w="2492640"/>
              </a:tblGrid>
              <a:tr h="420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ea typeface="宋体"/>
                        </a:rPr>
                        <a:t>/</a:t>
                      </a:r>
                      <a:r>
                        <a:rPr b="1" lang="en-US" sz="2000" spc="-1" strike="noStrike">
                          <a:solidFill>
                            <a:srgbClr val="ffffff"/>
                          </a:solidFill>
                          <a:latin typeface="Calibri"/>
                        </a:rPr>
                        <a:t>u:</a:t>
                      </a:r>
                      <a:r>
                        <a:rPr b="1" lang="en-US" sz="1800" spc="-1" strike="noStrike">
                          <a:solidFill>
                            <a:srgbClr val="ffffff"/>
                          </a:solidFill>
                          <a:latin typeface="Century Gothic"/>
                          <a:ea typeface="宋体"/>
                        </a:rPr>
                        <a: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cd43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ea typeface="宋体"/>
                        </a:rPr>
                        <a:t>/</a:t>
                      </a:r>
                      <a:r>
                        <a:rPr b="1" lang="en-US" sz="2000" spc="-1" strike="noStrike">
                          <a:solidFill>
                            <a:srgbClr val="ffffff"/>
                          </a:solidFill>
                          <a:latin typeface="Century Gothic"/>
                          <a:ea typeface="宋体"/>
                        </a:rPr>
                        <a:t>ʊ</a:t>
                      </a:r>
                      <a:r>
                        <a:rPr b="1" lang="en-US" sz="1800" spc="-1" strike="noStrike">
                          <a:solidFill>
                            <a:srgbClr val="ffffff"/>
                          </a:solidFill>
                          <a:latin typeface="Century Gothic"/>
                          <a:ea typeface="宋体"/>
                        </a:rPr>
                        <a: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cd433"/>
                    </a:solidFill>
                  </a:tcPr>
                </a:tc>
              </a:tr>
              <a:tr h="406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fool</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3efc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full</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3efcd"/>
                    </a:solidFill>
                  </a:tcPr>
                </a:tc>
              </a:tr>
              <a:tr h="406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pool</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pull</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r>
              <a:tr h="406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wooed</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3efc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wood</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3efcd"/>
                    </a:solidFill>
                  </a:tcPr>
                </a:tc>
              </a:tr>
              <a:tr h="406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shoo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should</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r>
              <a:tr h="406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stool</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3efc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stood</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3efcd"/>
                    </a:solidFill>
                  </a:tcPr>
                </a:tc>
              </a:tr>
            </a:tbl>
          </a:graphicData>
        </a:graphic>
      </p:graphicFrame>
    </p:spTree>
  </p:cSld>
  <p:transition>
    <p:push dir="u"/>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dur="indefinite" nodeType="clickEffect" fill="hold" presetClass="entr" presetID="2" presetSubtype="4">
                                  <p:stCondLst>
                                    <p:cond delay="0"/>
                                  </p:stCondLst>
                                  <p:childTnLst>
                                    <p:set>
                                      <p:cBhvr>
                                        <p:cTn id="196" dur="1" fill="hold">
                                          <p:stCondLst>
                                            <p:cond delay="0"/>
                                          </p:stCondLst>
                                        </p:cTn>
                                        <p:tgtEl>
                                          <p:spTgt spid="152"/>
                                        </p:tgtEl>
                                        <p:attrNameLst>
                                          <p:attrName>style.visibility</p:attrName>
                                        </p:attrNameLst>
                                      </p:cBhvr>
                                      <p:to>
                                        <p:strVal val="visible"/>
                                      </p:to>
                                    </p:set>
                                    <p:anim calcmode="lin" valueType="num">
                                      <p:cBhvr additive="repl">
                                        <p:cTn id="197" dur="500" fill="hold"/>
                                        <p:tgtEl>
                                          <p:spTgt spid="152"/>
                                        </p:tgtEl>
                                        <p:attrNameLst>
                                          <p:attrName>ppt_x</p:attrName>
                                        </p:attrNameLst>
                                      </p:cBhvr>
                                      <p:tavLst>
                                        <p:tav tm="0">
                                          <p:val>
                                            <p:strVal val="#ppt_x"/>
                                          </p:val>
                                        </p:tav>
                                        <p:tav tm="100000">
                                          <p:val>
                                            <p:strVal val="#ppt_x"/>
                                          </p:val>
                                        </p:tav>
                                      </p:tavLst>
                                    </p:anim>
                                    <p:anim calcmode="lin" valueType="num">
                                      <p:cBhvr additive="repl">
                                        <p:cTn id="19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2" presetSubtype="4">
                                  <p:stCondLst>
                                    <p:cond delay="0"/>
                                  </p:stCondLst>
                                  <p:childTnLst>
                                    <p:set>
                                      <p:cBhvr>
                                        <p:cTn id="202" dur="1" fill="hold">
                                          <p:stCondLst>
                                            <p:cond delay="0"/>
                                          </p:stCondLst>
                                        </p:cTn>
                                        <p:tgtEl>
                                          <p:spTgt spid="159"/>
                                        </p:tgtEl>
                                        <p:attrNameLst>
                                          <p:attrName>style.visibility</p:attrName>
                                        </p:attrNameLst>
                                      </p:cBhvr>
                                      <p:to>
                                        <p:strVal val="visible"/>
                                      </p:to>
                                    </p:set>
                                    <p:anim calcmode="lin" valueType="num">
                                      <p:cBhvr additive="repl">
                                        <p:cTn id="203" dur="500" fill="hold"/>
                                        <p:tgtEl>
                                          <p:spTgt spid="159"/>
                                        </p:tgtEl>
                                        <p:attrNameLst>
                                          <p:attrName>ppt_x</p:attrName>
                                        </p:attrNameLst>
                                      </p:cBhvr>
                                      <p:tavLst>
                                        <p:tav tm="0">
                                          <p:val>
                                            <p:strVal val="#ppt_x"/>
                                          </p:val>
                                        </p:tav>
                                        <p:tav tm="100000">
                                          <p:val>
                                            <p:strVal val="#ppt_x"/>
                                          </p:val>
                                        </p:tav>
                                      </p:tavLst>
                                    </p:anim>
                                    <p:anim calcmode="lin" valueType="num">
                                      <p:cBhvr additive="repl">
                                        <p:cTn id="20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2" presetSubtype="4">
                                  <p:stCondLst>
                                    <p:cond delay="0"/>
                                  </p:stCondLst>
                                  <p:childTnLst>
                                    <p:set>
                                      <p:cBhvr>
                                        <p:cTn id="208" dur="1" fill="hold">
                                          <p:stCondLst>
                                            <p:cond delay="0"/>
                                          </p:stCondLst>
                                        </p:cTn>
                                        <p:tgtEl>
                                          <p:spTgt spid="158"/>
                                        </p:tgtEl>
                                        <p:attrNameLst>
                                          <p:attrName>style.visibility</p:attrName>
                                        </p:attrNameLst>
                                      </p:cBhvr>
                                      <p:to>
                                        <p:strVal val="visible"/>
                                      </p:to>
                                    </p:set>
                                    <p:anim calcmode="lin" valueType="num">
                                      <p:cBhvr additive="repl">
                                        <p:cTn id="209" dur="500" fill="hold"/>
                                        <p:tgtEl>
                                          <p:spTgt spid="158"/>
                                        </p:tgtEl>
                                        <p:attrNameLst>
                                          <p:attrName>ppt_x</p:attrName>
                                        </p:attrNameLst>
                                      </p:cBhvr>
                                      <p:tavLst>
                                        <p:tav tm="0">
                                          <p:val>
                                            <p:strVal val="#ppt_x"/>
                                          </p:val>
                                        </p:tav>
                                        <p:tav tm="100000">
                                          <p:val>
                                            <p:strVal val="#ppt_x"/>
                                          </p:val>
                                        </p:tav>
                                      </p:tavLst>
                                    </p:anim>
                                    <p:anim calcmode="lin" valueType="num">
                                      <p:cBhvr additive="repl">
                                        <p:cTn id="21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矩形 21"/>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161" name="组合 22" descr=""/>
          <p:cNvPicPr/>
          <p:nvPr/>
        </p:nvPicPr>
        <p:blipFill>
          <a:blip r:embed="rId1"/>
          <a:stretch/>
        </p:blipFill>
        <p:spPr>
          <a:xfrm>
            <a:off x="237960" y="206280"/>
            <a:ext cx="578160" cy="576360"/>
          </a:xfrm>
          <a:prstGeom prst="rect">
            <a:avLst/>
          </a:prstGeom>
          <a:ln w="0">
            <a:noFill/>
          </a:ln>
        </p:spPr>
      </p:pic>
      <p:sp>
        <p:nvSpPr>
          <p:cNvPr id="162" name="文本框 25"/>
          <p:cNvSpPr/>
          <p:nvPr/>
        </p:nvSpPr>
        <p:spPr>
          <a:xfrm>
            <a:off x="964800" y="212760"/>
            <a:ext cx="767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Pronunciation of Each Back Vowel (2)</a:t>
            </a:r>
            <a:endParaRPr b="0" lang="en-US" sz="3200" spc="-1" strike="noStrike">
              <a:solidFill>
                <a:srgbClr val="000000"/>
              </a:solidFill>
              <a:latin typeface="等线"/>
            </a:endParaRPr>
          </a:p>
        </p:txBody>
      </p:sp>
      <p:pic>
        <p:nvPicPr>
          <p:cNvPr id="163" name="文本框 3" descr=""/>
          <p:cNvPicPr/>
          <p:nvPr/>
        </p:nvPicPr>
        <p:blipFill>
          <a:blip r:embed="rId2"/>
          <a:stretch/>
        </p:blipFill>
        <p:spPr>
          <a:xfrm>
            <a:off x="3960720" y="5486400"/>
            <a:ext cx="4935600" cy="577800"/>
          </a:xfrm>
          <a:prstGeom prst="rect">
            <a:avLst/>
          </a:prstGeom>
          <a:ln w="0">
            <a:noFill/>
          </a:ln>
        </p:spPr>
      </p:pic>
      <p:pic>
        <p:nvPicPr>
          <p:cNvPr id="164" name="09_最标准的英式英语发音_元音_u-_标清.mp4" descr=""/>
          <p:cNvPicPr/>
          <p:nvPr/>
        </p:nvPicPr>
        <p:blipFill>
          <a:blip r:embed="rId3"/>
          <a:stretch/>
        </p:blipFill>
        <p:spPr>
          <a:xfrm>
            <a:off x="696960" y="2133720"/>
            <a:ext cx="5181480" cy="2590560"/>
          </a:xfrm>
          <a:prstGeom prst="rect">
            <a:avLst/>
          </a:prstGeom>
          <a:ln w="0">
            <a:noFill/>
          </a:ln>
        </p:spPr>
      </p:pic>
      <p:pic>
        <p:nvPicPr>
          <p:cNvPr id="165" name="02_最标准的英式英语发音_元音_u_标清.mp4" descr=""/>
          <p:cNvPicPr/>
          <p:nvPr/>
        </p:nvPicPr>
        <p:blipFill>
          <a:blip r:embed="rId4"/>
          <a:stretch/>
        </p:blipFill>
        <p:spPr>
          <a:xfrm>
            <a:off x="6443640" y="2133720"/>
            <a:ext cx="5181480" cy="2590560"/>
          </a:xfrm>
          <a:prstGeom prst="rect">
            <a:avLst/>
          </a:prstGeom>
          <a:ln w="0">
            <a:noFill/>
          </a:ln>
        </p:spPr>
      </p:pic>
      <p:sp>
        <p:nvSpPr>
          <p:cNvPr id="166" name=" 2050"/>
          <p:cNvSpPr/>
          <p:nvPr/>
        </p:nvSpPr>
        <p:spPr>
          <a:xfrm>
            <a:off x="903240" y="4373640"/>
            <a:ext cx="380880" cy="519120"/>
          </a:xfrm>
          <a:custGeom>
            <a:avLst/>
            <a:gdLst/>
            <a:ahLst/>
            <a:rect l="l" t="t" r="r" b="b"/>
            <a:pathLst>
              <a:path w="1646238" h="2433638">
                <a:moveTo>
                  <a:pt x="577732" y="161925"/>
                </a:moveTo>
                <a:lnTo>
                  <a:pt x="586070" y="162719"/>
                </a:lnTo>
                <a:lnTo>
                  <a:pt x="593614" y="163910"/>
                </a:lnTo>
                <a:lnTo>
                  <a:pt x="597585" y="164703"/>
                </a:lnTo>
                <a:lnTo>
                  <a:pt x="601953" y="165894"/>
                </a:lnTo>
                <a:lnTo>
                  <a:pt x="605526" y="167482"/>
                </a:lnTo>
                <a:lnTo>
                  <a:pt x="609100" y="169069"/>
                </a:lnTo>
                <a:lnTo>
                  <a:pt x="612674" y="171053"/>
                </a:lnTo>
                <a:lnTo>
                  <a:pt x="616247" y="173435"/>
                </a:lnTo>
                <a:lnTo>
                  <a:pt x="619821" y="176610"/>
                </a:lnTo>
                <a:lnTo>
                  <a:pt x="623394" y="179388"/>
                </a:lnTo>
                <a:lnTo>
                  <a:pt x="626968" y="182563"/>
                </a:lnTo>
                <a:lnTo>
                  <a:pt x="630145" y="186135"/>
                </a:lnTo>
                <a:lnTo>
                  <a:pt x="633321" y="190103"/>
                </a:lnTo>
                <a:lnTo>
                  <a:pt x="636498" y="194469"/>
                </a:lnTo>
                <a:lnTo>
                  <a:pt x="639674" y="199232"/>
                </a:lnTo>
                <a:lnTo>
                  <a:pt x="642454" y="204788"/>
                </a:lnTo>
                <a:lnTo>
                  <a:pt x="645233" y="210344"/>
                </a:lnTo>
                <a:lnTo>
                  <a:pt x="648013" y="216297"/>
                </a:lnTo>
                <a:lnTo>
                  <a:pt x="650792" y="222647"/>
                </a:lnTo>
                <a:lnTo>
                  <a:pt x="653969" y="229394"/>
                </a:lnTo>
                <a:lnTo>
                  <a:pt x="656351" y="237332"/>
                </a:lnTo>
                <a:lnTo>
                  <a:pt x="658733" y="245269"/>
                </a:lnTo>
                <a:lnTo>
                  <a:pt x="838208" y="927100"/>
                </a:lnTo>
                <a:lnTo>
                  <a:pt x="840193" y="928291"/>
                </a:lnTo>
                <a:lnTo>
                  <a:pt x="841781" y="933450"/>
                </a:lnTo>
                <a:lnTo>
                  <a:pt x="899356" y="921941"/>
                </a:lnTo>
                <a:lnTo>
                  <a:pt x="911665" y="922338"/>
                </a:lnTo>
                <a:lnTo>
                  <a:pt x="923180" y="923529"/>
                </a:lnTo>
                <a:lnTo>
                  <a:pt x="935489" y="924719"/>
                </a:lnTo>
                <a:lnTo>
                  <a:pt x="946607" y="926704"/>
                </a:lnTo>
                <a:lnTo>
                  <a:pt x="957725" y="929482"/>
                </a:lnTo>
                <a:lnTo>
                  <a:pt x="969240" y="932657"/>
                </a:lnTo>
                <a:lnTo>
                  <a:pt x="979960" y="936229"/>
                </a:lnTo>
                <a:lnTo>
                  <a:pt x="991078" y="939800"/>
                </a:lnTo>
                <a:lnTo>
                  <a:pt x="1001402" y="944166"/>
                </a:lnTo>
                <a:lnTo>
                  <a:pt x="1011726" y="948929"/>
                </a:lnTo>
                <a:lnTo>
                  <a:pt x="1022049" y="954485"/>
                </a:lnTo>
                <a:lnTo>
                  <a:pt x="1031976" y="960438"/>
                </a:lnTo>
                <a:lnTo>
                  <a:pt x="1041506" y="966788"/>
                </a:lnTo>
                <a:lnTo>
                  <a:pt x="1051432" y="973535"/>
                </a:lnTo>
                <a:lnTo>
                  <a:pt x="1060565" y="980679"/>
                </a:lnTo>
                <a:lnTo>
                  <a:pt x="1069697" y="988616"/>
                </a:lnTo>
                <a:lnTo>
                  <a:pt x="1076050" y="994172"/>
                </a:lnTo>
                <a:lnTo>
                  <a:pt x="1081212" y="999729"/>
                </a:lnTo>
                <a:lnTo>
                  <a:pt x="1086374" y="1005682"/>
                </a:lnTo>
                <a:lnTo>
                  <a:pt x="1090345" y="1012032"/>
                </a:lnTo>
                <a:lnTo>
                  <a:pt x="1126478" y="1071960"/>
                </a:lnTo>
                <a:lnTo>
                  <a:pt x="1183258" y="1074341"/>
                </a:lnTo>
                <a:lnTo>
                  <a:pt x="1184847" y="1075532"/>
                </a:lnTo>
                <a:lnTo>
                  <a:pt x="1199538" y="1077913"/>
                </a:lnTo>
                <a:lnTo>
                  <a:pt x="1214230" y="1081088"/>
                </a:lnTo>
                <a:lnTo>
                  <a:pt x="1228524" y="1085057"/>
                </a:lnTo>
                <a:lnTo>
                  <a:pt x="1242818" y="1089422"/>
                </a:lnTo>
                <a:lnTo>
                  <a:pt x="1256716" y="1094582"/>
                </a:lnTo>
                <a:lnTo>
                  <a:pt x="1271010" y="1100932"/>
                </a:lnTo>
                <a:lnTo>
                  <a:pt x="1284510" y="1106885"/>
                </a:lnTo>
                <a:lnTo>
                  <a:pt x="1298011" y="1114029"/>
                </a:lnTo>
                <a:lnTo>
                  <a:pt x="1310717" y="1121172"/>
                </a:lnTo>
                <a:lnTo>
                  <a:pt x="1323820" y="1129507"/>
                </a:lnTo>
                <a:lnTo>
                  <a:pt x="1336129" y="1137444"/>
                </a:lnTo>
                <a:lnTo>
                  <a:pt x="1348041" y="1146175"/>
                </a:lnTo>
                <a:lnTo>
                  <a:pt x="1359953" y="1155700"/>
                </a:lnTo>
                <a:lnTo>
                  <a:pt x="1371071" y="1165225"/>
                </a:lnTo>
                <a:lnTo>
                  <a:pt x="1381792" y="1175147"/>
                </a:lnTo>
                <a:lnTo>
                  <a:pt x="1392115" y="1185863"/>
                </a:lnTo>
                <a:lnTo>
                  <a:pt x="1408792" y="1204119"/>
                </a:lnTo>
                <a:lnTo>
                  <a:pt x="1424278" y="1223566"/>
                </a:lnTo>
                <a:lnTo>
                  <a:pt x="1439763" y="1243410"/>
                </a:lnTo>
                <a:lnTo>
                  <a:pt x="1454058" y="1263254"/>
                </a:lnTo>
                <a:lnTo>
                  <a:pt x="1467955" y="1283891"/>
                </a:lnTo>
                <a:lnTo>
                  <a:pt x="1480264" y="1305322"/>
                </a:lnTo>
                <a:lnTo>
                  <a:pt x="1492970" y="1327150"/>
                </a:lnTo>
                <a:lnTo>
                  <a:pt x="1504088" y="1348582"/>
                </a:lnTo>
                <a:lnTo>
                  <a:pt x="1505279" y="1351360"/>
                </a:lnTo>
                <a:lnTo>
                  <a:pt x="1506471" y="1352154"/>
                </a:lnTo>
                <a:lnTo>
                  <a:pt x="1508059" y="1352550"/>
                </a:lnTo>
                <a:lnTo>
                  <a:pt x="1518780" y="1353344"/>
                </a:lnTo>
                <a:lnTo>
                  <a:pt x="1528309" y="1355329"/>
                </a:lnTo>
                <a:lnTo>
                  <a:pt x="1537839" y="1357710"/>
                </a:lnTo>
                <a:lnTo>
                  <a:pt x="1546971" y="1360885"/>
                </a:lnTo>
                <a:lnTo>
                  <a:pt x="1555707" y="1364457"/>
                </a:lnTo>
                <a:lnTo>
                  <a:pt x="1563648" y="1368822"/>
                </a:lnTo>
                <a:lnTo>
                  <a:pt x="1571590" y="1373982"/>
                </a:lnTo>
                <a:lnTo>
                  <a:pt x="1578737" y="1379935"/>
                </a:lnTo>
                <a:lnTo>
                  <a:pt x="1585487" y="1385888"/>
                </a:lnTo>
                <a:lnTo>
                  <a:pt x="1591840" y="1392238"/>
                </a:lnTo>
                <a:lnTo>
                  <a:pt x="1597796" y="1398985"/>
                </a:lnTo>
                <a:lnTo>
                  <a:pt x="1603752" y="1406525"/>
                </a:lnTo>
                <a:lnTo>
                  <a:pt x="1608914" y="1413669"/>
                </a:lnTo>
                <a:lnTo>
                  <a:pt x="1613678" y="1421607"/>
                </a:lnTo>
                <a:lnTo>
                  <a:pt x="1618046" y="1429544"/>
                </a:lnTo>
                <a:lnTo>
                  <a:pt x="1622017" y="1437879"/>
                </a:lnTo>
                <a:lnTo>
                  <a:pt x="1625988" y="1446213"/>
                </a:lnTo>
                <a:lnTo>
                  <a:pt x="1629561" y="1454547"/>
                </a:lnTo>
                <a:lnTo>
                  <a:pt x="1632738" y="1463279"/>
                </a:lnTo>
                <a:lnTo>
                  <a:pt x="1635517" y="1471613"/>
                </a:lnTo>
                <a:lnTo>
                  <a:pt x="1637900" y="1479947"/>
                </a:lnTo>
                <a:lnTo>
                  <a:pt x="1639885" y="1488282"/>
                </a:lnTo>
                <a:lnTo>
                  <a:pt x="1641473" y="1497013"/>
                </a:lnTo>
                <a:lnTo>
                  <a:pt x="1643062" y="1504950"/>
                </a:lnTo>
                <a:lnTo>
                  <a:pt x="1644253" y="1512491"/>
                </a:lnTo>
                <a:lnTo>
                  <a:pt x="1645047" y="1520429"/>
                </a:lnTo>
                <a:lnTo>
                  <a:pt x="1645841" y="1527969"/>
                </a:lnTo>
                <a:lnTo>
                  <a:pt x="1646238" y="1534716"/>
                </a:lnTo>
                <a:lnTo>
                  <a:pt x="1646238" y="1541463"/>
                </a:lnTo>
                <a:lnTo>
                  <a:pt x="1646238" y="1548210"/>
                </a:lnTo>
                <a:lnTo>
                  <a:pt x="1645841" y="1553766"/>
                </a:lnTo>
                <a:lnTo>
                  <a:pt x="1645444" y="1558925"/>
                </a:lnTo>
                <a:lnTo>
                  <a:pt x="1643458" y="1570832"/>
                </a:lnTo>
                <a:lnTo>
                  <a:pt x="1642267" y="1583532"/>
                </a:lnTo>
                <a:lnTo>
                  <a:pt x="1641473" y="1595835"/>
                </a:lnTo>
                <a:lnTo>
                  <a:pt x="1640679" y="1608535"/>
                </a:lnTo>
                <a:lnTo>
                  <a:pt x="1634723" y="1749029"/>
                </a:lnTo>
                <a:lnTo>
                  <a:pt x="1628370" y="1889126"/>
                </a:lnTo>
                <a:lnTo>
                  <a:pt x="1627973" y="1902222"/>
                </a:lnTo>
                <a:lnTo>
                  <a:pt x="1626385" y="1915716"/>
                </a:lnTo>
                <a:lnTo>
                  <a:pt x="1625194" y="1928416"/>
                </a:lnTo>
                <a:lnTo>
                  <a:pt x="1623208" y="1941910"/>
                </a:lnTo>
                <a:lnTo>
                  <a:pt x="1621223" y="1954610"/>
                </a:lnTo>
                <a:lnTo>
                  <a:pt x="1618840" y="1968104"/>
                </a:lnTo>
                <a:lnTo>
                  <a:pt x="1616061" y="1980804"/>
                </a:lnTo>
                <a:lnTo>
                  <a:pt x="1612884" y="1993504"/>
                </a:lnTo>
                <a:lnTo>
                  <a:pt x="1604546" y="2026444"/>
                </a:lnTo>
                <a:lnTo>
                  <a:pt x="1595414" y="2058988"/>
                </a:lnTo>
                <a:lnTo>
                  <a:pt x="1586281" y="2091532"/>
                </a:lnTo>
                <a:lnTo>
                  <a:pt x="1577148" y="2123679"/>
                </a:lnTo>
                <a:lnTo>
                  <a:pt x="1579134" y="2125663"/>
                </a:lnTo>
                <a:lnTo>
                  <a:pt x="1617252" y="2294732"/>
                </a:lnTo>
                <a:lnTo>
                  <a:pt x="1571590" y="2303463"/>
                </a:lnTo>
                <a:lnTo>
                  <a:pt x="1487411" y="2318147"/>
                </a:lnTo>
                <a:lnTo>
                  <a:pt x="1251951" y="2359026"/>
                </a:lnTo>
                <a:lnTo>
                  <a:pt x="1000608" y="2402285"/>
                </a:lnTo>
                <a:lnTo>
                  <a:pt x="897370" y="2420541"/>
                </a:lnTo>
                <a:lnTo>
                  <a:pt x="824310" y="2433638"/>
                </a:lnTo>
                <a:lnTo>
                  <a:pt x="785398" y="2236391"/>
                </a:lnTo>
                <a:lnTo>
                  <a:pt x="781030" y="2228851"/>
                </a:lnTo>
                <a:lnTo>
                  <a:pt x="776662" y="2221707"/>
                </a:lnTo>
                <a:lnTo>
                  <a:pt x="771897" y="2214563"/>
                </a:lnTo>
                <a:lnTo>
                  <a:pt x="767133" y="2207816"/>
                </a:lnTo>
                <a:lnTo>
                  <a:pt x="761574" y="2201069"/>
                </a:lnTo>
                <a:lnTo>
                  <a:pt x="756015" y="2194719"/>
                </a:lnTo>
                <a:lnTo>
                  <a:pt x="750456" y="2188369"/>
                </a:lnTo>
                <a:lnTo>
                  <a:pt x="744897" y="2182416"/>
                </a:lnTo>
                <a:lnTo>
                  <a:pt x="738544" y="2176463"/>
                </a:lnTo>
                <a:lnTo>
                  <a:pt x="732191" y="2170907"/>
                </a:lnTo>
                <a:lnTo>
                  <a:pt x="725441" y="2165351"/>
                </a:lnTo>
                <a:lnTo>
                  <a:pt x="719088" y="2159794"/>
                </a:lnTo>
                <a:lnTo>
                  <a:pt x="711940" y="2155032"/>
                </a:lnTo>
                <a:lnTo>
                  <a:pt x="704396" y="2149873"/>
                </a:lnTo>
                <a:lnTo>
                  <a:pt x="697249" y="2145507"/>
                </a:lnTo>
                <a:lnTo>
                  <a:pt x="689705" y="2141141"/>
                </a:lnTo>
                <a:lnTo>
                  <a:pt x="678984" y="2135585"/>
                </a:lnTo>
                <a:lnTo>
                  <a:pt x="668660" y="2130029"/>
                </a:lnTo>
                <a:lnTo>
                  <a:pt x="648807" y="2118519"/>
                </a:lnTo>
                <a:lnTo>
                  <a:pt x="630145" y="2106216"/>
                </a:lnTo>
                <a:lnTo>
                  <a:pt x="611482" y="2093119"/>
                </a:lnTo>
                <a:lnTo>
                  <a:pt x="593217" y="2080022"/>
                </a:lnTo>
                <a:lnTo>
                  <a:pt x="576144" y="2065735"/>
                </a:lnTo>
                <a:lnTo>
                  <a:pt x="559070" y="2051447"/>
                </a:lnTo>
                <a:lnTo>
                  <a:pt x="543187" y="2035969"/>
                </a:lnTo>
                <a:lnTo>
                  <a:pt x="526907" y="2020491"/>
                </a:lnTo>
                <a:lnTo>
                  <a:pt x="511422" y="2004616"/>
                </a:lnTo>
                <a:lnTo>
                  <a:pt x="496333" y="1988344"/>
                </a:lnTo>
                <a:lnTo>
                  <a:pt x="481245" y="1971676"/>
                </a:lnTo>
                <a:lnTo>
                  <a:pt x="466951" y="1954610"/>
                </a:lnTo>
                <a:lnTo>
                  <a:pt x="452259" y="1937147"/>
                </a:lnTo>
                <a:lnTo>
                  <a:pt x="424067" y="1902222"/>
                </a:lnTo>
                <a:lnTo>
                  <a:pt x="418111" y="1894285"/>
                </a:lnTo>
                <a:lnTo>
                  <a:pt x="412552" y="1886744"/>
                </a:lnTo>
                <a:lnTo>
                  <a:pt x="401435" y="1870472"/>
                </a:lnTo>
                <a:lnTo>
                  <a:pt x="391508" y="1853804"/>
                </a:lnTo>
                <a:lnTo>
                  <a:pt x="381978" y="1837532"/>
                </a:lnTo>
                <a:lnTo>
                  <a:pt x="372846" y="1820069"/>
                </a:lnTo>
                <a:lnTo>
                  <a:pt x="364110" y="1803401"/>
                </a:lnTo>
                <a:lnTo>
                  <a:pt x="356169" y="1785541"/>
                </a:lnTo>
                <a:lnTo>
                  <a:pt x="348228" y="1768079"/>
                </a:lnTo>
                <a:lnTo>
                  <a:pt x="332345" y="1733551"/>
                </a:lnTo>
                <a:lnTo>
                  <a:pt x="324404" y="1716485"/>
                </a:lnTo>
                <a:lnTo>
                  <a:pt x="316065" y="1699022"/>
                </a:lnTo>
                <a:lnTo>
                  <a:pt x="307727" y="1682354"/>
                </a:lnTo>
                <a:lnTo>
                  <a:pt x="298991" y="1666082"/>
                </a:lnTo>
                <a:lnTo>
                  <a:pt x="289462" y="1649413"/>
                </a:lnTo>
                <a:lnTo>
                  <a:pt x="279535" y="1633935"/>
                </a:lnTo>
                <a:lnTo>
                  <a:pt x="275962" y="1624410"/>
                </a:lnTo>
                <a:lnTo>
                  <a:pt x="271594" y="1614885"/>
                </a:lnTo>
                <a:lnTo>
                  <a:pt x="266829" y="1605360"/>
                </a:lnTo>
                <a:lnTo>
                  <a:pt x="261667" y="1595835"/>
                </a:lnTo>
                <a:lnTo>
                  <a:pt x="256505" y="1586310"/>
                </a:lnTo>
                <a:lnTo>
                  <a:pt x="250946" y="1577182"/>
                </a:lnTo>
                <a:lnTo>
                  <a:pt x="239431" y="1558132"/>
                </a:lnTo>
                <a:lnTo>
                  <a:pt x="227122" y="1539479"/>
                </a:lnTo>
                <a:lnTo>
                  <a:pt x="214813" y="1521619"/>
                </a:lnTo>
                <a:lnTo>
                  <a:pt x="190592" y="1486694"/>
                </a:lnTo>
                <a:lnTo>
                  <a:pt x="185827" y="1479154"/>
                </a:lnTo>
                <a:lnTo>
                  <a:pt x="181063" y="1470422"/>
                </a:lnTo>
                <a:lnTo>
                  <a:pt x="170342" y="1450579"/>
                </a:lnTo>
                <a:lnTo>
                  <a:pt x="164783" y="1441054"/>
                </a:lnTo>
                <a:lnTo>
                  <a:pt x="159224" y="1431132"/>
                </a:lnTo>
                <a:lnTo>
                  <a:pt x="156444" y="1427163"/>
                </a:lnTo>
                <a:lnTo>
                  <a:pt x="153268" y="1423194"/>
                </a:lnTo>
                <a:lnTo>
                  <a:pt x="149694" y="1419622"/>
                </a:lnTo>
                <a:lnTo>
                  <a:pt x="146518" y="1416447"/>
                </a:lnTo>
                <a:lnTo>
                  <a:pt x="143738" y="1413272"/>
                </a:lnTo>
                <a:lnTo>
                  <a:pt x="140959" y="1409304"/>
                </a:lnTo>
                <a:lnTo>
                  <a:pt x="138576" y="1404541"/>
                </a:lnTo>
                <a:lnTo>
                  <a:pt x="136591" y="1398985"/>
                </a:lnTo>
                <a:lnTo>
                  <a:pt x="134209" y="1393429"/>
                </a:lnTo>
                <a:lnTo>
                  <a:pt x="132620" y="1387475"/>
                </a:lnTo>
                <a:lnTo>
                  <a:pt x="129047" y="1373982"/>
                </a:lnTo>
                <a:lnTo>
                  <a:pt x="125870" y="1360488"/>
                </a:lnTo>
                <a:lnTo>
                  <a:pt x="122694" y="1346994"/>
                </a:lnTo>
                <a:lnTo>
                  <a:pt x="120311" y="1335485"/>
                </a:lnTo>
                <a:lnTo>
                  <a:pt x="117532" y="1325563"/>
                </a:lnTo>
                <a:lnTo>
                  <a:pt x="109194" y="1300560"/>
                </a:lnTo>
                <a:lnTo>
                  <a:pt x="100458" y="1276350"/>
                </a:lnTo>
                <a:lnTo>
                  <a:pt x="95296" y="1264047"/>
                </a:lnTo>
                <a:lnTo>
                  <a:pt x="90531" y="1252538"/>
                </a:lnTo>
                <a:lnTo>
                  <a:pt x="85767" y="1241425"/>
                </a:lnTo>
                <a:lnTo>
                  <a:pt x="80208" y="1229916"/>
                </a:lnTo>
                <a:lnTo>
                  <a:pt x="77031" y="1223566"/>
                </a:lnTo>
                <a:lnTo>
                  <a:pt x="73458" y="1217216"/>
                </a:lnTo>
                <a:lnTo>
                  <a:pt x="65119" y="1203722"/>
                </a:lnTo>
                <a:lnTo>
                  <a:pt x="55987" y="1190625"/>
                </a:lnTo>
                <a:lnTo>
                  <a:pt x="46457" y="1177132"/>
                </a:lnTo>
                <a:lnTo>
                  <a:pt x="26207" y="1150938"/>
                </a:lnTo>
                <a:lnTo>
                  <a:pt x="6353" y="1125538"/>
                </a:lnTo>
                <a:lnTo>
                  <a:pt x="3574" y="1121172"/>
                </a:lnTo>
                <a:lnTo>
                  <a:pt x="1589" y="1116410"/>
                </a:lnTo>
                <a:lnTo>
                  <a:pt x="397" y="1111250"/>
                </a:lnTo>
                <a:lnTo>
                  <a:pt x="0" y="1106091"/>
                </a:lnTo>
                <a:lnTo>
                  <a:pt x="0" y="1100535"/>
                </a:lnTo>
                <a:lnTo>
                  <a:pt x="794" y="1094582"/>
                </a:lnTo>
                <a:lnTo>
                  <a:pt x="1986" y="1088629"/>
                </a:lnTo>
                <a:lnTo>
                  <a:pt x="3574" y="1083072"/>
                </a:lnTo>
                <a:lnTo>
                  <a:pt x="5559" y="1077516"/>
                </a:lnTo>
                <a:lnTo>
                  <a:pt x="8339" y="1071960"/>
                </a:lnTo>
                <a:lnTo>
                  <a:pt x="11118" y="1066404"/>
                </a:lnTo>
                <a:lnTo>
                  <a:pt x="14295" y="1061641"/>
                </a:lnTo>
                <a:lnTo>
                  <a:pt x="17868" y="1056879"/>
                </a:lnTo>
                <a:lnTo>
                  <a:pt x="21045" y="1052910"/>
                </a:lnTo>
                <a:lnTo>
                  <a:pt x="24618" y="1048941"/>
                </a:lnTo>
                <a:lnTo>
                  <a:pt x="28192" y="1045766"/>
                </a:lnTo>
                <a:lnTo>
                  <a:pt x="33751" y="1041400"/>
                </a:lnTo>
                <a:lnTo>
                  <a:pt x="39310" y="1037432"/>
                </a:lnTo>
                <a:lnTo>
                  <a:pt x="45663" y="1034257"/>
                </a:lnTo>
                <a:lnTo>
                  <a:pt x="52016" y="1031479"/>
                </a:lnTo>
                <a:lnTo>
                  <a:pt x="58369" y="1029097"/>
                </a:lnTo>
                <a:lnTo>
                  <a:pt x="64722" y="1027113"/>
                </a:lnTo>
                <a:lnTo>
                  <a:pt x="71869" y="1025922"/>
                </a:lnTo>
                <a:lnTo>
                  <a:pt x="78619" y="1024732"/>
                </a:lnTo>
                <a:lnTo>
                  <a:pt x="85767" y="1023938"/>
                </a:lnTo>
                <a:lnTo>
                  <a:pt x="92517" y="1023541"/>
                </a:lnTo>
                <a:lnTo>
                  <a:pt x="100061" y="1023938"/>
                </a:lnTo>
                <a:lnTo>
                  <a:pt x="107208" y="1024335"/>
                </a:lnTo>
                <a:lnTo>
                  <a:pt x="114355" y="1024732"/>
                </a:lnTo>
                <a:lnTo>
                  <a:pt x="121503" y="1025922"/>
                </a:lnTo>
                <a:lnTo>
                  <a:pt x="129047" y="1027510"/>
                </a:lnTo>
                <a:lnTo>
                  <a:pt x="136194" y="1029097"/>
                </a:lnTo>
                <a:lnTo>
                  <a:pt x="143341" y="1031082"/>
                </a:lnTo>
                <a:lnTo>
                  <a:pt x="150488" y="1033066"/>
                </a:lnTo>
                <a:lnTo>
                  <a:pt x="157636" y="1035844"/>
                </a:lnTo>
                <a:lnTo>
                  <a:pt x="164783" y="1038622"/>
                </a:lnTo>
                <a:lnTo>
                  <a:pt x="171533" y="1041400"/>
                </a:lnTo>
                <a:lnTo>
                  <a:pt x="177886" y="1044972"/>
                </a:lnTo>
                <a:lnTo>
                  <a:pt x="185033" y="1048544"/>
                </a:lnTo>
                <a:lnTo>
                  <a:pt x="191386" y="1052116"/>
                </a:lnTo>
                <a:lnTo>
                  <a:pt x="197739" y="1055688"/>
                </a:lnTo>
                <a:lnTo>
                  <a:pt x="203695" y="1059657"/>
                </a:lnTo>
                <a:lnTo>
                  <a:pt x="209651" y="1064022"/>
                </a:lnTo>
                <a:lnTo>
                  <a:pt x="215210" y="1067991"/>
                </a:lnTo>
                <a:lnTo>
                  <a:pt x="220769" y="1072754"/>
                </a:lnTo>
                <a:lnTo>
                  <a:pt x="225534" y="1077516"/>
                </a:lnTo>
                <a:lnTo>
                  <a:pt x="230299" y="1081882"/>
                </a:lnTo>
                <a:lnTo>
                  <a:pt x="235064" y="1086644"/>
                </a:lnTo>
                <a:lnTo>
                  <a:pt x="239828" y="1092200"/>
                </a:lnTo>
                <a:lnTo>
                  <a:pt x="244593" y="1097757"/>
                </a:lnTo>
                <a:lnTo>
                  <a:pt x="252932" y="1109663"/>
                </a:lnTo>
                <a:lnTo>
                  <a:pt x="260873" y="1121966"/>
                </a:lnTo>
                <a:lnTo>
                  <a:pt x="268814" y="1135063"/>
                </a:lnTo>
                <a:lnTo>
                  <a:pt x="283903" y="1160463"/>
                </a:lnTo>
                <a:lnTo>
                  <a:pt x="291447" y="1173163"/>
                </a:lnTo>
                <a:lnTo>
                  <a:pt x="299388" y="1185069"/>
                </a:lnTo>
                <a:lnTo>
                  <a:pt x="306139" y="1195785"/>
                </a:lnTo>
                <a:lnTo>
                  <a:pt x="312889" y="1206897"/>
                </a:lnTo>
                <a:lnTo>
                  <a:pt x="327580" y="1230710"/>
                </a:lnTo>
                <a:lnTo>
                  <a:pt x="342272" y="1255713"/>
                </a:lnTo>
                <a:lnTo>
                  <a:pt x="357757" y="1281113"/>
                </a:lnTo>
                <a:lnTo>
                  <a:pt x="365699" y="1293416"/>
                </a:lnTo>
                <a:lnTo>
                  <a:pt x="373640" y="1305719"/>
                </a:lnTo>
                <a:lnTo>
                  <a:pt x="382375" y="1317229"/>
                </a:lnTo>
                <a:lnTo>
                  <a:pt x="390714" y="1328738"/>
                </a:lnTo>
                <a:lnTo>
                  <a:pt x="399846" y="1339454"/>
                </a:lnTo>
                <a:lnTo>
                  <a:pt x="409376" y="1348979"/>
                </a:lnTo>
                <a:lnTo>
                  <a:pt x="418905" y="1358504"/>
                </a:lnTo>
                <a:lnTo>
                  <a:pt x="423670" y="1362472"/>
                </a:lnTo>
                <a:lnTo>
                  <a:pt x="428832" y="1366441"/>
                </a:lnTo>
                <a:lnTo>
                  <a:pt x="437171" y="1372791"/>
                </a:lnTo>
                <a:lnTo>
                  <a:pt x="445112" y="1378744"/>
                </a:lnTo>
                <a:lnTo>
                  <a:pt x="453450" y="1383904"/>
                </a:lnTo>
                <a:lnTo>
                  <a:pt x="462186" y="1388666"/>
                </a:lnTo>
                <a:lnTo>
                  <a:pt x="470921" y="1392635"/>
                </a:lnTo>
                <a:lnTo>
                  <a:pt x="479260" y="1396207"/>
                </a:lnTo>
                <a:lnTo>
                  <a:pt x="488789" y="1399382"/>
                </a:lnTo>
                <a:lnTo>
                  <a:pt x="497525" y="1402160"/>
                </a:lnTo>
                <a:lnTo>
                  <a:pt x="506657" y="1404144"/>
                </a:lnTo>
                <a:lnTo>
                  <a:pt x="516187" y="1405732"/>
                </a:lnTo>
                <a:lnTo>
                  <a:pt x="525716" y="1407319"/>
                </a:lnTo>
                <a:lnTo>
                  <a:pt x="535246" y="1408113"/>
                </a:lnTo>
                <a:lnTo>
                  <a:pt x="545172" y="1408113"/>
                </a:lnTo>
                <a:lnTo>
                  <a:pt x="555099" y="1407716"/>
                </a:lnTo>
                <a:lnTo>
                  <a:pt x="565423" y="1406922"/>
                </a:lnTo>
                <a:lnTo>
                  <a:pt x="575746" y="1404938"/>
                </a:lnTo>
                <a:lnTo>
                  <a:pt x="578923" y="1404541"/>
                </a:lnTo>
                <a:lnTo>
                  <a:pt x="582497" y="1402954"/>
                </a:lnTo>
                <a:lnTo>
                  <a:pt x="586467" y="1401366"/>
                </a:lnTo>
                <a:lnTo>
                  <a:pt x="590041" y="1398985"/>
                </a:lnTo>
                <a:lnTo>
                  <a:pt x="594012" y="1395810"/>
                </a:lnTo>
                <a:lnTo>
                  <a:pt x="597585" y="1392635"/>
                </a:lnTo>
                <a:lnTo>
                  <a:pt x="601556" y="1389460"/>
                </a:lnTo>
                <a:lnTo>
                  <a:pt x="604335" y="1385491"/>
                </a:lnTo>
                <a:lnTo>
                  <a:pt x="609894" y="1379141"/>
                </a:lnTo>
                <a:lnTo>
                  <a:pt x="614659" y="1372394"/>
                </a:lnTo>
                <a:lnTo>
                  <a:pt x="619424" y="1365647"/>
                </a:lnTo>
                <a:lnTo>
                  <a:pt x="623394" y="1358900"/>
                </a:lnTo>
                <a:lnTo>
                  <a:pt x="627762" y="1352154"/>
                </a:lnTo>
                <a:lnTo>
                  <a:pt x="631336" y="1344613"/>
                </a:lnTo>
                <a:lnTo>
                  <a:pt x="634512" y="1337469"/>
                </a:lnTo>
                <a:lnTo>
                  <a:pt x="637292" y="1330325"/>
                </a:lnTo>
                <a:lnTo>
                  <a:pt x="640071" y="1323182"/>
                </a:lnTo>
                <a:lnTo>
                  <a:pt x="642057" y="1315244"/>
                </a:lnTo>
                <a:lnTo>
                  <a:pt x="644042" y="1307704"/>
                </a:lnTo>
                <a:lnTo>
                  <a:pt x="645233" y="1299766"/>
                </a:lnTo>
                <a:lnTo>
                  <a:pt x="646424" y="1291829"/>
                </a:lnTo>
                <a:lnTo>
                  <a:pt x="647218" y="1283891"/>
                </a:lnTo>
                <a:lnTo>
                  <a:pt x="647616" y="1275557"/>
                </a:lnTo>
                <a:lnTo>
                  <a:pt x="648013" y="1267619"/>
                </a:lnTo>
                <a:lnTo>
                  <a:pt x="647616" y="1259682"/>
                </a:lnTo>
                <a:lnTo>
                  <a:pt x="647218" y="1252538"/>
                </a:lnTo>
                <a:lnTo>
                  <a:pt x="646424" y="1245394"/>
                </a:lnTo>
                <a:lnTo>
                  <a:pt x="645233" y="1237457"/>
                </a:lnTo>
                <a:lnTo>
                  <a:pt x="466951" y="280988"/>
                </a:lnTo>
                <a:lnTo>
                  <a:pt x="465362" y="271463"/>
                </a:lnTo>
                <a:lnTo>
                  <a:pt x="464568" y="263128"/>
                </a:lnTo>
                <a:lnTo>
                  <a:pt x="464568" y="254397"/>
                </a:lnTo>
                <a:lnTo>
                  <a:pt x="464965" y="246857"/>
                </a:lnTo>
                <a:lnTo>
                  <a:pt x="465759" y="239316"/>
                </a:lnTo>
                <a:lnTo>
                  <a:pt x="467348" y="232569"/>
                </a:lnTo>
                <a:lnTo>
                  <a:pt x="468936" y="225822"/>
                </a:lnTo>
                <a:lnTo>
                  <a:pt x="471318" y="219869"/>
                </a:lnTo>
                <a:lnTo>
                  <a:pt x="473701" y="214313"/>
                </a:lnTo>
                <a:lnTo>
                  <a:pt x="476480" y="209153"/>
                </a:lnTo>
                <a:lnTo>
                  <a:pt x="479657" y="204391"/>
                </a:lnTo>
                <a:lnTo>
                  <a:pt x="482833" y="199628"/>
                </a:lnTo>
                <a:lnTo>
                  <a:pt x="486407" y="195263"/>
                </a:lnTo>
                <a:lnTo>
                  <a:pt x="490775" y="191691"/>
                </a:lnTo>
                <a:lnTo>
                  <a:pt x="494348" y="188119"/>
                </a:lnTo>
                <a:lnTo>
                  <a:pt x="498319" y="184944"/>
                </a:lnTo>
                <a:lnTo>
                  <a:pt x="502289" y="182166"/>
                </a:lnTo>
                <a:lnTo>
                  <a:pt x="506657" y="179785"/>
                </a:lnTo>
                <a:lnTo>
                  <a:pt x="514201" y="175419"/>
                </a:lnTo>
                <a:lnTo>
                  <a:pt x="522143" y="171450"/>
                </a:lnTo>
                <a:lnTo>
                  <a:pt x="528893" y="169069"/>
                </a:lnTo>
                <a:lnTo>
                  <a:pt x="534849" y="167482"/>
                </a:lnTo>
                <a:lnTo>
                  <a:pt x="539614" y="166291"/>
                </a:lnTo>
                <a:lnTo>
                  <a:pt x="543981" y="165497"/>
                </a:lnTo>
                <a:lnTo>
                  <a:pt x="552320" y="163910"/>
                </a:lnTo>
                <a:lnTo>
                  <a:pt x="561055" y="162719"/>
                </a:lnTo>
                <a:lnTo>
                  <a:pt x="569393" y="162322"/>
                </a:lnTo>
                <a:lnTo>
                  <a:pt x="577732" y="161925"/>
                </a:lnTo>
                <a:close/>
                <a:moveTo>
                  <a:pt x="576263" y="0"/>
                </a:moveTo>
                <a:lnTo>
                  <a:pt x="594539" y="397"/>
                </a:lnTo>
                <a:lnTo>
                  <a:pt x="612419" y="1589"/>
                </a:lnTo>
                <a:lnTo>
                  <a:pt x="630298" y="3973"/>
                </a:lnTo>
                <a:lnTo>
                  <a:pt x="647780" y="7151"/>
                </a:lnTo>
                <a:lnTo>
                  <a:pt x="664864" y="10727"/>
                </a:lnTo>
                <a:lnTo>
                  <a:pt x="681551" y="15098"/>
                </a:lnTo>
                <a:lnTo>
                  <a:pt x="697841" y="20263"/>
                </a:lnTo>
                <a:lnTo>
                  <a:pt x="714131" y="26620"/>
                </a:lnTo>
                <a:lnTo>
                  <a:pt x="729626" y="33374"/>
                </a:lnTo>
                <a:lnTo>
                  <a:pt x="745122" y="41321"/>
                </a:lnTo>
                <a:lnTo>
                  <a:pt x="759822" y="50062"/>
                </a:lnTo>
                <a:lnTo>
                  <a:pt x="774920" y="59200"/>
                </a:lnTo>
                <a:lnTo>
                  <a:pt x="788826" y="69530"/>
                </a:lnTo>
                <a:lnTo>
                  <a:pt x="803130" y="80655"/>
                </a:lnTo>
                <a:lnTo>
                  <a:pt x="816638" y="92575"/>
                </a:lnTo>
                <a:lnTo>
                  <a:pt x="830147" y="105289"/>
                </a:lnTo>
                <a:lnTo>
                  <a:pt x="842464" y="118798"/>
                </a:lnTo>
                <a:lnTo>
                  <a:pt x="854780" y="132307"/>
                </a:lnTo>
                <a:lnTo>
                  <a:pt x="865508" y="146610"/>
                </a:lnTo>
                <a:lnTo>
                  <a:pt x="876235" y="160516"/>
                </a:lnTo>
                <a:lnTo>
                  <a:pt x="885374" y="175615"/>
                </a:lnTo>
                <a:lnTo>
                  <a:pt x="894115" y="190315"/>
                </a:lnTo>
                <a:lnTo>
                  <a:pt x="901664" y="205811"/>
                </a:lnTo>
                <a:lnTo>
                  <a:pt x="908815" y="221306"/>
                </a:lnTo>
                <a:lnTo>
                  <a:pt x="915172" y="237596"/>
                </a:lnTo>
                <a:lnTo>
                  <a:pt x="920337" y="253886"/>
                </a:lnTo>
                <a:lnTo>
                  <a:pt x="924708" y="270574"/>
                </a:lnTo>
                <a:lnTo>
                  <a:pt x="928284" y="287658"/>
                </a:lnTo>
                <a:lnTo>
                  <a:pt x="931462" y="304743"/>
                </a:lnTo>
                <a:lnTo>
                  <a:pt x="933449" y="322622"/>
                </a:lnTo>
                <a:lnTo>
                  <a:pt x="934641" y="340502"/>
                </a:lnTo>
                <a:lnTo>
                  <a:pt x="935038" y="359175"/>
                </a:lnTo>
                <a:lnTo>
                  <a:pt x="934641" y="377452"/>
                </a:lnTo>
                <a:lnTo>
                  <a:pt x="933449" y="395331"/>
                </a:lnTo>
                <a:lnTo>
                  <a:pt x="931462" y="413211"/>
                </a:lnTo>
                <a:lnTo>
                  <a:pt x="928284" y="430693"/>
                </a:lnTo>
                <a:lnTo>
                  <a:pt x="924708" y="447777"/>
                </a:lnTo>
                <a:lnTo>
                  <a:pt x="920337" y="464465"/>
                </a:lnTo>
                <a:lnTo>
                  <a:pt x="915172" y="480755"/>
                </a:lnTo>
                <a:lnTo>
                  <a:pt x="908815" y="496647"/>
                </a:lnTo>
                <a:lnTo>
                  <a:pt x="901664" y="512540"/>
                </a:lnTo>
                <a:lnTo>
                  <a:pt x="894115" y="527638"/>
                </a:lnTo>
                <a:lnTo>
                  <a:pt x="885374" y="543134"/>
                </a:lnTo>
                <a:lnTo>
                  <a:pt x="876235" y="557437"/>
                </a:lnTo>
                <a:lnTo>
                  <a:pt x="865508" y="572138"/>
                </a:lnTo>
                <a:lnTo>
                  <a:pt x="854780" y="585647"/>
                </a:lnTo>
                <a:lnTo>
                  <a:pt x="842464" y="599553"/>
                </a:lnTo>
                <a:lnTo>
                  <a:pt x="830147" y="612664"/>
                </a:lnTo>
                <a:lnTo>
                  <a:pt x="830147" y="613061"/>
                </a:lnTo>
                <a:lnTo>
                  <a:pt x="822201" y="620611"/>
                </a:lnTo>
                <a:lnTo>
                  <a:pt x="813857" y="628160"/>
                </a:lnTo>
                <a:lnTo>
                  <a:pt x="805911" y="634914"/>
                </a:lnTo>
                <a:lnTo>
                  <a:pt x="797964" y="641668"/>
                </a:lnTo>
                <a:lnTo>
                  <a:pt x="791607" y="619419"/>
                </a:lnTo>
                <a:lnTo>
                  <a:pt x="785250" y="597963"/>
                </a:lnTo>
                <a:lnTo>
                  <a:pt x="778496" y="576111"/>
                </a:lnTo>
                <a:lnTo>
                  <a:pt x="771344" y="553861"/>
                </a:lnTo>
                <a:lnTo>
                  <a:pt x="780880" y="543928"/>
                </a:lnTo>
                <a:lnTo>
                  <a:pt x="790018" y="533201"/>
                </a:lnTo>
                <a:lnTo>
                  <a:pt x="798759" y="522473"/>
                </a:lnTo>
                <a:lnTo>
                  <a:pt x="806705" y="511745"/>
                </a:lnTo>
                <a:lnTo>
                  <a:pt x="813857" y="500223"/>
                </a:lnTo>
                <a:lnTo>
                  <a:pt x="820611" y="488701"/>
                </a:lnTo>
                <a:lnTo>
                  <a:pt x="826571" y="476782"/>
                </a:lnTo>
                <a:lnTo>
                  <a:pt x="831736" y="464862"/>
                </a:lnTo>
                <a:lnTo>
                  <a:pt x="836504" y="452545"/>
                </a:lnTo>
                <a:lnTo>
                  <a:pt x="840477" y="439831"/>
                </a:lnTo>
                <a:lnTo>
                  <a:pt x="844053" y="427117"/>
                </a:lnTo>
                <a:lnTo>
                  <a:pt x="846834" y="414005"/>
                </a:lnTo>
                <a:lnTo>
                  <a:pt x="849218" y="400894"/>
                </a:lnTo>
                <a:lnTo>
                  <a:pt x="850807" y="386988"/>
                </a:lnTo>
                <a:lnTo>
                  <a:pt x="851602" y="373479"/>
                </a:lnTo>
                <a:lnTo>
                  <a:pt x="851999" y="359175"/>
                </a:lnTo>
                <a:lnTo>
                  <a:pt x="851602" y="344872"/>
                </a:lnTo>
                <a:lnTo>
                  <a:pt x="850807" y="330966"/>
                </a:lnTo>
                <a:lnTo>
                  <a:pt x="849218" y="317457"/>
                </a:lnTo>
                <a:lnTo>
                  <a:pt x="846834" y="303948"/>
                </a:lnTo>
                <a:lnTo>
                  <a:pt x="844053" y="291234"/>
                </a:lnTo>
                <a:lnTo>
                  <a:pt x="840477" y="278123"/>
                </a:lnTo>
                <a:lnTo>
                  <a:pt x="836504" y="265806"/>
                </a:lnTo>
                <a:lnTo>
                  <a:pt x="831736" y="253092"/>
                </a:lnTo>
                <a:lnTo>
                  <a:pt x="826571" y="241172"/>
                </a:lnTo>
                <a:lnTo>
                  <a:pt x="820611" y="229253"/>
                </a:lnTo>
                <a:lnTo>
                  <a:pt x="813460" y="217730"/>
                </a:lnTo>
                <a:lnTo>
                  <a:pt x="806308" y="206605"/>
                </a:lnTo>
                <a:lnTo>
                  <a:pt x="798759" y="195481"/>
                </a:lnTo>
                <a:lnTo>
                  <a:pt x="789621" y="185150"/>
                </a:lnTo>
                <a:lnTo>
                  <a:pt x="780880" y="174820"/>
                </a:lnTo>
                <a:lnTo>
                  <a:pt x="770947" y="164092"/>
                </a:lnTo>
                <a:lnTo>
                  <a:pt x="760617" y="154556"/>
                </a:lnTo>
                <a:lnTo>
                  <a:pt x="750287" y="145021"/>
                </a:lnTo>
                <a:lnTo>
                  <a:pt x="739559" y="136677"/>
                </a:lnTo>
                <a:lnTo>
                  <a:pt x="728434" y="129128"/>
                </a:lnTo>
                <a:lnTo>
                  <a:pt x="717310" y="121976"/>
                </a:lnTo>
                <a:lnTo>
                  <a:pt x="705788" y="114825"/>
                </a:lnTo>
                <a:lnTo>
                  <a:pt x="693868" y="108865"/>
                </a:lnTo>
                <a:lnTo>
                  <a:pt x="682346" y="103700"/>
                </a:lnTo>
                <a:lnTo>
                  <a:pt x="669632" y="98932"/>
                </a:lnTo>
                <a:lnTo>
                  <a:pt x="657315" y="94959"/>
                </a:lnTo>
                <a:lnTo>
                  <a:pt x="644204" y="91383"/>
                </a:lnTo>
                <a:lnTo>
                  <a:pt x="631490" y="88204"/>
                </a:lnTo>
                <a:lnTo>
                  <a:pt x="617584" y="86218"/>
                </a:lnTo>
                <a:lnTo>
                  <a:pt x="604472" y="84628"/>
                </a:lnTo>
                <a:lnTo>
                  <a:pt x="590169" y="83436"/>
                </a:lnTo>
                <a:lnTo>
                  <a:pt x="576263" y="83436"/>
                </a:lnTo>
                <a:lnTo>
                  <a:pt x="561960" y="83436"/>
                </a:lnTo>
                <a:lnTo>
                  <a:pt x="548451" y="84628"/>
                </a:lnTo>
                <a:lnTo>
                  <a:pt x="534545" y="86218"/>
                </a:lnTo>
                <a:lnTo>
                  <a:pt x="521434" y="88204"/>
                </a:lnTo>
                <a:lnTo>
                  <a:pt x="507925" y="91383"/>
                </a:lnTo>
                <a:lnTo>
                  <a:pt x="495211" y="94959"/>
                </a:lnTo>
                <a:lnTo>
                  <a:pt x="482497" y="98932"/>
                </a:lnTo>
                <a:lnTo>
                  <a:pt x="470578" y="103700"/>
                </a:lnTo>
                <a:lnTo>
                  <a:pt x="458658" y="108865"/>
                </a:lnTo>
                <a:lnTo>
                  <a:pt x="446341" y="114825"/>
                </a:lnTo>
                <a:lnTo>
                  <a:pt x="435217" y="121976"/>
                </a:lnTo>
                <a:lnTo>
                  <a:pt x="423694" y="129128"/>
                </a:lnTo>
                <a:lnTo>
                  <a:pt x="412967" y="136677"/>
                </a:lnTo>
                <a:lnTo>
                  <a:pt x="401842" y="145021"/>
                </a:lnTo>
                <a:lnTo>
                  <a:pt x="391512" y="154556"/>
                </a:lnTo>
                <a:lnTo>
                  <a:pt x="381579" y="164092"/>
                </a:lnTo>
                <a:lnTo>
                  <a:pt x="381182" y="164092"/>
                </a:lnTo>
                <a:lnTo>
                  <a:pt x="371249" y="174820"/>
                </a:lnTo>
                <a:lnTo>
                  <a:pt x="362111" y="185150"/>
                </a:lnTo>
                <a:lnTo>
                  <a:pt x="353767" y="195481"/>
                </a:lnTo>
                <a:lnTo>
                  <a:pt x="345821" y="207003"/>
                </a:lnTo>
                <a:lnTo>
                  <a:pt x="338669" y="218128"/>
                </a:lnTo>
                <a:lnTo>
                  <a:pt x="331915" y="229253"/>
                </a:lnTo>
                <a:lnTo>
                  <a:pt x="325955" y="241172"/>
                </a:lnTo>
                <a:lnTo>
                  <a:pt x="320790" y="253092"/>
                </a:lnTo>
                <a:lnTo>
                  <a:pt x="315625" y="265806"/>
                </a:lnTo>
                <a:lnTo>
                  <a:pt x="311652" y="278123"/>
                </a:lnTo>
                <a:lnTo>
                  <a:pt x="308473" y="291234"/>
                </a:lnTo>
                <a:lnTo>
                  <a:pt x="305692" y="303948"/>
                </a:lnTo>
                <a:lnTo>
                  <a:pt x="303308" y="317457"/>
                </a:lnTo>
                <a:lnTo>
                  <a:pt x="301719" y="330966"/>
                </a:lnTo>
                <a:lnTo>
                  <a:pt x="300924" y="345269"/>
                </a:lnTo>
                <a:lnTo>
                  <a:pt x="300527" y="359175"/>
                </a:lnTo>
                <a:lnTo>
                  <a:pt x="300924" y="373479"/>
                </a:lnTo>
                <a:lnTo>
                  <a:pt x="301719" y="386988"/>
                </a:lnTo>
                <a:lnTo>
                  <a:pt x="303308" y="400894"/>
                </a:lnTo>
                <a:lnTo>
                  <a:pt x="305692" y="414005"/>
                </a:lnTo>
                <a:lnTo>
                  <a:pt x="308473" y="427514"/>
                </a:lnTo>
                <a:lnTo>
                  <a:pt x="311652" y="440228"/>
                </a:lnTo>
                <a:lnTo>
                  <a:pt x="315625" y="452545"/>
                </a:lnTo>
                <a:lnTo>
                  <a:pt x="320790" y="464862"/>
                </a:lnTo>
                <a:lnTo>
                  <a:pt x="325955" y="476782"/>
                </a:lnTo>
                <a:lnTo>
                  <a:pt x="331915" y="489098"/>
                </a:lnTo>
                <a:lnTo>
                  <a:pt x="338669" y="500223"/>
                </a:lnTo>
                <a:lnTo>
                  <a:pt x="345821" y="511745"/>
                </a:lnTo>
                <a:lnTo>
                  <a:pt x="353767" y="522870"/>
                </a:lnTo>
                <a:lnTo>
                  <a:pt x="362111" y="533201"/>
                </a:lnTo>
                <a:lnTo>
                  <a:pt x="371249" y="543928"/>
                </a:lnTo>
                <a:lnTo>
                  <a:pt x="381182" y="554258"/>
                </a:lnTo>
                <a:lnTo>
                  <a:pt x="387539" y="560218"/>
                </a:lnTo>
                <a:lnTo>
                  <a:pt x="393896" y="566575"/>
                </a:lnTo>
                <a:lnTo>
                  <a:pt x="400650" y="572138"/>
                </a:lnTo>
                <a:lnTo>
                  <a:pt x="407405" y="577700"/>
                </a:lnTo>
                <a:lnTo>
                  <a:pt x="414159" y="582468"/>
                </a:lnTo>
                <a:lnTo>
                  <a:pt x="420913" y="587633"/>
                </a:lnTo>
                <a:lnTo>
                  <a:pt x="428065" y="592401"/>
                </a:lnTo>
                <a:lnTo>
                  <a:pt x="435614" y="597169"/>
                </a:lnTo>
                <a:lnTo>
                  <a:pt x="442368" y="601142"/>
                </a:lnTo>
                <a:lnTo>
                  <a:pt x="449917" y="605115"/>
                </a:lnTo>
                <a:lnTo>
                  <a:pt x="457069" y="608691"/>
                </a:lnTo>
                <a:lnTo>
                  <a:pt x="465015" y="612267"/>
                </a:lnTo>
                <a:lnTo>
                  <a:pt x="472564" y="615445"/>
                </a:lnTo>
                <a:lnTo>
                  <a:pt x="480113" y="618227"/>
                </a:lnTo>
                <a:lnTo>
                  <a:pt x="488457" y="621008"/>
                </a:lnTo>
                <a:lnTo>
                  <a:pt x="496403" y="623789"/>
                </a:lnTo>
                <a:lnTo>
                  <a:pt x="498787" y="634914"/>
                </a:lnTo>
                <a:lnTo>
                  <a:pt x="501171" y="645642"/>
                </a:lnTo>
                <a:lnTo>
                  <a:pt x="505541" y="667891"/>
                </a:lnTo>
                <a:lnTo>
                  <a:pt x="508720" y="690141"/>
                </a:lnTo>
                <a:lnTo>
                  <a:pt x="511501" y="712788"/>
                </a:lnTo>
                <a:lnTo>
                  <a:pt x="498390" y="710404"/>
                </a:lnTo>
                <a:lnTo>
                  <a:pt x="484881" y="707226"/>
                </a:lnTo>
                <a:lnTo>
                  <a:pt x="472167" y="703253"/>
                </a:lnTo>
                <a:lnTo>
                  <a:pt x="459453" y="699279"/>
                </a:lnTo>
                <a:lnTo>
                  <a:pt x="446739" y="694909"/>
                </a:lnTo>
                <a:lnTo>
                  <a:pt x="434819" y="690141"/>
                </a:lnTo>
                <a:lnTo>
                  <a:pt x="422503" y="684579"/>
                </a:lnTo>
                <a:lnTo>
                  <a:pt x="410583" y="678619"/>
                </a:lnTo>
                <a:lnTo>
                  <a:pt x="398664" y="671864"/>
                </a:lnTo>
                <a:lnTo>
                  <a:pt x="387142" y="665110"/>
                </a:lnTo>
                <a:lnTo>
                  <a:pt x="376017" y="657561"/>
                </a:lnTo>
                <a:lnTo>
                  <a:pt x="364892" y="649615"/>
                </a:lnTo>
                <a:lnTo>
                  <a:pt x="354164" y="641271"/>
                </a:lnTo>
                <a:lnTo>
                  <a:pt x="343040" y="632133"/>
                </a:lnTo>
                <a:lnTo>
                  <a:pt x="332709" y="622994"/>
                </a:lnTo>
                <a:lnTo>
                  <a:pt x="322379" y="612664"/>
                </a:lnTo>
                <a:lnTo>
                  <a:pt x="309665" y="599553"/>
                </a:lnTo>
                <a:lnTo>
                  <a:pt x="297746" y="585647"/>
                </a:lnTo>
                <a:lnTo>
                  <a:pt x="286621" y="572138"/>
                </a:lnTo>
                <a:lnTo>
                  <a:pt x="276291" y="557437"/>
                </a:lnTo>
                <a:lnTo>
                  <a:pt x="267153" y="543134"/>
                </a:lnTo>
                <a:lnTo>
                  <a:pt x="258412" y="527638"/>
                </a:lnTo>
                <a:lnTo>
                  <a:pt x="250465" y="512540"/>
                </a:lnTo>
                <a:lnTo>
                  <a:pt x="243711" y="496647"/>
                </a:lnTo>
                <a:lnTo>
                  <a:pt x="237751" y="480755"/>
                </a:lnTo>
                <a:lnTo>
                  <a:pt x="231792" y="464465"/>
                </a:lnTo>
                <a:lnTo>
                  <a:pt x="227421" y="447777"/>
                </a:lnTo>
                <a:lnTo>
                  <a:pt x="223845" y="430693"/>
                </a:lnTo>
                <a:lnTo>
                  <a:pt x="221064" y="413211"/>
                </a:lnTo>
                <a:lnTo>
                  <a:pt x="219078" y="395331"/>
                </a:lnTo>
                <a:lnTo>
                  <a:pt x="217886" y="377452"/>
                </a:lnTo>
                <a:lnTo>
                  <a:pt x="217488" y="359175"/>
                </a:lnTo>
                <a:lnTo>
                  <a:pt x="217886" y="340502"/>
                </a:lnTo>
                <a:lnTo>
                  <a:pt x="219078" y="322622"/>
                </a:lnTo>
                <a:lnTo>
                  <a:pt x="221064" y="304743"/>
                </a:lnTo>
                <a:lnTo>
                  <a:pt x="223845" y="287658"/>
                </a:lnTo>
                <a:lnTo>
                  <a:pt x="227421" y="270574"/>
                </a:lnTo>
                <a:lnTo>
                  <a:pt x="231792" y="253886"/>
                </a:lnTo>
                <a:lnTo>
                  <a:pt x="237751" y="237596"/>
                </a:lnTo>
                <a:lnTo>
                  <a:pt x="243711" y="221306"/>
                </a:lnTo>
                <a:lnTo>
                  <a:pt x="250465" y="205811"/>
                </a:lnTo>
                <a:lnTo>
                  <a:pt x="258412" y="190315"/>
                </a:lnTo>
                <a:lnTo>
                  <a:pt x="267153" y="175615"/>
                </a:lnTo>
                <a:lnTo>
                  <a:pt x="276291" y="160516"/>
                </a:lnTo>
                <a:lnTo>
                  <a:pt x="286621" y="146610"/>
                </a:lnTo>
                <a:lnTo>
                  <a:pt x="297746" y="132307"/>
                </a:lnTo>
                <a:lnTo>
                  <a:pt x="309665" y="118798"/>
                </a:lnTo>
                <a:lnTo>
                  <a:pt x="322379" y="105289"/>
                </a:lnTo>
                <a:lnTo>
                  <a:pt x="335491" y="92575"/>
                </a:lnTo>
                <a:lnTo>
                  <a:pt x="349397" y="80655"/>
                </a:lnTo>
                <a:lnTo>
                  <a:pt x="363303" y="69530"/>
                </a:lnTo>
                <a:lnTo>
                  <a:pt x="378003" y="59200"/>
                </a:lnTo>
                <a:lnTo>
                  <a:pt x="392307" y="50062"/>
                </a:lnTo>
                <a:lnTo>
                  <a:pt x="407405" y="41321"/>
                </a:lnTo>
                <a:lnTo>
                  <a:pt x="422900" y="33374"/>
                </a:lnTo>
                <a:lnTo>
                  <a:pt x="438395" y="26620"/>
                </a:lnTo>
                <a:lnTo>
                  <a:pt x="454288" y="20263"/>
                </a:lnTo>
                <a:lnTo>
                  <a:pt x="470975" y="15098"/>
                </a:lnTo>
                <a:lnTo>
                  <a:pt x="487662" y="10727"/>
                </a:lnTo>
                <a:lnTo>
                  <a:pt x="504747" y="7151"/>
                </a:lnTo>
                <a:lnTo>
                  <a:pt x="522228" y="3973"/>
                </a:lnTo>
                <a:lnTo>
                  <a:pt x="539710" y="1589"/>
                </a:lnTo>
                <a:lnTo>
                  <a:pt x="557589" y="397"/>
                </a:lnTo>
                <a:lnTo>
                  <a:pt x="576263" y="0"/>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67" name=" 2050"/>
          <p:cNvSpPr/>
          <p:nvPr/>
        </p:nvSpPr>
        <p:spPr>
          <a:xfrm>
            <a:off x="6719760" y="4465800"/>
            <a:ext cx="381240" cy="517320"/>
          </a:xfrm>
          <a:custGeom>
            <a:avLst/>
            <a:gdLst/>
            <a:ahLst/>
            <a:rect l="l" t="t" r="r" b="b"/>
            <a:pathLst>
              <a:path w="1646238" h="2433638">
                <a:moveTo>
                  <a:pt x="577732" y="161925"/>
                </a:moveTo>
                <a:lnTo>
                  <a:pt x="586070" y="162719"/>
                </a:lnTo>
                <a:lnTo>
                  <a:pt x="593614" y="163910"/>
                </a:lnTo>
                <a:lnTo>
                  <a:pt x="597585" y="164703"/>
                </a:lnTo>
                <a:lnTo>
                  <a:pt x="601953" y="165894"/>
                </a:lnTo>
                <a:lnTo>
                  <a:pt x="605526" y="167482"/>
                </a:lnTo>
                <a:lnTo>
                  <a:pt x="609100" y="169069"/>
                </a:lnTo>
                <a:lnTo>
                  <a:pt x="612674" y="171053"/>
                </a:lnTo>
                <a:lnTo>
                  <a:pt x="616247" y="173435"/>
                </a:lnTo>
                <a:lnTo>
                  <a:pt x="619821" y="176610"/>
                </a:lnTo>
                <a:lnTo>
                  <a:pt x="623394" y="179388"/>
                </a:lnTo>
                <a:lnTo>
                  <a:pt x="626968" y="182563"/>
                </a:lnTo>
                <a:lnTo>
                  <a:pt x="630145" y="186135"/>
                </a:lnTo>
                <a:lnTo>
                  <a:pt x="633321" y="190103"/>
                </a:lnTo>
                <a:lnTo>
                  <a:pt x="636498" y="194469"/>
                </a:lnTo>
                <a:lnTo>
                  <a:pt x="639674" y="199232"/>
                </a:lnTo>
                <a:lnTo>
                  <a:pt x="642454" y="204788"/>
                </a:lnTo>
                <a:lnTo>
                  <a:pt x="645233" y="210344"/>
                </a:lnTo>
                <a:lnTo>
                  <a:pt x="648013" y="216297"/>
                </a:lnTo>
                <a:lnTo>
                  <a:pt x="650792" y="222647"/>
                </a:lnTo>
                <a:lnTo>
                  <a:pt x="653969" y="229394"/>
                </a:lnTo>
                <a:lnTo>
                  <a:pt x="656351" y="237332"/>
                </a:lnTo>
                <a:lnTo>
                  <a:pt x="658733" y="245269"/>
                </a:lnTo>
                <a:lnTo>
                  <a:pt x="838208" y="927100"/>
                </a:lnTo>
                <a:lnTo>
                  <a:pt x="840193" y="928291"/>
                </a:lnTo>
                <a:lnTo>
                  <a:pt x="841781" y="933450"/>
                </a:lnTo>
                <a:lnTo>
                  <a:pt x="899356" y="921941"/>
                </a:lnTo>
                <a:lnTo>
                  <a:pt x="911665" y="922338"/>
                </a:lnTo>
                <a:lnTo>
                  <a:pt x="923180" y="923529"/>
                </a:lnTo>
                <a:lnTo>
                  <a:pt x="935489" y="924719"/>
                </a:lnTo>
                <a:lnTo>
                  <a:pt x="946607" y="926704"/>
                </a:lnTo>
                <a:lnTo>
                  <a:pt x="957725" y="929482"/>
                </a:lnTo>
                <a:lnTo>
                  <a:pt x="969240" y="932657"/>
                </a:lnTo>
                <a:lnTo>
                  <a:pt x="979960" y="936229"/>
                </a:lnTo>
                <a:lnTo>
                  <a:pt x="991078" y="939800"/>
                </a:lnTo>
                <a:lnTo>
                  <a:pt x="1001402" y="944166"/>
                </a:lnTo>
                <a:lnTo>
                  <a:pt x="1011726" y="948929"/>
                </a:lnTo>
                <a:lnTo>
                  <a:pt x="1022049" y="954485"/>
                </a:lnTo>
                <a:lnTo>
                  <a:pt x="1031976" y="960438"/>
                </a:lnTo>
                <a:lnTo>
                  <a:pt x="1041506" y="966788"/>
                </a:lnTo>
                <a:lnTo>
                  <a:pt x="1051432" y="973535"/>
                </a:lnTo>
                <a:lnTo>
                  <a:pt x="1060565" y="980679"/>
                </a:lnTo>
                <a:lnTo>
                  <a:pt x="1069697" y="988616"/>
                </a:lnTo>
                <a:lnTo>
                  <a:pt x="1076050" y="994172"/>
                </a:lnTo>
                <a:lnTo>
                  <a:pt x="1081212" y="999729"/>
                </a:lnTo>
                <a:lnTo>
                  <a:pt x="1086374" y="1005682"/>
                </a:lnTo>
                <a:lnTo>
                  <a:pt x="1090345" y="1012032"/>
                </a:lnTo>
                <a:lnTo>
                  <a:pt x="1126478" y="1071960"/>
                </a:lnTo>
                <a:lnTo>
                  <a:pt x="1183258" y="1074341"/>
                </a:lnTo>
                <a:lnTo>
                  <a:pt x="1184847" y="1075532"/>
                </a:lnTo>
                <a:lnTo>
                  <a:pt x="1199538" y="1077913"/>
                </a:lnTo>
                <a:lnTo>
                  <a:pt x="1214230" y="1081088"/>
                </a:lnTo>
                <a:lnTo>
                  <a:pt x="1228524" y="1085057"/>
                </a:lnTo>
                <a:lnTo>
                  <a:pt x="1242818" y="1089422"/>
                </a:lnTo>
                <a:lnTo>
                  <a:pt x="1256716" y="1094582"/>
                </a:lnTo>
                <a:lnTo>
                  <a:pt x="1271010" y="1100932"/>
                </a:lnTo>
                <a:lnTo>
                  <a:pt x="1284510" y="1106885"/>
                </a:lnTo>
                <a:lnTo>
                  <a:pt x="1298011" y="1114029"/>
                </a:lnTo>
                <a:lnTo>
                  <a:pt x="1310717" y="1121172"/>
                </a:lnTo>
                <a:lnTo>
                  <a:pt x="1323820" y="1129507"/>
                </a:lnTo>
                <a:lnTo>
                  <a:pt x="1336129" y="1137444"/>
                </a:lnTo>
                <a:lnTo>
                  <a:pt x="1348041" y="1146175"/>
                </a:lnTo>
                <a:lnTo>
                  <a:pt x="1359953" y="1155700"/>
                </a:lnTo>
                <a:lnTo>
                  <a:pt x="1371071" y="1165225"/>
                </a:lnTo>
                <a:lnTo>
                  <a:pt x="1381792" y="1175147"/>
                </a:lnTo>
                <a:lnTo>
                  <a:pt x="1392115" y="1185863"/>
                </a:lnTo>
                <a:lnTo>
                  <a:pt x="1408792" y="1204119"/>
                </a:lnTo>
                <a:lnTo>
                  <a:pt x="1424278" y="1223566"/>
                </a:lnTo>
                <a:lnTo>
                  <a:pt x="1439763" y="1243410"/>
                </a:lnTo>
                <a:lnTo>
                  <a:pt x="1454058" y="1263254"/>
                </a:lnTo>
                <a:lnTo>
                  <a:pt x="1467955" y="1283891"/>
                </a:lnTo>
                <a:lnTo>
                  <a:pt x="1480264" y="1305322"/>
                </a:lnTo>
                <a:lnTo>
                  <a:pt x="1492970" y="1327150"/>
                </a:lnTo>
                <a:lnTo>
                  <a:pt x="1504088" y="1348582"/>
                </a:lnTo>
                <a:lnTo>
                  <a:pt x="1505279" y="1351360"/>
                </a:lnTo>
                <a:lnTo>
                  <a:pt x="1506471" y="1352154"/>
                </a:lnTo>
                <a:lnTo>
                  <a:pt x="1508059" y="1352550"/>
                </a:lnTo>
                <a:lnTo>
                  <a:pt x="1518780" y="1353344"/>
                </a:lnTo>
                <a:lnTo>
                  <a:pt x="1528309" y="1355329"/>
                </a:lnTo>
                <a:lnTo>
                  <a:pt x="1537839" y="1357710"/>
                </a:lnTo>
                <a:lnTo>
                  <a:pt x="1546971" y="1360885"/>
                </a:lnTo>
                <a:lnTo>
                  <a:pt x="1555707" y="1364457"/>
                </a:lnTo>
                <a:lnTo>
                  <a:pt x="1563648" y="1368822"/>
                </a:lnTo>
                <a:lnTo>
                  <a:pt x="1571590" y="1373982"/>
                </a:lnTo>
                <a:lnTo>
                  <a:pt x="1578737" y="1379935"/>
                </a:lnTo>
                <a:lnTo>
                  <a:pt x="1585487" y="1385888"/>
                </a:lnTo>
                <a:lnTo>
                  <a:pt x="1591840" y="1392238"/>
                </a:lnTo>
                <a:lnTo>
                  <a:pt x="1597796" y="1398985"/>
                </a:lnTo>
                <a:lnTo>
                  <a:pt x="1603752" y="1406525"/>
                </a:lnTo>
                <a:lnTo>
                  <a:pt x="1608914" y="1413669"/>
                </a:lnTo>
                <a:lnTo>
                  <a:pt x="1613678" y="1421607"/>
                </a:lnTo>
                <a:lnTo>
                  <a:pt x="1618046" y="1429544"/>
                </a:lnTo>
                <a:lnTo>
                  <a:pt x="1622017" y="1437879"/>
                </a:lnTo>
                <a:lnTo>
                  <a:pt x="1625988" y="1446213"/>
                </a:lnTo>
                <a:lnTo>
                  <a:pt x="1629561" y="1454547"/>
                </a:lnTo>
                <a:lnTo>
                  <a:pt x="1632738" y="1463279"/>
                </a:lnTo>
                <a:lnTo>
                  <a:pt x="1635517" y="1471613"/>
                </a:lnTo>
                <a:lnTo>
                  <a:pt x="1637900" y="1479947"/>
                </a:lnTo>
                <a:lnTo>
                  <a:pt x="1639885" y="1488282"/>
                </a:lnTo>
                <a:lnTo>
                  <a:pt x="1641473" y="1497013"/>
                </a:lnTo>
                <a:lnTo>
                  <a:pt x="1643062" y="1504950"/>
                </a:lnTo>
                <a:lnTo>
                  <a:pt x="1644253" y="1512491"/>
                </a:lnTo>
                <a:lnTo>
                  <a:pt x="1645047" y="1520429"/>
                </a:lnTo>
                <a:lnTo>
                  <a:pt x="1645841" y="1527969"/>
                </a:lnTo>
                <a:lnTo>
                  <a:pt x="1646238" y="1534716"/>
                </a:lnTo>
                <a:lnTo>
                  <a:pt x="1646238" y="1541463"/>
                </a:lnTo>
                <a:lnTo>
                  <a:pt x="1646238" y="1548210"/>
                </a:lnTo>
                <a:lnTo>
                  <a:pt x="1645841" y="1553766"/>
                </a:lnTo>
                <a:lnTo>
                  <a:pt x="1645444" y="1558925"/>
                </a:lnTo>
                <a:lnTo>
                  <a:pt x="1643458" y="1570832"/>
                </a:lnTo>
                <a:lnTo>
                  <a:pt x="1642267" y="1583532"/>
                </a:lnTo>
                <a:lnTo>
                  <a:pt x="1641473" y="1595835"/>
                </a:lnTo>
                <a:lnTo>
                  <a:pt x="1640679" y="1608535"/>
                </a:lnTo>
                <a:lnTo>
                  <a:pt x="1634723" y="1749029"/>
                </a:lnTo>
                <a:lnTo>
                  <a:pt x="1628370" y="1889126"/>
                </a:lnTo>
                <a:lnTo>
                  <a:pt x="1627973" y="1902222"/>
                </a:lnTo>
                <a:lnTo>
                  <a:pt x="1626385" y="1915716"/>
                </a:lnTo>
                <a:lnTo>
                  <a:pt x="1625194" y="1928416"/>
                </a:lnTo>
                <a:lnTo>
                  <a:pt x="1623208" y="1941910"/>
                </a:lnTo>
                <a:lnTo>
                  <a:pt x="1621223" y="1954610"/>
                </a:lnTo>
                <a:lnTo>
                  <a:pt x="1618840" y="1968104"/>
                </a:lnTo>
                <a:lnTo>
                  <a:pt x="1616061" y="1980804"/>
                </a:lnTo>
                <a:lnTo>
                  <a:pt x="1612884" y="1993504"/>
                </a:lnTo>
                <a:lnTo>
                  <a:pt x="1604546" y="2026444"/>
                </a:lnTo>
                <a:lnTo>
                  <a:pt x="1595414" y="2058988"/>
                </a:lnTo>
                <a:lnTo>
                  <a:pt x="1586281" y="2091532"/>
                </a:lnTo>
                <a:lnTo>
                  <a:pt x="1577148" y="2123679"/>
                </a:lnTo>
                <a:lnTo>
                  <a:pt x="1579134" y="2125663"/>
                </a:lnTo>
                <a:lnTo>
                  <a:pt x="1617252" y="2294732"/>
                </a:lnTo>
                <a:lnTo>
                  <a:pt x="1571590" y="2303463"/>
                </a:lnTo>
                <a:lnTo>
                  <a:pt x="1487411" y="2318147"/>
                </a:lnTo>
                <a:lnTo>
                  <a:pt x="1251951" y="2359026"/>
                </a:lnTo>
                <a:lnTo>
                  <a:pt x="1000608" y="2402285"/>
                </a:lnTo>
                <a:lnTo>
                  <a:pt x="897370" y="2420541"/>
                </a:lnTo>
                <a:lnTo>
                  <a:pt x="824310" y="2433638"/>
                </a:lnTo>
                <a:lnTo>
                  <a:pt x="785398" y="2236391"/>
                </a:lnTo>
                <a:lnTo>
                  <a:pt x="781030" y="2228851"/>
                </a:lnTo>
                <a:lnTo>
                  <a:pt x="776662" y="2221707"/>
                </a:lnTo>
                <a:lnTo>
                  <a:pt x="771897" y="2214563"/>
                </a:lnTo>
                <a:lnTo>
                  <a:pt x="767133" y="2207816"/>
                </a:lnTo>
                <a:lnTo>
                  <a:pt x="761574" y="2201069"/>
                </a:lnTo>
                <a:lnTo>
                  <a:pt x="756015" y="2194719"/>
                </a:lnTo>
                <a:lnTo>
                  <a:pt x="750456" y="2188369"/>
                </a:lnTo>
                <a:lnTo>
                  <a:pt x="744897" y="2182416"/>
                </a:lnTo>
                <a:lnTo>
                  <a:pt x="738544" y="2176463"/>
                </a:lnTo>
                <a:lnTo>
                  <a:pt x="732191" y="2170907"/>
                </a:lnTo>
                <a:lnTo>
                  <a:pt x="725441" y="2165351"/>
                </a:lnTo>
                <a:lnTo>
                  <a:pt x="719088" y="2159794"/>
                </a:lnTo>
                <a:lnTo>
                  <a:pt x="711940" y="2155032"/>
                </a:lnTo>
                <a:lnTo>
                  <a:pt x="704396" y="2149873"/>
                </a:lnTo>
                <a:lnTo>
                  <a:pt x="697249" y="2145507"/>
                </a:lnTo>
                <a:lnTo>
                  <a:pt x="689705" y="2141141"/>
                </a:lnTo>
                <a:lnTo>
                  <a:pt x="678984" y="2135585"/>
                </a:lnTo>
                <a:lnTo>
                  <a:pt x="668660" y="2130029"/>
                </a:lnTo>
                <a:lnTo>
                  <a:pt x="648807" y="2118519"/>
                </a:lnTo>
                <a:lnTo>
                  <a:pt x="630145" y="2106216"/>
                </a:lnTo>
                <a:lnTo>
                  <a:pt x="611482" y="2093119"/>
                </a:lnTo>
                <a:lnTo>
                  <a:pt x="593217" y="2080022"/>
                </a:lnTo>
                <a:lnTo>
                  <a:pt x="576144" y="2065735"/>
                </a:lnTo>
                <a:lnTo>
                  <a:pt x="559070" y="2051447"/>
                </a:lnTo>
                <a:lnTo>
                  <a:pt x="543187" y="2035969"/>
                </a:lnTo>
                <a:lnTo>
                  <a:pt x="526907" y="2020491"/>
                </a:lnTo>
                <a:lnTo>
                  <a:pt x="511422" y="2004616"/>
                </a:lnTo>
                <a:lnTo>
                  <a:pt x="496333" y="1988344"/>
                </a:lnTo>
                <a:lnTo>
                  <a:pt x="481245" y="1971676"/>
                </a:lnTo>
                <a:lnTo>
                  <a:pt x="466951" y="1954610"/>
                </a:lnTo>
                <a:lnTo>
                  <a:pt x="452259" y="1937147"/>
                </a:lnTo>
                <a:lnTo>
                  <a:pt x="424067" y="1902222"/>
                </a:lnTo>
                <a:lnTo>
                  <a:pt x="418111" y="1894285"/>
                </a:lnTo>
                <a:lnTo>
                  <a:pt x="412552" y="1886744"/>
                </a:lnTo>
                <a:lnTo>
                  <a:pt x="401435" y="1870472"/>
                </a:lnTo>
                <a:lnTo>
                  <a:pt x="391508" y="1853804"/>
                </a:lnTo>
                <a:lnTo>
                  <a:pt x="381978" y="1837532"/>
                </a:lnTo>
                <a:lnTo>
                  <a:pt x="372846" y="1820069"/>
                </a:lnTo>
                <a:lnTo>
                  <a:pt x="364110" y="1803401"/>
                </a:lnTo>
                <a:lnTo>
                  <a:pt x="356169" y="1785541"/>
                </a:lnTo>
                <a:lnTo>
                  <a:pt x="348228" y="1768079"/>
                </a:lnTo>
                <a:lnTo>
                  <a:pt x="332345" y="1733551"/>
                </a:lnTo>
                <a:lnTo>
                  <a:pt x="324404" y="1716485"/>
                </a:lnTo>
                <a:lnTo>
                  <a:pt x="316065" y="1699022"/>
                </a:lnTo>
                <a:lnTo>
                  <a:pt x="307727" y="1682354"/>
                </a:lnTo>
                <a:lnTo>
                  <a:pt x="298991" y="1666082"/>
                </a:lnTo>
                <a:lnTo>
                  <a:pt x="289462" y="1649413"/>
                </a:lnTo>
                <a:lnTo>
                  <a:pt x="279535" y="1633935"/>
                </a:lnTo>
                <a:lnTo>
                  <a:pt x="275962" y="1624410"/>
                </a:lnTo>
                <a:lnTo>
                  <a:pt x="271594" y="1614885"/>
                </a:lnTo>
                <a:lnTo>
                  <a:pt x="266829" y="1605360"/>
                </a:lnTo>
                <a:lnTo>
                  <a:pt x="261667" y="1595835"/>
                </a:lnTo>
                <a:lnTo>
                  <a:pt x="256505" y="1586310"/>
                </a:lnTo>
                <a:lnTo>
                  <a:pt x="250946" y="1577182"/>
                </a:lnTo>
                <a:lnTo>
                  <a:pt x="239431" y="1558132"/>
                </a:lnTo>
                <a:lnTo>
                  <a:pt x="227122" y="1539479"/>
                </a:lnTo>
                <a:lnTo>
                  <a:pt x="214813" y="1521619"/>
                </a:lnTo>
                <a:lnTo>
                  <a:pt x="190592" y="1486694"/>
                </a:lnTo>
                <a:lnTo>
                  <a:pt x="185827" y="1479154"/>
                </a:lnTo>
                <a:lnTo>
                  <a:pt x="181063" y="1470422"/>
                </a:lnTo>
                <a:lnTo>
                  <a:pt x="170342" y="1450579"/>
                </a:lnTo>
                <a:lnTo>
                  <a:pt x="164783" y="1441054"/>
                </a:lnTo>
                <a:lnTo>
                  <a:pt x="159224" y="1431132"/>
                </a:lnTo>
                <a:lnTo>
                  <a:pt x="156444" y="1427163"/>
                </a:lnTo>
                <a:lnTo>
                  <a:pt x="153268" y="1423194"/>
                </a:lnTo>
                <a:lnTo>
                  <a:pt x="149694" y="1419622"/>
                </a:lnTo>
                <a:lnTo>
                  <a:pt x="146518" y="1416447"/>
                </a:lnTo>
                <a:lnTo>
                  <a:pt x="143738" y="1413272"/>
                </a:lnTo>
                <a:lnTo>
                  <a:pt x="140959" y="1409304"/>
                </a:lnTo>
                <a:lnTo>
                  <a:pt x="138576" y="1404541"/>
                </a:lnTo>
                <a:lnTo>
                  <a:pt x="136591" y="1398985"/>
                </a:lnTo>
                <a:lnTo>
                  <a:pt x="134209" y="1393429"/>
                </a:lnTo>
                <a:lnTo>
                  <a:pt x="132620" y="1387475"/>
                </a:lnTo>
                <a:lnTo>
                  <a:pt x="129047" y="1373982"/>
                </a:lnTo>
                <a:lnTo>
                  <a:pt x="125870" y="1360488"/>
                </a:lnTo>
                <a:lnTo>
                  <a:pt x="122694" y="1346994"/>
                </a:lnTo>
                <a:lnTo>
                  <a:pt x="120311" y="1335485"/>
                </a:lnTo>
                <a:lnTo>
                  <a:pt x="117532" y="1325563"/>
                </a:lnTo>
                <a:lnTo>
                  <a:pt x="109194" y="1300560"/>
                </a:lnTo>
                <a:lnTo>
                  <a:pt x="100458" y="1276350"/>
                </a:lnTo>
                <a:lnTo>
                  <a:pt x="95296" y="1264047"/>
                </a:lnTo>
                <a:lnTo>
                  <a:pt x="90531" y="1252538"/>
                </a:lnTo>
                <a:lnTo>
                  <a:pt x="85767" y="1241425"/>
                </a:lnTo>
                <a:lnTo>
                  <a:pt x="80208" y="1229916"/>
                </a:lnTo>
                <a:lnTo>
                  <a:pt x="77031" y="1223566"/>
                </a:lnTo>
                <a:lnTo>
                  <a:pt x="73458" y="1217216"/>
                </a:lnTo>
                <a:lnTo>
                  <a:pt x="65119" y="1203722"/>
                </a:lnTo>
                <a:lnTo>
                  <a:pt x="55987" y="1190625"/>
                </a:lnTo>
                <a:lnTo>
                  <a:pt x="46457" y="1177132"/>
                </a:lnTo>
                <a:lnTo>
                  <a:pt x="26207" y="1150938"/>
                </a:lnTo>
                <a:lnTo>
                  <a:pt x="6353" y="1125538"/>
                </a:lnTo>
                <a:lnTo>
                  <a:pt x="3574" y="1121172"/>
                </a:lnTo>
                <a:lnTo>
                  <a:pt x="1589" y="1116410"/>
                </a:lnTo>
                <a:lnTo>
                  <a:pt x="397" y="1111250"/>
                </a:lnTo>
                <a:lnTo>
                  <a:pt x="0" y="1106091"/>
                </a:lnTo>
                <a:lnTo>
                  <a:pt x="0" y="1100535"/>
                </a:lnTo>
                <a:lnTo>
                  <a:pt x="794" y="1094582"/>
                </a:lnTo>
                <a:lnTo>
                  <a:pt x="1986" y="1088629"/>
                </a:lnTo>
                <a:lnTo>
                  <a:pt x="3574" y="1083072"/>
                </a:lnTo>
                <a:lnTo>
                  <a:pt x="5559" y="1077516"/>
                </a:lnTo>
                <a:lnTo>
                  <a:pt x="8339" y="1071960"/>
                </a:lnTo>
                <a:lnTo>
                  <a:pt x="11118" y="1066404"/>
                </a:lnTo>
                <a:lnTo>
                  <a:pt x="14295" y="1061641"/>
                </a:lnTo>
                <a:lnTo>
                  <a:pt x="17868" y="1056879"/>
                </a:lnTo>
                <a:lnTo>
                  <a:pt x="21045" y="1052910"/>
                </a:lnTo>
                <a:lnTo>
                  <a:pt x="24618" y="1048941"/>
                </a:lnTo>
                <a:lnTo>
                  <a:pt x="28192" y="1045766"/>
                </a:lnTo>
                <a:lnTo>
                  <a:pt x="33751" y="1041400"/>
                </a:lnTo>
                <a:lnTo>
                  <a:pt x="39310" y="1037432"/>
                </a:lnTo>
                <a:lnTo>
                  <a:pt x="45663" y="1034257"/>
                </a:lnTo>
                <a:lnTo>
                  <a:pt x="52016" y="1031479"/>
                </a:lnTo>
                <a:lnTo>
                  <a:pt x="58369" y="1029097"/>
                </a:lnTo>
                <a:lnTo>
                  <a:pt x="64722" y="1027113"/>
                </a:lnTo>
                <a:lnTo>
                  <a:pt x="71869" y="1025922"/>
                </a:lnTo>
                <a:lnTo>
                  <a:pt x="78619" y="1024732"/>
                </a:lnTo>
                <a:lnTo>
                  <a:pt x="85767" y="1023938"/>
                </a:lnTo>
                <a:lnTo>
                  <a:pt x="92517" y="1023541"/>
                </a:lnTo>
                <a:lnTo>
                  <a:pt x="100061" y="1023938"/>
                </a:lnTo>
                <a:lnTo>
                  <a:pt x="107208" y="1024335"/>
                </a:lnTo>
                <a:lnTo>
                  <a:pt x="114355" y="1024732"/>
                </a:lnTo>
                <a:lnTo>
                  <a:pt x="121503" y="1025922"/>
                </a:lnTo>
                <a:lnTo>
                  <a:pt x="129047" y="1027510"/>
                </a:lnTo>
                <a:lnTo>
                  <a:pt x="136194" y="1029097"/>
                </a:lnTo>
                <a:lnTo>
                  <a:pt x="143341" y="1031082"/>
                </a:lnTo>
                <a:lnTo>
                  <a:pt x="150488" y="1033066"/>
                </a:lnTo>
                <a:lnTo>
                  <a:pt x="157636" y="1035844"/>
                </a:lnTo>
                <a:lnTo>
                  <a:pt x="164783" y="1038622"/>
                </a:lnTo>
                <a:lnTo>
                  <a:pt x="171533" y="1041400"/>
                </a:lnTo>
                <a:lnTo>
                  <a:pt x="177886" y="1044972"/>
                </a:lnTo>
                <a:lnTo>
                  <a:pt x="185033" y="1048544"/>
                </a:lnTo>
                <a:lnTo>
                  <a:pt x="191386" y="1052116"/>
                </a:lnTo>
                <a:lnTo>
                  <a:pt x="197739" y="1055688"/>
                </a:lnTo>
                <a:lnTo>
                  <a:pt x="203695" y="1059657"/>
                </a:lnTo>
                <a:lnTo>
                  <a:pt x="209651" y="1064022"/>
                </a:lnTo>
                <a:lnTo>
                  <a:pt x="215210" y="1067991"/>
                </a:lnTo>
                <a:lnTo>
                  <a:pt x="220769" y="1072754"/>
                </a:lnTo>
                <a:lnTo>
                  <a:pt x="225534" y="1077516"/>
                </a:lnTo>
                <a:lnTo>
                  <a:pt x="230299" y="1081882"/>
                </a:lnTo>
                <a:lnTo>
                  <a:pt x="235064" y="1086644"/>
                </a:lnTo>
                <a:lnTo>
                  <a:pt x="239828" y="1092200"/>
                </a:lnTo>
                <a:lnTo>
                  <a:pt x="244593" y="1097757"/>
                </a:lnTo>
                <a:lnTo>
                  <a:pt x="252932" y="1109663"/>
                </a:lnTo>
                <a:lnTo>
                  <a:pt x="260873" y="1121966"/>
                </a:lnTo>
                <a:lnTo>
                  <a:pt x="268814" y="1135063"/>
                </a:lnTo>
                <a:lnTo>
                  <a:pt x="283903" y="1160463"/>
                </a:lnTo>
                <a:lnTo>
                  <a:pt x="291447" y="1173163"/>
                </a:lnTo>
                <a:lnTo>
                  <a:pt x="299388" y="1185069"/>
                </a:lnTo>
                <a:lnTo>
                  <a:pt x="306139" y="1195785"/>
                </a:lnTo>
                <a:lnTo>
                  <a:pt x="312889" y="1206897"/>
                </a:lnTo>
                <a:lnTo>
                  <a:pt x="327580" y="1230710"/>
                </a:lnTo>
                <a:lnTo>
                  <a:pt x="342272" y="1255713"/>
                </a:lnTo>
                <a:lnTo>
                  <a:pt x="357757" y="1281113"/>
                </a:lnTo>
                <a:lnTo>
                  <a:pt x="365699" y="1293416"/>
                </a:lnTo>
                <a:lnTo>
                  <a:pt x="373640" y="1305719"/>
                </a:lnTo>
                <a:lnTo>
                  <a:pt x="382375" y="1317229"/>
                </a:lnTo>
                <a:lnTo>
                  <a:pt x="390714" y="1328738"/>
                </a:lnTo>
                <a:lnTo>
                  <a:pt x="399846" y="1339454"/>
                </a:lnTo>
                <a:lnTo>
                  <a:pt x="409376" y="1348979"/>
                </a:lnTo>
                <a:lnTo>
                  <a:pt x="418905" y="1358504"/>
                </a:lnTo>
                <a:lnTo>
                  <a:pt x="423670" y="1362472"/>
                </a:lnTo>
                <a:lnTo>
                  <a:pt x="428832" y="1366441"/>
                </a:lnTo>
                <a:lnTo>
                  <a:pt x="437171" y="1372791"/>
                </a:lnTo>
                <a:lnTo>
                  <a:pt x="445112" y="1378744"/>
                </a:lnTo>
                <a:lnTo>
                  <a:pt x="453450" y="1383904"/>
                </a:lnTo>
                <a:lnTo>
                  <a:pt x="462186" y="1388666"/>
                </a:lnTo>
                <a:lnTo>
                  <a:pt x="470921" y="1392635"/>
                </a:lnTo>
                <a:lnTo>
                  <a:pt x="479260" y="1396207"/>
                </a:lnTo>
                <a:lnTo>
                  <a:pt x="488789" y="1399382"/>
                </a:lnTo>
                <a:lnTo>
                  <a:pt x="497525" y="1402160"/>
                </a:lnTo>
                <a:lnTo>
                  <a:pt x="506657" y="1404144"/>
                </a:lnTo>
                <a:lnTo>
                  <a:pt x="516187" y="1405732"/>
                </a:lnTo>
                <a:lnTo>
                  <a:pt x="525716" y="1407319"/>
                </a:lnTo>
                <a:lnTo>
                  <a:pt x="535246" y="1408113"/>
                </a:lnTo>
                <a:lnTo>
                  <a:pt x="545172" y="1408113"/>
                </a:lnTo>
                <a:lnTo>
                  <a:pt x="555099" y="1407716"/>
                </a:lnTo>
                <a:lnTo>
                  <a:pt x="565423" y="1406922"/>
                </a:lnTo>
                <a:lnTo>
                  <a:pt x="575746" y="1404938"/>
                </a:lnTo>
                <a:lnTo>
                  <a:pt x="578923" y="1404541"/>
                </a:lnTo>
                <a:lnTo>
                  <a:pt x="582497" y="1402954"/>
                </a:lnTo>
                <a:lnTo>
                  <a:pt x="586467" y="1401366"/>
                </a:lnTo>
                <a:lnTo>
                  <a:pt x="590041" y="1398985"/>
                </a:lnTo>
                <a:lnTo>
                  <a:pt x="594012" y="1395810"/>
                </a:lnTo>
                <a:lnTo>
                  <a:pt x="597585" y="1392635"/>
                </a:lnTo>
                <a:lnTo>
                  <a:pt x="601556" y="1389460"/>
                </a:lnTo>
                <a:lnTo>
                  <a:pt x="604335" y="1385491"/>
                </a:lnTo>
                <a:lnTo>
                  <a:pt x="609894" y="1379141"/>
                </a:lnTo>
                <a:lnTo>
                  <a:pt x="614659" y="1372394"/>
                </a:lnTo>
                <a:lnTo>
                  <a:pt x="619424" y="1365647"/>
                </a:lnTo>
                <a:lnTo>
                  <a:pt x="623394" y="1358900"/>
                </a:lnTo>
                <a:lnTo>
                  <a:pt x="627762" y="1352154"/>
                </a:lnTo>
                <a:lnTo>
                  <a:pt x="631336" y="1344613"/>
                </a:lnTo>
                <a:lnTo>
                  <a:pt x="634512" y="1337469"/>
                </a:lnTo>
                <a:lnTo>
                  <a:pt x="637292" y="1330325"/>
                </a:lnTo>
                <a:lnTo>
                  <a:pt x="640071" y="1323182"/>
                </a:lnTo>
                <a:lnTo>
                  <a:pt x="642057" y="1315244"/>
                </a:lnTo>
                <a:lnTo>
                  <a:pt x="644042" y="1307704"/>
                </a:lnTo>
                <a:lnTo>
                  <a:pt x="645233" y="1299766"/>
                </a:lnTo>
                <a:lnTo>
                  <a:pt x="646424" y="1291829"/>
                </a:lnTo>
                <a:lnTo>
                  <a:pt x="647218" y="1283891"/>
                </a:lnTo>
                <a:lnTo>
                  <a:pt x="647616" y="1275557"/>
                </a:lnTo>
                <a:lnTo>
                  <a:pt x="648013" y="1267619"/>
                </a:lnTo>
                <a:lnTo>
                  <a:pt x="647616" y="1259682"/>
                </a:lnTo>
                <a:lnTo>
                  <a:pt x="647218" y="1252538"/>
                </a:lnTo>
                <a:lnTo>
                  <a:pt x="646424" y="1245394"/>
                </a:lnTo>
                <a:lnTo>
                  <a:pt x="645233" y="1237457"/>
                </a:lnTo>
                <a:lnTo>
                  <a:pt x="466951" y="280988"/>
                </a:lnTo>
                <a:lnTo>
                  <a:pt x="465362" y="271463"/>
                </a:lnTo>
                <a:lnTo>
                  <a:pt x="464568" y="263128"/>
                </a:lnTo>
                <a:lnTo>
                  <a:pt x="464568" y="254397"/>
                </a:lnTo>
                <a:lnTo>
                  <a:pt x="464965" y="246857"/>
                </a:lnTo>
                <a:lnTo>
                  <a:pt x="465759" y="239316"/>
                </a:lnTo>
                <a:lnTo>
                  <a:pt x="467348" y="232569"/>
                </a:lnTo>
                <a:lnTo>
                  <a:pt x="468936" y="225822"/>
                </a:lnTo>
                <a:lnTo>
                  <a:pt x="471318" y="219869"/>
                </a:lnTo>
                <a:lnTo>
                  <a:pt x="473701" y="214313"/>
                </a:lnTo>
                <a:lnTo>
                  <a:pt x="476480" y="209153"/>
                </a:lnTo>
                <a:lnTo>
                  <a:pt x="479657" y="204391"/>
                </a:lnTo>
                <a:lnTo>
                  <a:pt x="482833" y="199628"/>
                </a:lnTo>
                <a:lnTo>
                  <a:pt x="486407" y="195263"/>
                </a:lnTo>
                <a:lnTo>
                  <a:pt x="490775" y="191691"/>
                </a:lnTo>
                <a:lnTo>
                  <a:pt x="494348" y="188119"/>
                </a:lnTo>
                <a:lnTo>
                  <a:pt x="498319" y="184944"/>
                </a:lnTo>
                <a:lnTo>
                  <a:pt x="502289" y="182166"/>
                </a:lnTo>
                <a:lnTo>
                  <a:pt x="506657" y="179785"/>
                </a:lnTo>
                <a:lnTo>
                  <a:pt x="514201" y="175419"/>
                </a:lnTo>
                <a:lnTo>
                  <a:pt x="522143" y="171450"/>
                </a:lnTo>
                <a:lnTo>
                  <a:pt x="528893" y="169069"/>
                </a:lnTo>
                <a:lnTo>
                  <a:pt x="534849" y="167482"/>
                </a:lnTo>
                <a:lnTo>
                  <a:pt x="539614" y="166291"/>
                </a:lnTo>
                <a:lnTo>
                  <a:pt x="543981" y="165497"/>
                </a:lnTo>
                <a:lnTo>
                  <a:pt x="552320" y="163910"/>
                </a:lnTo>
                <a:lnTo>
                  <a:pt x="561055" y="162719"/>
                </a:lnTo>
                <a:lnTo>
                  <a:pt x="569393" y="162322"/>
                </a:lnTo>
                <a:lnTo>
                  <a:pt x="577732" y="161925"/>
                </a:lnTo>
                <a:close/>
                <a:moveTo>
                  <a:pt x="576263" y="0"/>
                </a:moveTo>
                <a:lnTo>
                  <a:pt x="594539" y="397"/>
                </a:lnTo>
                <a:lnTo>
                  <a:pt x="612419" y="1589"/>
                </a:lnTo>
                <a:lnTo>
                  <a:pt x="630298" y="3973"/>
                </a:lnTo>
                <a:lnTo>
                  <a:pt x="647780" y="7151"/>
                </a:lnTo>
                <a:lnTo>
                  <a:pt x="664864" y="10727"/>
                </a:lnTo>
                <a:lnTo>
                  <a:pt x="681551" y="15098"/>
                </a:lnTo>
                <a:lnTo>
                  <a:pt x="697841" y="20263"/>
                </a:lnTo>
                <a:lnTo>
                  <a:pt x="714131" y="26620"/>
                </a:lnTo>
                <a:lnTo>
                  <a:pt x="729626" y="33374"/>
                </a:lnTo>
                <a:lnTo>
                  <a:pt x="745122" y="41321"/>
                </a:lnTo>
                <a:lnTo>
                  <a:pt x="759822" y="50062"/>
                </a:lnTo>
                <a:lnTo>
                  <a:pt x="774920" y="59200"/>
                </a:lnTo>
                <a:lnTo>
                  <a:pt x="788826" y="69530"/>
                </a:lnTo>
                <a:lnTo>
                  <a:pt x="803130" y="80655"/>
                </a:lnTo>
                <a:lnTo>
                  <a:pt x="816638" y="92575"/>
                </a:lnTo>
                <a:lnTo>
                  <a:pt x="830147" y="105289"/>
                </a:lnTo>
                <a:lnTo>
                  <a:pt x="842464" y="118798"/>
                </a:lnTo>
                <a:lnTo>
                  <a:pt x="854780" y="132307"/>
                </a:lnTo>
                <a:lnTo>
                  <a:pt x="865508" y="146610"/>
                </a:lnTo>
                <a:lnTo>
                  <a:pt x="876235" y="160516"/>
                </a:lnTo>
                <a:lnTo>
                  <a:pt x="885374" y="175615"/>
                </a:lnTo>
                <a:lnTo>
                  <a:pt x="894115" y="190315"/>
                </a:lnTo>
                <a:lnTo>
                  <a:pt x="901664" y="205811"/>
                </a:lnTo>
                <a:lnTo>
                  <a:pt x="908815" y="221306"/>
                </a:lnTo>
                <a:lnTo>
                  <a:pt x="915172" y="237596"/>
                </a:lnTo>
                <a:lnTo>
                  <a:pt x="920337" y="253886"/>
                </a:lnTo>
                <a:lnTo>
                  <a:pt x="924708" y="270574"/>
                </a:lnTo>
                <a:lnTo>
                  <a:pt x="928284" y="287658"/>
                </a:lnTo>
                <a:lnTo>
                  <a:pt x="931462" y="304743"/>
                </a:lnTo>
                <a:lnTo>
                  <a:pt x="933449" y="322622"/>
                </a:lnTo>
                <a:lnTo>
                  <a:pt x="934641" y="340502"/>
                </a:lnTo>
                <a:lnTo>
                  <a:pt x="935038" y="359175"/>
                </a:lnTo>
                <a:lnTo>
                  <a:pt x="934641" y="377452"/>
                </a:lnTo>
                <a:lnTo>
                  <a:pt x="933449" y="395331"/>
                </a:lnTo>
                <a:lnTo>
                  <a:pt x="931462" y="413211"/>
                </a:lnTo>
                <a:lnTo>
                  <a:pt x="928284" y="430693"/>
                </a:lnTo>
                <a:lnTo>
                  <a:pt x="924708" y="447777"/>
                </a:lnTo>
                <a:lnTo>
                  <a:pt x="920337" y="464465"/>
                </a:lnTo>
                <a:lnTo>
                  <a:pt x="915172" y="480755"/>
                </a:lnTo>
                <a:lnTo>
                  <a:pt x="908815" y="496647"/>
                </a:lnTo>
                <a:lnTo>
                  <a:pt x="901664" y="512540"/>
                </a:lnTo>
                <a:lnTo>
                  <a:pt x="894115" y="527638"/>
                </a:lnTo>
                <a:lnTo>
                  <a:pt x="885374" y="543134"/>
                </a:lnTo>
                <a:lnTo>
                  <a:pt x="876235" y="557437"/>
                </a:lnTo>
                <a:lnTo>
                  <a:pt x="865508" y="572138"/>
                </a:lnTo>
                <a:lnTo>
                  <a:pt x="854780" y="585647"/>
                </a:lnTo>
                <a:lnTo>
                  <a:pt x="842464" y="599553"/>
                </a:lnTo>
                <a:lnTo>
                  <a:pt x="830147" y="612664"/>
                </a:lnTo>
                <a:lnTo>
                  <a:pt x="830147" y="613061"/>
                </a:lnTo>
                <a:lnTo>
                  <a:pt x="822201" y="620611"/>
                </a:lnTo>
                <a:lnTo>
                  <a:pt x="813857" y="628160"/>
                </a:lnTo>
                <a:lnTo>
                  <a:pt x="805911" y="634914"/>
                </a:lnTo>
                <a:lnTo>
                  <a:pt x="797964" y="641668"/>
                </a:lnTo>
                <a:lnTo>
                  <a:pt x="791607" y="619419"/>
                </a:lnTo>
                <a:lnTo>
                  <a:pt x="785250" y="597963"/>
                </a:lnTo>
                <a:lnTo>
                  <a:pt x="778496" y="576111"/>
                </a:lnTo>
                <a:lnTo>
                  <a:pt x="771344" y="553861"/>
                </a:lnTo>
                <a:lnTo>
                  <a:pt x="780880" y="543928"/>
                </a:lnTo>
                <a:lnTo>
                  <a:pt x="790018" y="533201"/>
                </a:lnTo>
                <a:lnTo>
                  <a:pt x="798759" y="522473"/>
                </a:lnTo>
                <a:lnTo>
                  <a:pt x="806705" y="511745"/>
                </a:lnTo>
                <a:lnTo>
                  <a:pt x="813857" y="500223"/>
                </a:lnTo>
                <a:lnTo>
                  <a:pt x="820611" y="488701"/>
                </a:lnTo>
                <a:lnTo>
                  <a:pt x="826571" y="476782"/>
                </a:lnTo>
                <a:lnTo>
                  <a:pt x="831736" y="464862"/>
                </a:lnTo>
                <a:lnTo>
                  <a:pt x="836504" y="452545"/>
                </a:lnTo>
                <a:lnTo>
                  <a:pt x="840477" y="439831"/>
                </a:lnTo>
                <a:lnTo>
                  <a:pt x="844053" y="427117"/>
                </a:lnTo>
                <a:lnTo>
                  <a:pt x="846834" y="414005"/>
                </a:lnTo>
                <a:lnTo>
                  <a:pt x="849218" y="400894"/>
                </a:lnTo>
                <a:lnTo>
                  <a:pt x="850807" y="386988"/>
                </a:lnTo>
                <a:lnTo>
                  <a:pt x="851602" y="373479"/>
                </a:lnTo>
                <a:lnTo>
                  <a:pt x="851999" y="359175"/>
                </a:lnTo>
                <a:lnTo>
                  <a:pt x="851602" y="344872"/>
                </a:lnTo>
                <a:lnTo>
                  <a:pt x="850807" y="330966"/>
                </a:lnTo>
                <a:lnTo>
                  <a:pt x="849218" y="317457"/>
                </a:lnTo>
                <a:lnTo>
                  <a:pt x="846834" y="303948"/>
                </a:lnTo>
                <a:lnTo>
                  <a:pt x="844053" y="291234"/>
                </a:lnTo>
                <a:lnTo>
                  <a:pt x="840477" y="278123"/>
                </a:lnTo>
                <a:lnTo>
                  <a:pt x="836504" y="265806"/>
                </a:lnTo>
                <a:lnTo>
                  <a:pt x="831736" y="253092"/>
                </a:lnTo>
                <a:lnTo>
                  <a:pt x="826571" y="241172"/>
                </a:lnTo>
                <a:lnTo>
                  <a:pt x="820611" y="229253"/>
                </a:lnTo>
                <a:lnTo>
                  <a:pt x="813460" y="217730"/>
                </a:lnTo>
                <a:lnTo>
                  <a:pt x="806308" y="206605"/>
                </a:lnTo>
                <a:lnTo>
                  <a:pt x="798759" y="195481"/>
                </a:lnTo>
                <a:lnTo>
                  <a:pt x="789621" y="185150"/>
                </a:lnTo>
                <a:lnTo>
                  <a:pt x="780880" y="174820"/>
                </a:lnTo>
                <a:lnTo>
                  <a:pt x="770947" y="164092"/>
                </a:lnTo>
                <a:lnTo>
                  <a:pt x="760617" y="154556"/>
                </a:lnTo>
                <a:lnTo>
                  <a:pt x="750287" y="145021"/>
                </a:lnTo>
                <a:lnTo>
                  <a:pt x="739559" y="136677"/>
                </a:lnTo>
                <a:lnTo>
                  <a:pt x="728434" y="129128"/>
                </a:lnTo>
                <a:lnTo>
                  <a:pt x="717310" y="121976"/>
                </a:lnTo>
                <a:lnTo>
                  <a:pt x="705788" y="114825"/>
                </a:lnTo>
                <a:lnTo>
                  <a:pt x="693868" y="108865"/>
                </a:lnTo>
                <a:lnTo>
                  <a:pt x="682346" y="103700"/>
                </a:lnTo>
                <a:lnTo>
                  <a:pt x="669632" y="98932"/>
                </a:lnTo>
                <a:lnTo>
                  <a:pt x="657315" y="94959"/>
                </a:lnTo>
                <a:lnTo>
                  <a:pt x="644204" y="91383"/>
                </a:lnTo>
                <a:lnTo>
                  <a:pt x="631490" y="88204"/>
                </a:lnTo>
                <a:lnTo>
                  <a:pt x="617584" y="86218"/>
                </a:lnTo>
                <a:lnTo>
                  <a:pt x="604472" y="84628"/>
                </a:lnTo>
                <a:lnTo>
                  <a:pt x="590169" y="83436"/>
                </a:lnTo>
                <a:lnTo>
                  <a:pt x="576263" y="83436"/>
                </a:lnTo>
                <a:lnTo>
                  <a:pt x="561960" y="83436"/>
                </a:lnTo>
                <a:lnTo>
                  <a:pt x="548451" y="84628"/>
                </a:lnTo>
                <a:lnTo>
                  <a:pt x="534545" y="86218"/>
                </a:lnTo>
                <a:lnTo>
                  <a:pt x="521434" y="88204"/>
                </a:lnTo>
                <a:lnTo>
                  <a:pt x="507925" y="91383"/>
                </a:lnTo>
                <a:lnTo>
                  <a:pt x="495211" y="94959"/>
                </a:lnTo>
                <a:lnTo>
                  <a:pt x="482497" y="98932"/>
                </a:lnTo>
                <a:lnTo>
                  <a:pt x="470578" y="103700"/>
                </a:lnTo>
                <a:lnTo>
                  <a:pt x="458658" y="108865"/>
                </a:lnTo>
                <a:lnTo>
                  <a:pt x="446341" y="114825"/>
                </a:lnTo>
                <a:lnTo>
                  <a:pt x="435217" y="121976"/>
                </a:lnTo>
                <a:lnTo>
                  <a:pt x="423694" y="129128"/>
                </a:lnTo>
                <a:lnTo>
                  <a:pt x="412967" y="136677"/>
                </a:lnTo>
                <a:lnTo>
                  <a:pt x="401842" y="145021"/>
                </a:lnTo>
                <a:lnTo>
                  <a:pt x="391512" y="154556"/>
                </a:lnTo>
                <a:lnTo>
                  <a:pt x="381579" y="164092"/>
                </a:lnTo>
                <a:lnTo>
                  <a:pt x="381182" y="164092"/>
                </a:lnTo>
                <a:lnTo>
                  <a:pt x="371249" y="174820"/>
                </a:lnTo>
                <a:lnTo>
                  <a:pt x="362111" y="185150"/>
                </a:lnTo>
                <a:lnTo>
                  <a:pt x="353767" y="195481"/>
                </a:lnTo>
                <a:lnTo>
                  <a:pt x="345821" y="207003"/>
                </a:lnTo>
                <a:lnTo>
                  <a:pt x="338669" y="218128"/>
                </a:lnTo>
                <a:lnTo>
                  <a:pt x="331915" y="229253"/>
                </a:lnTo>
                <a:lnTo>
                  <a:pt x="325955" y="241172"/>
                </a:lnTo>
                <a:lnTo>
                  <a:pt x="320790" y="253092"/>
                </a:lnTo>
                <a:lnTo>
                  <a:pt x="315625" y="265806"/>
                </a:lnTo>
                <a:lnTo>
                  <a:pt x="311652" y="278123"/>
                </a:lnTo>
                <a:lnTo>
                  <a:pt x="308473" y="291234"/>
                </a:lnTo>
                <a:lnTo>
                  <a:pt x="305692" y="303948"/>
                </a:lnTo>
                <a:lnTo>
                  <a:pt x="303308" y="317457"/>
                </a:lnTo>
                <a:lnTo>
                  <a:pt x="301719" y="330966"/>
                </a:lnTo>
                <a:lnTo>
                  <a:pt x="300924" y="345269"/>
                </a:lnTo>
                <a:lnTo>
                  <a:pt x="300527" y="359175"/>
                </a:lnTo>
                <a:lnTo>
                  <a:pt x="300924" y="373479"/>
                </a:lnTo>
                <a:lnTo>
                  <a:pt x="301719" y="386988"/>
                </a:lnTo>
                <a:lnTo>
                  <a:pt x="303308" y="400894"/>
                </a:lnTo>
                <a:lnTo>
                  <a:pt x="305692" y="414005"/>
                </a:lnTo>
                <a:lnTo>
                  <a:pt x="308473" y="427514"/>
                </a:lnTo>
                <a:lnTo>
                  <a:pt x="311652" y="440228"/>
                </a:lnTo>
                <a:lnTo>
                  <a:pt x="315625" y="452545"/>
                </a:lnTo>
                <a:lnTo>
                  <a:pt x="320790" y="464862"/>
                </a:lnTo>
                <a:lnTo>
                  <a:pt x="325955" y="476782"/>
                </a:lnTo>
                <a:lnTo>
                  <a:pt x="331915" y="489098"/>
                </a:lnTo>
                <a:lnTo>
                  <a:pt x="338669" y="500223"/>
                </a:lnTo>
                <a:lnTo>
                  <a:pt x="345821" y="511745"/>
                </a:lnTo>
                <a:lnTo>
                  <a:pt x="353767" y="522870"/>
                </a:lnTo>
                <a:lnTo>
                  <a:pt x="362111" y="533201"/>
                </a:lnTo>
                <a:lnTo>
                  <a:pt x="371249" y="543928"/>
                </a:lnTo>
                <a:lnTo>
                  <a:pt x="381182" y="554258"/>
                </a:lnTo>
                <a:lnTo>
                  <a:pt x="387539" y="560218"/>
                </a:lnTo>
                <a:lnTo>
                  <a:pt x="393896" y="566575"/>
                </a:lnTo>
                <a:lnTo>
                  <a:pt x="400650" y="572138"/>
                </a:lnTo>
                <a:lnTo>
                  <a:pt x="407405" y="577700"/>
                </a:lnTo>
                <a:lnTo>
                  <a:pt x="414159" y="582468"/>
                </a:lnTo>
                <a:lnTo>
                  <a:pt x="420913" y="587633"/>
                </a:lnTo>
                <a:lnTo>
                  <a:pt x="428065" y="592401"/>
                </a:lnTo>
                <a:lnTo>
                  <a:pt x="435614" y="597169"/>
                </a:lnTo>
                <a:lnTo>
                  <a:pt x="442368" y="601142"/>
                </a:lnTo>
                <a:lnTo>
                  <a:pt x="449917" y="605115"/>
                </a:lnTo>
                <a:lnTo>
                  <a:pt x="457069" y="608691"/>
                </a:lnTo>
                <a:lnTo>
                  <a:pt x="465015" y="612267"/>
                </a:lnTo>
                <a:lnTo>
                  <a:pt x="472564" y="615445"/>
                </a:lnTo>
                <a:lnTo>
                  <a:pt x="480113" y="618227"/>
                </a:lnTo>
                <a:lnTo>
                  <a:pt x="488457" y="621008"/>
                </a:lnTo>
                <a:lnTo>
                  <a:pt x="496403" y="623789"/>
                </a:lnTo>
                <a:lnTo>
                  <a:pt x="498787" y="634914"/>
                </a:lnTo>
                <a:lnTo>
                  <a:pt x="501171" y="645642"/>
                </a:lnTo>
                <a:lnTo>
                  <a:pt x="505541" y="667891"/>
                </a:lnTo>
                <a:lnTo>
                  <a:pt x="508720" y="690141"/>
                </a:lnTo>
                <a:lnTo>
                  <a:pt x="511501" y="712788"/>
                </a:lnTo>
                <a:lnTo>
                  <a:pt x="498390" y="710404"/>
                </a:lnTo>
                <a:lnTo>
                  <a:pt x="484881" y="707226"/>
                </a:lnTo>
                <a:lnTo>
                  <a:pt x="472167" y="703253"/>
                </a:lnTo>
                <a:lnTo>
                  <a:pt x="459453" y="699279"/>
                </a:lnTo>
                <a:lnTo>
                  <a:pt x="446739" y="694909"/>
                </a:lnTo>
                <a:lnTo>
                  <a:pt x="434819" y="690141"/>
                </a:lnTo>
                <a:lnTo>
                  <a:pt x="422503" y="684579"/>
                </a:lnTo>
                <a:lnTo>
                  <a:pt x="410583" y="678619"/>
                </a:lnTo>
                <a:lnTo>
                  <a:pt x="398664" y="671864"/>
                </a:lnTo>
                <a:lnTo>
                  <a:pt x="387142" y="665110"/>
                </a:lnTo>
                <a:lnTo>
                  <a:pt x="376017" y="657561"/>
                </a:lnTo>
                <a:lnTo>
                  <a:pt x="364892" y="649615"/>
                </a:lnTo>
                <a:lnTo>
                  <a:pt x="354164" y="641271"/>
                </a:lnTo>
                <a:lnTo>
                  <a:pt x="343040" y="632133"/>
                </a:lnTo>
                <a:lnTo>
                  <a:pt x="332709" y="622994"/>
                </a:lnTo>
                <a:lnTo>
                  <a:pt x="322379" y="612664"/>
                </a:lnTo>
                <a:lnTo>
                  <a:pt x="309665" y="599553"/>
                </a:lnTo>
                <a:lnTo>
                  <a:pt x="297746" y="585647"/>
                </a:lnTo>
                <a:lnTo>
                  <a:pt x="286621" y="572138"/>
                </a:lnTo>
                <a:lnTo>
                  <a:pt x="276291" y="557437"/>
                </a:lnTo>
                <a:lnTo>
                  <a:pt x="267153" y="543134"/>
                </a:lnTo>
                <a:lnTo>
                  <a:pt x="258412" y="527638"/>
                </a:lnTo>
                <a:lnTo>
                  <a:pt x="250465" y="512540"/>
                </a:lnTo>
                <a:lnTo>
                  <a:pt x="243711" y="496647"/>
                </a:lnTo>
                <a:lnTo>
                  <a:pt x="237751" y="480755"/>
                </a:lnTo>
                <a:lnTo>
                  <a:pt x="231792" y="464465"/>
                </a:lnTo>
                <a:lnTo>
                  <a:pt x="227421" y="447777"/>
                </a:lnTo>
                <a:lnTo>
                  <a:pt x="223845" y="430693"/>
                </a:lnTo>
                <a:lnTo>
                  <a:pt x="221064" y="413211"/>
                </a:lnTo>
                <a:lnTo>
                  <a:pt x="219078" y="395331"/>
                </a:lnTo>
                <a:lnTo>
                  <a:pt x="217886" y="377452"/>
                </a:lnTo>
                <a:lnTo>
                  <a:pt x="217488" y="359175"/>
                </a:lnTo>
                <a:lnTo>
                  <a:pt x="217886" y="340502"/>
                </a:lnTo>
                <a:lnTo>
                  <a:pt x="219078" y="322622"/>
                </a:lnTo>
                <a:lnTo>
                  <a:pt x="221064" y="304743"/>
                </a:lnTo>
                <a:lnTo>
                  <a:pt x="223845" y="287658"/>
                </a:lnTo>
                <a:lnTo>
                  <a:pt x="227421" y="270574"/>
                </a:lnTo>
                <a:lnTo>
                  <a:pt x="231792" y="253886"/>
                </a:lnTo>
                <a:lnTo>
                  <a:pt x="237751" y="237596"/>
                </a:lnTo>
                <a:lnTo>
                  <a:pt x="243711" y="221306"/>
                </a:lnTo>
                <a:lnTo>
                  <a:pt x="250465" y="205811"/>
                </a:lnTo>
                <a:lnTo>
                  <a:pt x="258412" y="190315"/>
                </a:lnTo>
                <a:lnTo>
                  <a:pt x="267153" y="175615"/>
                </a:lnTo>
                <a:lnTo>
                  <a:pt x="276291" y="160516"/>
                </a:lnTo>
                <a:lnTo>
                  <a:pt x="286621" y="146610"/>
                </a:lnTo>
                <a:lnTo>
                  <a:pt x="297746" y="132307"/>
                </a:lnTo>
                <a:lnTo>
                  <a:pt x="309665" y="118798"/>
                </a:lnTo>
                <a:lnTo>
                  <a:pt x="322379" y="105289"/>
                </a:lnTo>
                <a:lnTo>
                  <a:pt x="335491" y="92575"/>
                </a:lnTo>
                <a:lnTo>
                  <a:pt x="349397" y="80655"/>
                </a:lnTo>
                <a:lnTo>
                  <a:pt x="363303" y="69530"/>
                </a:lnTo>
                <a:lnTo>
                  <a:pt x="378003" y="59200"/>
                </a:lnTo>
                <a:lnTo>
                  <a:pt x="392307" y="50062"/>
                </a:lnTo>
                <a:lnTo>
                  <a:pt x="407405" y="41321"/>
                </a:lnTo>
                <a:lnTo>
                  <a:pt x="422900" y="33374"/>
                </a:lnTo>
                <a:lnTo>
                  <a:pt x="438395" y="26620"/>
                </a:lnTo>
                <a:lnTo>
                  <a:pt x="454288" y="20263"/>
                </a:lnTo>
                <a:lnTo>
                  <a:pt x="470975" y="15098"/>
                </a:lnTo>
                <a:lnTo>
                  <a:pt x="487662" y="10727"/>
                </a:lnTo>
                <a:lnTo>
                  <a:pt x="504747" y="7151"/>
                </a:lnTo>
                <a:lnTo>
                  <a:pt x="522228" y="3973"/>
                </a:lnTo>
                <a:lnTo>
                  <a:pt x="539710" y="1589"/>
                </a:lnTo>
                <a:lnTo>
                  <a:pt x="557589" y="397"/>
                </a:lnTo>
                <a:lnTo>
                  <a:pt x="576263" y="0"/>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Tree>
  </p:cSld>
  <p:transition>
    <p:push dir="u"/>
  </p:transition>
  <p:timing>
    <p:tnLst>
      <p:par>
        <p:cTn id="211" dur="indefinite" restart="never" nodeType="tmRoot">
          <p:childTnLst>
            <p:seq>
              <p:cTn id="212" restart="whenNotActive" nodeType="interactiveSeq" fill="hold">
                <p:stCondLst>
                  <p:cond evt="onClick">
                    <p:tgtEl>
                      <p:spTgt spid="164"/>
                    </p:tgtEl>
                  </p:cond>
                </p:stCondLst>
                <p:childTnLst>
                  <p:par>
                    <p:cTn id="213" fill="hold">
                      <p:stCondLst>
                        <p:cond evt="onClick">
                          <p:tgtEl>
                            <p:spTgt spid="164"/>
                          </p:tgtEl>
                        </p:cond>
                      </p:stCondLst>
                      <p:childTnLst>
                        <p:par>
                          <p:cTn id="214" fill="hold">
                            <p:stCondLst>
                              <p:cond delay="0"/>
                            </p:stCondLst>
                            <p:childTnLst>
                              <p:par>
                                <p:cTn id="215" dur="indefinite" nodeType="clickEffect" fill="hold" presetClass="mediacall" presetID="2">
                                  <p:stCondLst>
                                    <p:cond delay="0"/>
                                  </p:stCondLst>
                                  <p:childTnLst>
                                    <p:cmd type="call" cmd="togglePause">
                                      <p:cBhvr>
                                        <p:cTn id="216"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tgtEl>
                      <p:spTgt spid="165"/>
                    </p:tgtEl>
                  </p:cond>
                </p:stCondLst>
                <p:childTnLst>
                  <p:par>
                    <p:cTn id="218" fill="hold">
                      <p:stCondLst>
                        <p:cond evt="onClick">
                          <p:tgtEl>
                            <p:spTgt spid="165"/>
                          </p:tgtEl>
                        </p:cond>
                      </p:stCondLst>
                      <p:childTnLst>
                        <p:par>
                          <p:cTn id="219" fill="hold">
                            <p:stCondLst>
                              <p:cond delay="0"/>
                            </p:stCondLst>
                            <p:childTnLst>
                              <p:par>
                                <p:cTn id="220" dur="indefinite" nodeType="clickEffect" fill="hold" presetClass="mediacall" presetID="2">
                                  <p:stCondLst>
                                    <p:cond delay="0"/>
                                  </p:stCondLst>
                                  <p:childTnLst>
                                    <p:cmd type="call" cmd="togglePause">
                                      <p:cBhvr>
                                        <p:cTn id="221" dur="1"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组合 9"/>
          <p:cNvGrpSpPr/>
          <p:nvPr/>
        </p:nvGrpSpPr>
        <p:grpSpPr>
          <a:xfrm>
            <a:off x="642960" y="1751040"/>
            <a:ext cx="4595760" cy="3411720"/>
            <a:chOff x="642960" y="1751040"/>
            <a:chExt cx="4595760" cy="3411720"/>
          </a:xfrm>
        </p:grpSpPr>
        <p:sp>
          <p:nvSpPr>
            <p:cNvPr id="169" name="文本框 10"/>
            <p:cNvSpPr/>
            <p:nvPr/>
          </p:nvSpPr>
          <p:spPr>
            <a:xfrm>
              <a:off x="834840" y="1751040"/>
              <a:ext cx="4211640" cy="520560"/>
            </a:xfrm>
            <a:prstGeom prst="rect">
              <a:avLst/>
            </a:prstGeom>
            <a:solidFill>
              <a:srgbClr val="3d735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a:t>
              </a:r>
              <a:endParaRPr b="0" lang="en-US" sz="2800" spc="-1" strike="noStrike">
                <a:solidFill>
                  <a:srgbClr val="000000"/>
                </a:solidFill>
                <a:latin typeface="等线"/>
              </a:endParaRPr>
            </a:p>
          </p:txBody>
        </p:sp>
        <p:sp>
          <p:nvSpPr>
            <p:cNvPr id="170" name="矩形 11"/>
            <p:cNvSpPr/>
            <p:nvPr/>
          </p:nvSpPr>
          <p:spPr>
            <a:xfrm>
              <a:off x="642960" y="2502360"/>
              <a:ext cx="4595760" cy="266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t>
              </a:r>
              <a:endParaRPr b="0" lang="en-US" sz="2000" spc="-1" strike="noStrike">
                <a:solidFill>
                  <a:srgbClr val="000000"/>
                </a:solidFill>
                <a:latin typeface="等线"/>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等线"/>
                </a:rPr>
                <a:t>The part between the center and back part of the tongue is raised in the open position. The tip of the tongue is retracted from the lower teeth. The tongue almost lies flat in the mouth. The mouth is widely open and the lips are neutrally open. </a:t>
              </a:r>
              <a:endParaRPr b="0" lang="en-US" sz="2000" spc="-1" strike="noStrike">
                <a:solidFill>
                  <a:srgbClr val="000000"/>
                </a:solidFill>
                <a:latin typeface="等线"/>
              </a:endParaRPr>
            </a:p>
          </p:txBody>
        </p:sp>
      </p:grpSp>
      <p:sp>
        <p:nvSpPr>
          <p:cNvPr id="171" name="矩形 21"/>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172" name="组合 22" descr=""/>
          <p:cNvPicPr/>
          <p:nvPr/>
        </p:nvPicPr>
        <p:blipFill>
          <a:blip r:embed="rId1"/>
          <a:stretch/>
        </p:blipFill>
        <p:spPr>
          <a:xfrm>
            <a:off x="237960" y="206280"/>
            <a:ext cx="578160" cy="576360"/>
          </a:xfrm>
          <a:prstGeom prst="rect">
            <a:avLst/>
          </a:prstGeom>
          <a:ln w="0">
            <a:noFill/>
          </a:ln>
        </p:spPr>
      </p:pic>
      <p:sp>
        <p:nvSpPr>
          <p:cNvPr id="173" name="文本框 25"/>
          <p:cNvSpPr/>
          <p:nvPr/>
        </p:nvSpPr>
        <p:spPr>
          <a:xfrm>
            <a:off x="964800" y="212760"/>
            <a:ext cx="767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Pronunciation of Each Back Vowel (3)</a:t>
            </a:r>
            <a:endParaRPr b="0" lang="en-US" sz="3200" spc="-1" strike="noStrike">
              <a:solidFill>
                <a:srgbClr val="000000"/>
              </a:solidFill>
              <a:latin typeface="等线"/>
            </a:endParaRPr>
          </a:p>
        </p:txBody>
      </p:sp>
      <p:pic>
        <p:nvPicPr>
          <p:cNvPr id="174" name="图片 4" descr=""/>
          <p:cNvPicPr/>
          <p:nvPr/>
        </p:nvPicPr>
        <p:blipFill>
          <a:blip r:embed="rId2"/>
          <a:stretch/>
        </p:blipFill>
        <p:spPr>
          <a:xfrm>
            <a:off x="6235560" y="3919680"/>
            <a:ext cx="4984920" cy="2714400"/>
          </a:xfrm>
          <a:prstGeom prst="rect">
            <a:avLst/>
          </a:prstGeom>
          <a:ln w="0">
            <a:noFill/>
          </a:ln>
        </p:spPr>
      </p:pic>
      <p:graphicFrame>
        <p:nvGraphicFramePr>
          <p:cNvPr id="175" name=""/>
          <p:cNvGraphicFramePr/>
          <p:nvPr/>
        </p:nvGraphicFramePr>
        <p:xfrm>
          <a:off x="6235560" y="1312920"/>
          <a:ext cx="4984920" cy="2450880"/>
        </p:xfrm>
        <a:graphic>
          <a:graphicData uri="http://schemas.openxmlformats.org/drawingml/2006/table">
            <a:tbl>
              <a:tblPr/>
              <a:tblGrid>
                <a:gridCol w="2492280"/>
                <a:gridCol w="2492640"/>
              </a:tblGrid>
              <a:tr h="420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ea typeface="宋体"/>
                        </a:rPr>
                        <a:t>/</a:t>
                      </a:r>
                      <a:r>
                        <a:rPr b="1" lang="el-GR" sz="2000" spc="-1" strike="noStrike">
                          <a:solidFill>
                            <a:srgbClr val="ffffff"/>
                          </a:solidFill>
                          <a:latin typeface="Calibri"/>
                        </a:rPr>
                        <a:t>Λ</a:t>
                      </a:r>
                      <a:r>
                        <a:rPr b="1" lang="en-US" sz="1800" spc="-1" strike="noStrike">
                          <a:solidFill>
                            <a:srgbClr val="ffffff"/>
                          </a:solidFill>
                          <a:latin typeface="Century Gothic"/>
                          <a:ea typeface="宋体"/>
                        </a:rPr>
                        <a: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cd43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ea typeface="宋体"/>
                        </a:rPr>
                        <a:t>/</a:t>
                      </a:r>
                      <a:r>
                        <a:rPr b="1" lang="en-US" sz="2000" spc="-1" strike="noStrike">
                          <a:solidFill>
                            <a:srgbClr val="ffffff"/>
                          </a:solidFill>
                          <a:latin typeface="Century Gothic"/>
                          <a:ea typeface="宋体"/>
                        </a:rPr>
                        <a:t>a:</a:t>
                      </a:r>
                      <a:r>
                        <a:rPr b="1" lang="en-US" sz="1800" spc="-1" strike="noStrike">
                          <a:solidFill>
                            <a:srgbClr val="ffffff"/>
                          </a:solidFill>
                          <a:latin typeface="Century Gothic"/>
                          <a:ea typeface="宋体"/>
                        </a:rPr>
                        <a: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cd433"/>
                    </a:solidFill>
                  </a:tcPr>
                </a:tc>
              </a:tr>
              <a:tr h="4046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hu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3efc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hear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3efcd"/>
                    </a:solidFill>
                  </a:tcPr>
                </a:tc>
              </a:tr>
              <a:tr h="406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luck</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lark</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r>
              <a:tr h="406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cu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3efc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car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3efcd"/>
                    </a:solidFill>
                  </a:tcPr>
                </a:tc>
              </a:tr>
              <a:tr h="406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duck</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dark</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r>
              <a:tr h="406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much</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3efc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march</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3efcd"/>
                    </a:solidFill>
                  </a:tcPr>
                </a:tc>
              </a:tr>
            </a:tbl>
          </a:graphicData>
        </a:graphic>
      </p:graphicFrame>
    </p:spTree>
  </p:cSld>
  <p:transition>
    <p:push dir="u"/>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dur="indefinite" nodeType="clickEffect" fill="hold" presetClass="entr" presetID="2" presetSubtype="4">
                                  <p:stCondLst>
                                    <p:cond delay="0"/>
                                  </p:stCondLst>
                                  <p:childTnLst>
                                    <p:set>
                                      <p:cBhvr>
                                        <p:cTn id="227" dur="1" fill="hold">
                                          <p:stCondLst>
                                            <p:cond delay="0"/>
                                          </p:stCondLst>
                                        </p:cTn>
                                        <p:tgtEl>
                                          <p:spTgt spid="168"/>
                                        </p:tgtEl>
                                        <p:attrNameLst>
                                          <p:attrName>style.visibility</p:attrName>
                                        </p:attrNameLst>
                                      </p:cBhvr>
                                      <p:to>
                                        <p:strVal val="visible"/>
                                      </p:to>
                                    </p:set>
                                    <p:anim calcmode="lin" valueType="num">
                                      <p:cBhvr additive="repl">
                                        <p:cTn id="228" dur="500" fill="hold"/>
                                        <p:tgtEl>
                                          <p:spTgt spid="168"/>
                                        </p:tgtEl>
                                        <p:attrNameLst>
                                          <p:attrName>ppt_x</p:attrName>
                                        </p:attrNameLst>
                                      </p:cBhvr>
                                      <p:tavLst>
                                        <p:tav tm="0">
                                          <p:val>
                                            <p:strVal val="#ppt_x"/>
                                          </p:val>
                                        </p:tav>
                                        <p:tav tm="100000">
                                          <p:val>
                                            <p:strVal val="#ppt_x"/>
                                          </p:val>
                                        </p:tav>
                                      </p:tavLst>
                                    </p:anim>
                                    <p:anim calcmode="lin" valueType="num">
                                      <p:cBhvr additive="repl">
                                        <p:cTn id="22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 presetSubtype="4">
                                  <p:stCondLst>
                                    <p:cond delay="0"/>
                                  </p:stCondLst>
                                  <p:childTnLst>
                                    <p:set>
                                      <p:cBhvr>
                                        <p:cTn id="233" dur="1" fill="hold">
                                          <p:stCondLst>
                                            <p:cond delay="0"/>
                                          </p:stCondLst>
                                        </p:cTn>
                                        <p:tgtEl>
                                          <p:spTgt spid="175"/>
                                        </p:tgtEl>
                                        <p:attrNameLst>
                                          <p:attrName>style.visibility</p:attrName>
                                        </p:attrNameLst>
                                      </p:cBhvr>
                                      <p:to>
                                        <p:strVal val="visible"/>
                                      </p:to>
                                    </p:set>
                                    <p:anim calcmode="lin" valueType="num">
                                      <p:cBhvr additive="repl">
                                        <p:cTn id="234" dur="500" fill="hold"/>
                                        <p:tgtEl>
                                          <p:spTgt spid="175"/>
                                        </p:tgtEl>
                                        <p:attrNameLst>
                                          <p:attrName>ppt_x</p:attrName>
                                        </p:attrNameLst>
                                      </p:cBhvr>
                                      <p:tavLst>
                                        <p:tav tm="0">
                                          <p:val>
                                            <p:strVal val="#ppt_x"/>
                                          </p:val>
                                        </p:tav>
                                        <p:tav tm="100000">
                                          <p:val>
                                            <p:strVal val="#ppt_x"/>
                                          </p:val>
                                        </p:tav>
                                      </p:tavLst>
                                    </p:anim>
                                    <p:anim calcmode="lin" valueType="num">
                                      <p:cBhvr additive="repl">
                                        <p:cTn id="235"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2" presetSubtype="4">
                                  <p:stCondLst>
                                    <p:cond delay="0"/>
                                  </p:stCondLst>
                                  <p:childTnLst>
                                    <p:set>
                                      <p:cBhvr>
                                        <p:cTn id="239" dur="1" fill="hold">
                                          <p:stCondLst>
                                            <p:cond delay="0"/>
                                          </p:stCondLst>
                                        </p:cTn>
                                        <p:tgtEl>
                                          <p:spTgt spid="174"/>
                                        </p:tgtEl>
                                        <p:attrNameLst>
                                          <p:attrName>style.visibility</p:attrName>
                                        </p:attrNameLst>
                                      </p:cBhvr>
                                      <p:to>
                                        <p:strVal val="visible"/>
                                      </p:to>
                                    </p:set>
                                    <p:anim calcmode="lin" valueType="num">
                                      <p:cBhvr additive="repl">
                                        <p:cTn id="240" dur="500" fill="hold"/>
                                        <p:tgtEl>
                                          <p:spTgt spid="174"/>
                                        </p:tgtEl>
                                        <p:attrNameLst>
                                          <p:attrName>ppt_x</p:attrName>
                                        </p:attrNameLst>
                                      </p:cBhvr>
                                      <p:tavLst>
                                        <p:tav tm="0">
                                          <p:val>
                                            <p:strVal val="#ppt_x"/>
                                          </p:val>
                                        </p:tav>
                                        <p:tav tm="100000">
                                          <p:val>
                                            <p:strVal val="#ppt_x"/>
                                          </p:val>
                                        </p:tav>
                                      </p:tavLst>
                                    </p:anim>
                                    <p:anim calcmode="lin" valueType="num">
                                      <p:cBhvr additive="repl">
                                        <p:cTn id="241"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矩形 21"/>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177" name="组合 22" descr=""/>
          <p:cNvPicPr/>
          <p:nvPr/>
        </p:nvPicPr>
        <p:blipFill>
          <a:blip r:embed="rId1"/>
          <a:stretch/>
        </p:blipFill>
        <p:spPr>
          <a:xfrm>
            <a:off x="237960" y="206280"/>
            <a:ext cx="578160" cy="576360"/>
          </a:xfrm>
          <a:prstGeom prst="rect">
            <a:avLst/>
          </a:prstGeom>
          <a:ln w="0">
            <a:noFill/>
          </a:ln>
        </p:spPr>
      </p:pic>
      <p:sp>
        <p:nvSpPr>
          <p:cNvPr id="178" name="文本框 25"/>
          <p:cNvSpPr/>
          <p:nvPr/>
        </p:nvSpPr>
        <p:spPr>
          <a:xfrm>
            <a:off x="964800" y="212760"/>
            <a:ext cx="767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Pronunciation of Each Back Vowel (3)</a:t>
            </a:r>
            <a:endParaRPr b="0" lang="en-US" sz="3200" spc="-1" strike="noStrike">
              <a:solidFill>
                <a:srgbClr val="000000"/>
              </a:solidFill>
              <a:latin typeface="等线"/>
            </a:endParaRPr>
          </a:p>
        </p:txBody>
      </p:sp>
      <p:pic>
        <p:nvPicPr>
          <p:cNvPr id="179" name="文本框 6" descr=""/>
          <p:cNvPicPr/>
          <p:nvPr/>
        </p:nvPicPr>
        <p:blipFill>
          <a:blip r:embed="rId2"/>
          <a:stretch/>
        </p:blipFill>
        <p:spPr>
          <a:xfrm>
            <a:off x="3960720" y="5486400"/>
            <a:ext cx="4935600" cy="577800"/>
          </a:xfrm>
          <a:prstGeom prst="rect">
            <a:avLst/>
          </a:prstGeom>
          <a:ln w="0">
            <a:noFill/>
          </a:ln>
        </p:spPr>
      </p:pic>
      <p:pic>
        <p:nvPicPr>
          <p:cNvPr id="180" name="10_最标准的英式英语发音_元音_ɑ-_标清.mp4" descr=""/>
          <p:cNvPicPr/>
          <p:nvPr/>
        </p:nvPicPr>
        <p:blipFill>
          <a:blip r:embed="rId3"/>
          <a:stretch/>
        </p:blipFill>
        <p:spPr>
          <a:xfrm>
            <a:off x="3517920" y="1690560"/>
            <a:ext cx="5181480" cy="2590920"/>
          </a:xfrm>
          <a:prstGeom prst="rect">
            <a:avLst/>
          </a:prstGeom>
          <a:ln w="0">
            <a:noFill/>
          </a:ln>
        </p:spPr>
      </p:pic>
      <p:sp>
        <p:nvSpPr>
          <p:cNvPr id="181" name=" 2050"/>
          <p:cNvSpPr/>
          <p:nvPr/>
        </p:nvSpPr>
        <p:spPr>
          <a:xfrm>
            <a:off x="3794040" y="3992400"/>
            <a:ext cx="381240" cy="519120"/>
          </a:xfrm>
          <a:custGeom>
            <a:avLst/>
            <a:gdLst/>
            <a:ahLst/>
            <a:rect l="l" t="t" r="r" b="b"/>
            <a:pathLst>
              <a:path w="1646238" h="2433638">
                <a:moveTo>
                  <a:pt x="577732" y="161925"/>
                </a:moveTo>
                <a:lnTo>
                  <a:pt x="586070" y="162719"/>
                </a:lnTo>
                <a:lnTo>
                  <a:pt x="593614" y="163910"/>
                </a:lnTo>
                <a:lnTo>
                  <a:pt x="597585" y="164703"/>
                </a:lnTo>
                <a:lnTo>
                  <a:pt x="601953" y="165894"/>
                </a:lnTo>
                <a:lnTo>
                  <a:pt x="605526" y="167482"/>
                </a:lnTo>
                <a:lnTo>
                  <a:pt x="609100" y="169069"/>
                </a:lnTo>
                <a:lnTo>
                  <a:pt x="612674" y="171053"/>
                </a:lnTo>
                <a:lnTo>
                  <a:pt x="616247" y="173435"/>
                </a:lnTo>
                <a:lnTo>
                  <a:pt x="619821" y="176610"/>
                </a:lnTo>
                <a:lnTo>
                  <a:pt x="623394" y="179388"/>
                </a:lnTo>
                <a:lnTo>
                  <a:pt x="626968" y="182563"/>
                </a:lnTo>
                <a:lnTo>
                  <a:pt x="630145" y="186135"/>
                </a:lnTo>
                <a:lnTo>
                  <a:pt x="633321" y="190103"/>
                </a:lnTo>
                <a:lnTo>
                  <a:pt x="636498" y="194469"/>
                </a:lnTo>
                <a:lnTo>
                  <a:pt x="639674" y="199232"/>
                </a:lnTo>
                <a:lnTo>
                  <a:pt x="642454" y="204788"/>
                </a:lnTo>
                <a:lnTo>
                  <a:pt x="645233" y="210344"/>
                </a:lnTo>
                <a:lnTo>
                  <a:pt x="648013" y="216297"/>
                </a:lnTo>
                <a:lnTo>
                  <a:pt x="650792" y="222647"/>
                </a:lnTo>
                <a:lnTo>
                  <a:pt x="653969" y="229394"/>
                </a:lnTo>
                <a:lnTo>
                  <a:pt x="656351" y="237332"/>
                </a:lnTo>
                <a:lnTo>
                  <a:pt x="658733" y="245269"/>
                </a:lnTo>
                <a:lnTo>
                  <a:pt x="838208" y="927100"/>
                </a:lnTo>
                <a:lnTo>
                  <a:pt x="840193" y="928291"/>
                </a:lnTo>
                <a:lnTo>
                  <a:pt x="841781" y="933450"/>
                </a:lnTo>
                <a:lnTo>
                  <a:pt x="899356" y="921941"/>
                </a:lnTo>
                <a:lnTo>
                  <a:pt x="911665" y="922338"/>
                </a:lnTo>
                <a:lnTo>
                  <a:pt x="923180" y="923529"/>
                </a:lnTo>
                <a:lnTo>
                  <a:pt x="935489" y="924719"/>
                </a:lnTo>
                <a:lnTo>
                  <a:pt x="946607" y="926704"/>
                </a:lnTo>
                <a:lnTo>
                  <a:pt x="957725" y="929482"/>
                </a:lnTo>
                <a:lnTo>
                  <a:pt x="969240" y="932657"/>
                </a:lnTo>
                <a:lnTo>
                  <a:pt x="979960" y="936229"/>
                </a:lnTo>
                <a:lnTo>
                  <a:pt x="991078" y="939800"/>
                </a:lnTo>
                <a:lnTo>
                  <a:pt x="1001402" y="944166"/>
                </a:lnTo>
                <a:lnTo>
                  <a:pt x="1011726" y="948929"/>
                </a:lnTo>
                <a:lnTo>
                  <a:pt x="1022049" y="954485"/>
                </a:lnTo>
                <a:lnTo>
                  <a:pt x="1031976" y="960438"/>
                </a:lnTo>
                <a:lnTo>
                  <a:pt x="1041506" y="966788"/>
                </a:lnTo>
                <a:lnTo>
                  <a:pt x="1051432" y="973535"/>
                </a:lnTo>
                <a:lnTo>
                  <a:pt x="1060565" y="980679"/>
                </a:lnTo>
                <a:lnTo>
                  <a:pt x="1069697" y="988616"/>
                </a:lnTo>
                <a:lnTo>
                  <a:pt x="1076050" y="994172"/>
                </a:lnTo>
                <a:lnTo>
                  <a:pt x="1081212" y="999729"/>
                </a:lnTo>
                <a:lnTo>
                  <a:pt x="1086374" y="1005682"/>
                </a:lnTo>
                <a:lnTo>
                  <a:pt x="1090345" y="1012032"/>
                </a:lnTo>
                <a:lnTo>
                  <a:pt x="1126478" y="1071960"/>
                </a:lnTo>
                <a:lnTo>
                  <a:pt x="1183258" y="1074341"/>
                </a:lnTo>
                <a:lnTo>
                  <a:pt x="1184847" y="1075532"/>
                </a:lnTo>
                <a:lnTo>
                  <a:pt x="1199538" y="1077913"/>
                </a:lnTo>
                <a:lnTo>
                  <a:pt x="1214230" y="1081088"/>
                </a:lnTo>
                <a:lnTo>
                  <a:pt x="1228524" y="1085057"/>
                </a:lnTo>
                <a:lnTo>
                  <a:pt x="1242818" y="1089422"/>
                </a:lnTo>
                <a:lnTo>
                  <a:pt x="1256716" y="1094582"/>
                </a:lnTo>
                <a:lnTo>
                  <a:pt x="1271010" y="1100932"/>
                </a:lnTo>
                <a:lnTo>
                  <a:pt x="1284510" y="1106885"/>
                </a:lnTo>
                <a:lnTo>
                  <a:pt x="1298011" y="1114029"/>
                </a:lnTo>
                <a:lnTo>
                  <a:pt x="1310717" y="1121172"/>
                </a:lnTo>
                <a:lnTo>
                  <a:pt x="1323820" y="1129507"/>
                </a:lnTo>
                <a:lnTo>
                  <a:pt x="1336129" y="1137444"/>
                </a:lnTo>
                <a:lnTo>
                  <a:pt x="1348041" y="1146175"/>
                </a:lnTo>
                <a:lnTo>
                  <a:pt x="1359953" y="1155700"/>
                </a:lnTo>
                <a:lnTo>
                  <a:pt x="1371071" y="1165225"/>
                </a:lnTo>
                <a:lnTo>
                  <a:pt x="1381792" y="1175147"/>
                </a:lnTo>
                <a:lnTo>
                  <a:pt x="1392115" y="1185863"/>
                </a:lnTo>
                <a:lnTo>
                  <a:pt x="1408792" y="1204119"/>
                </a:lnTo>
                <a:lnTo>
                  <a:pt x="1424278" y="1223566"/>
                </a:lnTo>
                <a:lnTo>
                  <a:pt x="1439763" y="1243410"/>
                </a:lnTo>
                <a:lnTo>
                  <a:pt x="1454058" y="1263254"/>
                </a:lnTo>
                <a:lnTo>
                  <a:pt x="1467955" y="1283891"/>
                </a:lnTo>
                <a:lnTo>
                  <a:pt x="1480264" y="1305322"/>
                </a:lnTo>
                <a:lnTo>
                  <a:pt x="1492970" y="1327150"/>
                </a:lnTo>
                <a:lnTo>
                  <a:pt x="1504088" y="1348582"/>
                </a:lnTo>
                <a:lnTo>
                  <a:pt x="1505279" y="1351360"/>
                </a:lnTo>
                <a:lnTo>
                  <a:pt x="1506471" y="1352154"/>
                </a:lnTo>
                <a:lnTo>
                  <a:pt x="1508059" y="1352550"/>
                </a:lnTo>
                <a:lnTo>
                  <a:pt x="1518780" y="1353344"/>
                </a:lnTo>
                <a:lnTo>
                  <a:pt x="1528309" y="1355329"/>
                </a:lnTo>
                <a:lnTo>
                  <a:pt x="1537839" y="1357710"/>
                </a:lnTo>
                <a:lnTo>
                  <a:pt x="1546971" y="1360885"/>
                </a:lnTo>
                <a:lnTo>
                  <a:pt x="1555707" y="1364457"/>
                </a:lnTo>
                <a:lnTo>
                  <a:pt x="1563648" y="1368822"/>
                </a:lnTo>
                <a:lnTo>
                  <a:pt x="1571590" y="1373982"/>
                </a:lnTo>
                <a:lnTo>
                  <a:pt x="1578737" y="1379935"/>
                </a:lnTo>
                <a:lnTo>
                  <a:pt x="1585487" y="1385888"/>
                </a:lnTo>
                <a:lnTo>
                  <a:pt x="1591840" y="1392238"/>
                </a:lnTo>
                <a:lnTo>
                  <a:pt x="1597796" y="1398985"/>
                </a:lnTo>
                <a:lnTo>
                  <a:pt x="1603752" y="1406525"/>
                </a:lnTo>
                <a:lnTo>
                  <a:pt x="1608914" y="1413669"/>
                </a:lnTo>
                <a:lnTo>
                  <a:pt x="1613678" y="1421607"/>
                </a:lnTo>
                <a:lnTo>
                  <a:pt x="1618046" y="1429544"/>
                </a:lnTo>
                <a:lnTo>
                  <a:pt x="1622017" y="1437879"/>
                </a:lnTo>
                <a:lnTo>
                  <a:pt x="1625988" y="1446213"/>
                </a:lnTo>
                <a:lnTo>
                  <a:pt x="1629561" y="1454547"/>
                </a:lnTo>
                <a:lnTo>
                  <a:pt x="1632738" y="1463279"/>
                </a:lnTo>
                <a:lnTo>
                  <a:pt x="1635517" y="1471613"/>
                </a:lnTo>
                <a:lnTo>
                  <a:pt x="1637900" y="1479947"/>
                </a:lnTo>
                <a:lnTo>
                  <a:pt x="1639885" y="1488282"/>
                </a:lnTo>
                <a:lnTo>
                  <a:pt x="1641473" y="1497013"/>
                </a:lnTo>
                <a:lnTo>
                  <a:pt x="1643062" y="1504950"/>
                </a:lnTo>
                <a:lnTo>
                  <a:pt x="1644253" y="1512491"/>
                </a:lnTo>
                <a:lnTo>
                  <a:pt x="1645047" y="1520429"/>
                </a:lnTo>
                <a:lnTo>
                  <a:pt x="1645841" y="1527969"/>
                </a:lnTo>
                <a:lnTo>
                  <a:pt x="1646238" y="1534716"/>
                </a:lnTo>
                <a:lnTo>
                  <a:pt x="1646238" y="1541463"/>
                </a:lnTo>
                <a:lnTo>
                  <a:pt x="1646238" y="1548210"/>
                </a:lnTo>
                <a:lnTo>
                  <a:pt x="1645841" y="1553766"/>
                </a:lnTo>
                <a:lnTo>
                  <a:pt x="1645444" y="1558925"/>
                </a:lnTo>
                <a:lnTo>
                  <a:pt x="1643458" y="1570832"/>
                </a:lnTo>
                <a:lnTo>
                  <a:pt x="1642267" y="1583532"/>
                </a:lnTo>
                <a:lnTo>
                  <a:pt x="1641473" y="1595835"/>
                </a:lnTo>
                <a:lnTo>
                  <a:pt x="1640679" y="1608535"/>
                </a:lnTo>
                <a:lnTo>
                  <a:pt x="1634723" y="1749029"/>
                </a:lnTo>
                <a:lnTo>
                  <a:pt x="1628370" y="1889126"/>
                </a:lnTo>
                <a:lnTo>
                  <a:pt x="1627973" y="1902222"/>
                </a:lnTo>
                <a:lnTo>
                  <a:pt x="1626385" y="1915716"/>
                </a:lnTo>
                <a:lnTo>
                  <a:pt x="1625194" y="1928416"/>
                </a:lnTo>
                <a:lnTo>
                  <a:pt x="1623208" y="1941910"/>
                </a:lnTo>
                <a:lnTo>
                  <a:pt x="1621223" y="1954610"/>
                </a:lnTo>
                <a:lnTo>
                  <a:pt x="1618840" y="1968104"/>
                </a:lnTo>
                <a:lnTo>
                  <a:pt x="1616061" y="1980804"/>
                </a:lnTo>
                <a:lnTo>
                  <a:pt x="1612884" y="1993504"/>
                </a:lnTo>
                <a:lnTo>
                  <a:pt x="1604546" y="2026444"/>
                </a:lnTo>
                <a:lnTo>
                  <a:pt x="1595414" y="2058988"/>
                </a:lnTo>
                <a:lnTo>
                  <a:pt x="1586281" y="2091532"/>
                </a:lnTo>
                <a:lnTo>
                  <a:pt x="1577148" y="2123679"/>
                </a:lnTo>
                <a:lnTo>
                  <a:pt x="1579134" y="2125663"/>
                </a:lnTo>
                <a:lnTo>
                  <a:pt x="1617252" y="2294732"/>
                </a:lnTo>
                <a:lnTo>
                  <a:pt x="1571590" y="2303463"/>
                </a:lnTo>
                <a:lnTo>
                  <a:pt x="1487411" y="2318147"/>
                </a:lnTo>
                <a:lnTo>
                  <a:pt x="1251951" y="2359026"/>
                </a:lnTo>
                <a:lnTo>
                  <a:pt x="1000608" y="2402285"/>
                </a:lnTo>
                <a:lnTo>
                  <a:pt x="897370" y="2420541"/>
                </a:lnTo>
                <a:lnTo>
                  <a:pt x="824310" y="2433638"/>
                </a:lnTo>
                <a:lnTo>
                  <a:pt x="785398" y="2236391"/>
                </a:lnTo>
                <a:lnTo>
                  <a:pt x="781030" y="2228851"/>
                </a:lnTo>
                <a:lnTo>
                  <a:pt x="776662" y="2221707"/>
                </a:lnTo>
                <a:lnTo>
                  <a:pt x="771897" y="2214563"/>
                </a:lnTo>
                <a:lnTo>
                  <a:pt x="767133" y="2207816"/>
                </a:lnTo>
                <a:lnTo>
                  <a:pt x="761574" y="2201069"/>
                </a:lnTo>
                <a:lnTo>
                  <a:pt x="756015" y="2194719"/>
                </a:lnTo>
                <a:lnTo>
                  <a:pt x="750456" y="2188369"/>
                </a:lnTo>
                <a:lnTo>
                  <a:pt x="744897" y="2182416"/>
                </a:lnTo>
                <a:lnTo>
                  <a:pt x="738544" y="2176463"/>
                </a:lnTo>
                <a:lnTo>
                  <a:pt x="732191" y="2170907"/>
                </a:lnTo>
                <a:lnTo>
                  <a:pt x="725441" y="2165351"/>
                </a:lnTo>
                <a:lnTo>
                  <a:pt x="719088" y="2159794"/>
                </a:lnTo>
                <a:lnTo>
                  <a:pt x="711940" y="2155032"/>
                </a:lnTo>
                <a:lnTo>
                  <a:pt x="704396" y="2149873"/>
                </a:lnTo>
                <a:lnTo>
                  <a:pt x="697249" y="2145507"/>
                </a:lnTo>
                <a:lnTo>
                  <a:pt x="689705" y="2141141"/>
                </a:lnTo>
                <a:lnTo>
                  <a:pt x="678984" y="2135585"/>
                </a:lnTo>
                <a:lnTo>
                  <a:pt x="668660" y="2130029"/>
                </a:lnTo>
                <a:lnTo>
                  <a:pt x="648807" y="2118519"/>
                </a:lnTo>
                <a:lnTo>
                  <a:pt x="630145" y="2106216"/>
                </a:lnTo>
                <a:lnTo>
                  <a:pt x="611482" y="2093119"/>
                </a:lnTo>
                <a:lnTo>
                  <a:pt x="593217" y="2080022"/>
                </a:lnTo>
                <a:lnTo>
                  <a:pt x="576144" y="2065735"/>
                </a:lnTo>
                <a:lnTo>
                  <a:pt x="559070" y="2051447"/>
                </a:lnTo>
                <a:lnTo>
                  <a:pt x="543187" y="2035969"/>
                </a:lnTo>
                <a:lnTo>
                  <a:pt x="526907" y="2020491"/>
                </a:lnTo>
                <a:lnTo>
                  <a:pt x="511422" y="2004616"/>
                </a:lnTo>
                <a:lnTo>
                  <a:pt x="496333" y="1988344"/>
                </a:lnTo>
                <a:lnTo>
                  <a:pt x="481245" y="1971676"/>
                </a:lnTo>
                <a:lnTo>
                  <a:pt x="466951" y="1954610"/>
                </a:lnTo>
                <a:lnTo>
                  <a:pt x="452259" y="1937147"/>
                </a:lnTo>
                <a:lnTo>
                  <a:pt x="424067" y="1902222"/>
                </a:lnTo>
                <a:lnTo>
                  <a:pt x="418111" y="1894285"/>
                </a:lnTo>
                <a:lnTo>
                  <a:pt x="412552" y="1886744"/>
                </a:lnTo>
                <a:lnTo>
                  <a:pt x="401435" y="1870472"/>
                </a:lnTo>
                <a:lnTo>
                  <a:pt x="391508" y="1853804"/>
                </a:lnTo>
                <a:lnTo>
                  <a:pt x="381978" y="1837532"/>
                </a:lnTo>
                <a:lnTo>
                  <a:pt x="372846" y="1820069"/>
                </a:lnTo>
                <a:lnTo>
                  <a:pt x="364110" y="1803401"/>
                </a:lnTo>
                <a:lnTo>
                  <a:pt x="356169" y="1785541"/>
                </a:lnTo>
                <a:lnTo>
                  <a:pt x="348228" y="1768079"/>
                </a:lnTo>
                <a:lnTo>
                  <a:pt x="332345" y="1733551"/>
                </a:lnTo>
                <a:lnTo>
                  <a:pt x="324404" y="1716485"/>
                </a:lnTo>
                <a:lnTo>
                  <a:pt x="316065" y="1699022"/>
                </a:lnTo>
                <a:lnTo>
                  <a:pt x="307727" y="1682354"/>
                </a:lnTo>
                <a:lnTo>
                  <a:pt x="298991" y="1666082"/>
                </a:lnTo>
                <a:lnTo>
                  <a:pt x="289462" y="1649413"/>
                </a:lnTo>
                <a:lnTo>
                  <a:pt x="279535" y="1633935"/>
                </a:lnTo>
                <a:lnTo>
                  <a:pt x="275962" y="1624410"/>
                </a:lnTo>
                <a:lnTo>
                  <a:pt x="271594" y="1614885"/>
                </a:lnTo>
                <a:lnTo>
                  <a:pt x="266829" y="1605360"/>
                </a:lnTo>
                <a:lnTo>
                  <a:pt x="261667" y="1595835"/>
                </a:lnTo>
                <a:lnTo>
                  <a:pt x="256505" y="1586310"/>
                </a:lnTo>
                <a:lnTo>
                  <a:pt x="250946" y="1577182"/>
                </a:lnTo>
                <a:lnTo>
                  <a:pt x="239431" y="1558132"/>
                </a:lnTo>
                <a:lnTo>
                  <a:pt x="227122" y="1539479"/>
                </a:lnTo>
                <a:lnTo>
                  <a:pt x="214813" y="1521619"/>
                </a:lnTo>
                <a:lnTo>
                  <a:pt x="190592" y="1486694"/>
                </a:lnTo>
                <a:lnTo>
                  <a:pt x="185827" y="1479154"/>
                </a:lnTo>
                <a:lnTo>
                  <a:pt x="181063" y="1470422"/>
                </a:lnTo>
                <a:lnTo>
                  <a:pt x="170342" y="1450579"/>
                </a:lnTo>
                <a:lnTo>
                  <a:pt x="164783" y="1441054"/>
                </a:lnTo>
                <a:lnTo>
                  <a:pt x="159224" y="1431132"/>
                </a:lnTo>
                <a:lnTo>
                  <a:pt x="156444" y="1427163"/>
                </a:lnTo>
                <a:lnTo>
                  <a:pt x="153268" y="1423194"/>
                </a:lnTo>
                <a:lnTo>
                  <a:pt x="149694" y="1419622"/>
                </a:lnTo>
                <a:lnTo>
                  <a:pt x="146518" y="1416447"/>
                </a:lnTo>
                <a:lnTo>
                  <a:pt x="143738" y="1413272"/>
                </a:lnTo>
                <a:lnTo>
                  <a:pt x="140959" y="1409304"/>
                </a:lnTo>
                <a:lnTo>
                  <a:pt x="138576" y="1404541"/>
                </a:lnTo>
                <a:lnTo>
                  <a:pt x="136591" y="1398985"/>
                </a:lnTo>
                <a:lnTo>
                  <a:pt x="134209" y="1393429"/>
                </a:lnTo>
                <a:lnTo>
                  <a:pt x="132620" y="1387475"/>
                </a:lnTo>
                <a:lnTo>
                  <a:pt x="129047" y="1373982"/>
                </a:lnTo>
                <a:lnTo>
                  <a:pt x="125870" y="1360488"/>
                </a:lnTo>
                <a:lnTo>
                  <a:pt x="122694" y="1346994"/>
                </a:lnTo>
                <a:lnTo>
                  <a:pt x="120311" y="1335485"/>
                </a:lnTo>
                <a:lnTo>
                  <a:pt x="117532" y="1325563"/>
                </a:lnTo>
                <a:lnTo>
                  <a:pt x="109194" y="1300560"/>
                </a:lnTo>
                <a:lnTo>
                  <a:pt x="100458" y="1276350"/>
                </a:lnTo>
                <a:lnTo>
                  <a:pt x="95296" y="1264047"/>
                </a:lnTo>
                <a:lnTo>
                  <a:pt x="90531" y="1252538"/>
                </a:lnTo>
                <a:lnTo>
                  <a:pt x="85767" y="1241425"/>
                </a:lnTo>
                <a:lnTo>
                  <a:pt x="80208" y="1229916"/>
                </a:lnTo>
                <a:lnTo>
                  <a:pt x="77031" y="1223566"/>
                </a:lnTo>
                <a:lnTo>
                  <a:pt x="73458" y="1217216"/>
                </a:lnTo>
                <a:lnTo>
                  <a:pt x="65119" y="1203722"/>
                </a:lnTo>
                <a:lnTo>
                  <a:pt x="55987" y="1190625"/>
                </a:lnTo>
                <a:lnTo>
                  <a:pt x="46457" y="1177132"/>
                </a:lnTo>
                <a:lnTo>
                  <a:pt x="26207" y="1150938"/>
                </a:lnTo>
                <a:lnTo>
                  <a:pt x="6353" y="1125538"/>
                </a:lnTo>
                <a:lnTo>
                  <a:pt x="3574" y="1121172"/>
                </a:lnTo>
                <a:lnTo>
                  <a:pt x="1589" y="1116410"/>
                </a:lnTo>
                <a:lnTo>
                  <a:pt x="397" y="1111250"/>
                </a:lnTo>
                <a:lnTo>
                  <a:pt x="0" y="1106091"/>
                </a:lnTo>
                <a:lnTo>
                  <a:pt x="0" y="1100535"/>
                </a:lnTo>
                <a:lnTo>
                  <a:pt x="794" y="1094582"/>
                </a:lnTo>
                <a:lnTo>
                  <a:pt x="1986" y="1088629"/>
                </a:lnTo>
                <a:lnTo>
                  <a:pt x="3574" y="1083072"/>
                </a:lnTo>
                <a:lnTo>
                  <a:pt x="5559" y="1077516"/>
                </a:lnTo>
                <a:lnTo>
                  <a:pt x="8339" y="1071960"/>
                </a:lnTo>
                <a:lnTo>
                  <a:pt x="11118" y="1066404"/>
                </a:lnTo>
                <a:lnTo>
                  <a:pt x="14295" y="1061641"/>
                </a:lnTo>
                <a:lnTo>
                  <a:pt x="17868" y="1056879"/>
                </a:lnTo>
                <a:lnTo>
                  <a:pt x="21045" y="1052910"/>
                </a:lnTo>
                <a:lnTo>
                  <a:pt x="24618" y="1048941"/>
                </a:lnTo>
                <a:lnTo>
                  <a:pt x="28192" y="1045766"/>
                </a:lnTo>
                <a:lnTo>
                  <a:pt x="33751" y="1041400"/>
                </a:lnTo>
                <a:lnTo>
                  <a:pt x="39310" y="1037432"/>
                </a:lnTo>
                <a:lnTo>
                  <a:pt x="45663" y="1034257"/>
                </a:lnTo>
                <a:lnTo>
                  <a:pt x="52016" y="1031479"/>
                </a:lnTo>
                <a:lnTo>
                  <a:pt x="58369" y="1029097"/>
                </a:lnTo>
                <a:lnTo>
                  <a:pt x="64722" y="1027113"/>
                </a:lnTo>
                <a:lnTo>
                  <a:pt x="71869" y="1025922"/>
                </a:lnTo>
                <a:lnTo>
                  <a:pt x="78619" y="1024732"/>
                </a:lnTo>
                <a:lnTo>
                  <a:pt x="85767" y="1023938"/>
                </a:lnTo>
                <a:lnTo>
                  <a:pt x="92517" y="1023541"/>
                </a:lnTo>
                <a:lnTo>
                  <a:pt x="100061" y="1023938"/>
                </a:lnTo>
                <a:lnTo>
                  <a:pt x="107208" y="1024335"/>
                </a:lnTo>
                <a:lnTo>
                  <a:pt x="114355" y="1024732"/>
                </a:lnTo>
                <a:lnTo>
                  <a:pt x="121503" y="1025922"/>
                </a:lnTo>
                <a:lnTo>
                  <a:pt x="129047" y="1027510"/>
                </a:lnTo>
                <a:lnTo>
                  <a:pt x="136194" y="1029097"/>
                </a:lnTo>
                <a:lnTo>
                  <a:pt x="143341" y="1031082"/>
                </a:lnTo>
                <a:lnTo>
                  <a:pt x="150488" y="1033066"/>
                </a:lnTo>
                <a:lnTo>
                  <a:pt x="157636" y="1035844"/>
                </a:lnTo>
                <a:lnTo>
                  <a:pt x="164783" y="1038622"/>
                </a:lnTo>
                <a:lnTo>
                  <a:pt x="171533" y="1041400"/>
                </a:lnTo>
                <a:lnTo>
                  <a:pt x="177886" y="1044972"/>
                </a:lnTo>
                <a:lnTo>
                  <a:pt x="185033" y="1048544"/>
                </a:lnTo>
                <a:lnTo>
                  <a:pt x="191386" y="1052116"/>
                </a:lnTo>
                <a:lnTo>
                  <a:pt x="197739" y="1055688"/>
                </a:lnTo>
                <a:lnTo>
                  <a:pt x="203695" y="1059657"/>
                </a:lnTo>
                <a:lnTo>
                  <a:pt x="209651" y="1064022"/>
                </a:lnTo>
                <a:lnTo>
                  <a:pt x="215210" y="1067991"/>
                </a:lnTo>
                <a:lnTo>
                  <a:pt x="220769" y="1072754"/>
                </a:lnTo>
                <a:lnTo>
                  <a:pt x="225534" y="1077516"/>
                </a:lnTo>
                <a:lnTo>
                  <a:pt x="230299" y="1081882"/>
                </a:lnTo>
                <a:lnTo>
                  <a:pt x="235064" y="1086644"/>
                </a:lnTo>
                <a:lnTo>
                  <a:pt x="239828" y="1092200"/>
                </a:lnTo>
                <a:lnTo>
                  <a:pt x="244593" y="1097757"/>
                </a:lnTo>
                <a:lnTo>
                  <a:pt x="252932" y="1109663"/>
                </a:lnTo>
                <a:lnTo>
                  <a:pt x="260873" y="1121966"/>
                </a:lnTo>
                <a:lnTo>
                  <a:pt x="268814" y="1135063"/>
                </a:lnTo>
                <a:lnTo>
                  <a:pt x="283903" y="1160463"/>
                </a:lnTo>
                <a:lnTo>
                  <a:pt x="291447" y="1173163"/>
                </a:lnTo>
                <a:lnTo>
                  <a:pt x="299388" y="1185069"/>
                </a:lnTo>
                <a:lnTo>
                  <a:pt x="306139" y="1195785"/>
                </a:lnTo>
                <a:lnTo>
                  <a:pt x="312889" y="1206897"/>
                </a:lnTo>
                <a:lnTo>
                  <a:pt x="327580" y="1230710"/>
                </a:lnTo>
                <a:lnTo>
                  <a:pt x="342272" y="1255713"/>
                </a:lnTo>
                <a:lnTo>
                  <a:pt x="357757" y="1281113"/>
                </a:lnTo>
                <a:lnTo>
                  <a:pt x="365699" y="1293416"/>
                </a:lnTo>
                <a:lnTo>
                  <a:pt x="373640" y="1305719"/>
                </a:lnTo>
                <a:lnTo>
                  <a:pt x="382375" y="1317229"/>
                </a:lnTo>
                <a:lnTo>
                  <a:pt x="390714" y="1328738"/>
                </a:lnTo>
                <a:lnTo>
                  <a:pt x="399846" y="1339454"/>
                </a:lnTo>
                <a:lnTo>
                  <a:pt x="409376" y="1348979"/>
                </a:lnTo>
                <a:lnTo>
                  <a:pt x="418905" y="1358504"/>
                </a:lnTo>
                <a:lnTo>
                  <a:pt x="423670" y="1362472"/>
                </a:lnTo>
                <a:lnTo>
                  <a:pt x="428832" y="1366441"/>
                </a:lnTo>
                <a:lnTo>
                  <a:pt x="437171" y="1372791"/>
                </a:lnTo>
                <a:lnTo>
                  <a:pt x="445112" y="1378744"/>
                </a:lnTo>
                <a:lnTo>
                  <a:pt x="453450" y="1383904"/>
                </a:lnTo>
                <a:lnTo>
                  <a:pt x="462186" y="1388666"/>
                </a:lnTo>
                <a:lnTo>
                  <a:pt x="470921" y="1392635"/>
                </a:lnTo>
                <a:lnTo>
                  <a:pt x="479260" y="1396207"/>
                </a:lnTo>
                <a:lnTo>
                  <a:pt x="488789" y="1399382"/>
                </a:lnTo>
                <a:lnTo>
                  <a:pt x="497525" y="1402160"/>
                </a:lnTo>
                <a:lnTo>
                  <a:pt x="506657" y="1404144"/>
                </a:lnTo>
                <a:lnTo>
                  <a:pt x="516187" y="1405732"/>
                </a:lnTo>
                <a:lnTo>
                  <a:pt x="525716" y="1407319"/>
                </a:lnTo>
                <a:lnTo>
                  <a:pt x="535246" y="1408113"/>
                </a:lnTo>
                <a:lnTo>
                  <a:pt x="545172" y="1408113"/>
                </a:lnTo>
                <a:lnTo>
                  <a:pt x="555099" y="1407716"/>
                </a:lnTo>
                <a:lnTo>
                  <a:pt x="565423" y="1406922"/>
                </a:lnTo>
                <a:lnTo>
                  <a:pt x="575746" y="1404938"/>
                </a:lnTo>
                <a:lnTo>
                  <a:pt x="578923" y="1404541"/>
                </a:lnTo>
                <a:lnTo>
                  <a:pt x="582497" y="1402954"/>
                </a:lnTo>
                <a:lnTo>
                  <a:pt x="586467" y="1401366"/>
                </a:lnTo>
                <a:lnTo>
                  <a:pt x="590041" y="1398985"/>
                </a:lnTo>
                <a:lnTo>
                  <a:pt x="594012" y="1395810"/>
                </a:lnTo>
                <a:lnTo>
                  <a:pt x="597585" y="1392635"/>
                </a:lnTo>
                <a:lnTo>
                  <a:pt x="601556" y="1389460"/>
                </a:lnTo>
                <a:lnTo>
                  <a:pt x="604335" y="1385491"/>
                </a:lnTo>
                <a:lnTo>
                  <a:pt x="609894" y="1379141"/>
                </a:lnTo>
                <a:lnTo>
                  <a:pt x="614659" y="1372394"/>
                </a:lnTo>
                <a:lnTo>
                  <a:pt x="619424" y="1365647"/>
                </a:lnTo>
                <a:lnTo>
                  <a:pt x="623394" y="1358900"/>
                </a:lnTo>
                <a:lnTo>
                  <a:pt x="627762" y="1352154"/>
                </a:lnTo>
                <a:lnTo>
                  <a:pt x="631336" y="1344613"/>
                </a:lnTo>
                <a:lnTo>
                  <a:pt x="634512" y="1337469"/>
                </a:lnTo>
                <a:lnTo>
                  <a:pt x="637292" y="1330325"/>
                </a:lnTo>
                <a:lnTo>
                  <a:pt x="640071" y="1323182"/>
                </a:lnTo>
                <a:lnTo>
                  <a:pt x="642057" y="1315244"/>
                </a:lnTo>
                <a:lnTo>
                  <a:pt x="644042" y="1307704"/>
                </a:lnTo>
                <a:lnTo>
                  <a:pt x="645233" y="1299766"/>
                </a:lnTo>
                <a:lnTo>
                  <a:pt x="646424" y="1291829"/>
                </a:lnTo>
                <a:lnTo>
                  <a:pt x="647218" y="1283891"/>
                </a:lnTo>
                <a:lnTo>
                  <a:pt x="647616" y="1275557"/>
                </a:lnTo>
                <a:lnTo>
                  <a:pt x="648013" y="1267619"/>
                </a:lnTo>
                <a:lnTo>
                  <a:pt x="647616" y="1259682"/>
                </a:lnTo>
                <a:lnTo>
                  <a:pt x="647218" y="1252538"/>
                </a:lnTo>
                <a:lnTo>
                  <a:pt x="646424" y="1245394"/>
                </a:lnTo>
                <a:lnTo>
                  <a:pt x="645233" y="1237457"/>
                </a:lnTo>
                <a:lnTo>
                  <a:pt x="466951" y="280988"/>
                </a:lnTo>
                <a:lnTo>
                  <a:pt x="465362" y="271463"/>
                </a:lnTo>
                <a:lnTo>
                  <a:pt x="464568" y="263128"/>
                </a:lnTo>
                <a:lnTo>
                  <a:pt x="464568" y="254397"/>
                </a:lnTo>
                <a:lnTo>
                  <a:pt x="464965" y="246857"/>
                </a:lnTo>
                <a:lnTo>
                  <a:pt x="465759" y="239316"/>
                </a:lnTo>
                <a:lnTo>
                  <a:pt x="467348" y="232569"/>
                </a:lnTo>
                <a:lnTo>
                  <a:pt x="468936" y="225822"/>
                </a:lnTo>
                <a:lnTo>
                  <a:pt x="471318" y="219869"/>
                </a:lnTo>
                <a:lnTo>
                  <a:pt x="473701" y="214313"/>
                </a:lnTo>
                <a:lnTo>
                  <a:pt x="476480" y="209153"/>
                </a:lnTo>
                <a:lnTo>
                  <a:pt x="479657" y="204391"/>
                </a:lnTo>
                <a:lnTo>
                  <a:pt x="482833" y="199628"/>
                </a:lnTo>
                <a:lnTo>
                  <a:pt x="486407" y="195263"/>
                </a:lnTo>
                <a:lnTo>
                  <a:pt x="490775" y="191691"/>
                </a:lnTo>
                <a:lnTo>
                  <a:pt x="494348" y="188119"/>
                </a:lnTo>
                <a:lnTo>
                  <a:pt x="498319" y="184944"/>
                </a:lnTo>
                <a:lnTo>
                  <a:pt x="502289" y="182166"/>
                </a:lnTo>
                <a:lnTo>
                  <a:pt x="506657" y="179785"/>
                </a:lnTo>
                <a:lnTo>
                  <a:pt x="514201" y="175419"/>
                </a:lnTo>
                <a:lnTo>
                  <a:pt x="522143" y="171450"/>
                </a:lnTo>
                <a:lnTo>
                  <a:pt x="528893" y="169069"/>
                </a:lnTo>
                <a:lnTo>
                  <a:pt x="534849" y="167482"/>
                </a:lnTo>
                <a:lnTo>
                  <a:pt x="539614" y="166291"/>
                </a:lnTo>
                <a:lnTo>
                  <a:pt x="543981" y="165497"/>
                </a:lnTo>
                <a:lnTo>
                  <a:pt x="552320" y="163910"/>
                </a:lnTo>
                <a:lnTo>
                  <a:pt x="561055" y="162719"/>
                </a:lnTo>
                <a:lnTo>
                  <a:pt x="569393" y="162322"/>
                </a:lnTo>
                <a:lnTo>
                  <a:pt x="577732" y="161925"/>
                </a:lnTo>
                <a:close/>
                <a:moveTo>
                  <a:pt x="576263" y="0"/>
                </a:moveTo>
                <a:lnTo>
                  <a:pt x="594539" y="397"/>
                </a:lnTo>
                <a:lnTo>
                  <a:pt x="612419" y="1589"/>
                </a:lnTo>
                <a:lnTo>
                  <a:pt x="630298" y="3973"/>
                </a:lnTo>
                <a:lnTo>
                  <a:pt x="647780" y="7151"/>
                </a:lnTo>
                <a:lnTo>
                  <a:pt x="664864" y="10727"/>
                </a:lnTo>
                <a:lnTo>
                  <a:pt x="681551" y="15098"/>
                </a:lnTo>
                <a:lnTo>
                  <a:pt x="697841" y="20263"/>
                </a:lnTo>
                <a:lnTo>
                  <a:pt x="714131" y="26620"/>
                </a:lnTo>
                <a:lnTo>
                  <a:pt x="729626" y="33374"/>
                </a:lnTo>
                <a:lnTo>
                  <a:pt x="745122" y="41321"/>
                </a:lnTo>
                <a:lnTo>
                  <a:pt x="759822" y="50062"/>
                </a:lnTo>
                <a:lnTo>
                  <a:pt x="774920" y="59200"/>
                </a:lnTo>
                <a:lnTo>
                  <a:pt x="788826" y="69530"/>
                </a:lnTo>
                <a:lnTo>
                  <a:pt x="803130" y="80655"/>
                </a:lnTo>
                <a:lnTo>
                  <a:pt x="816638" y="92575"/>
                </a:lnTo>
                <a:lnTo>
                  <a:pt x="830147" y="105289"/>
                </a:lnTo>
                <a:lnTo>
                  <a:pt x="842464" y="118798"/>
                </a:lnTo>
                <a:lnTo>
                  <a:pt x="854780" y="132307"/>
                </a:lnTo>
                <a:lnTo>
                  <a:pt x="865508" y="146610"/>
                </a:lnTo>
                <a:lnTo>
                  <a:pt x="876235" y="160516"/>
                </a:lnTo>
                <a:lnTo>
                  <a:pt x="885374" y="175615"/>
                </a:lnTo>
                <a:lnTo>
                  <a:pt x="894115" y="190315"/>
                </a:lnTo>
                <a:lnTo>
                  <a:pt x="901664" y="205811"/>
                </a:lnTo>
                <a:lnTo>
                  <a:pt x="908815" y="221306"/>
                </a:lnTo>
                <a:lnTo>
                  <a:pt x="915172" y="237596"/>
                </a:lnTo>
                <a:lnTo>
                  <a:pt x="920337" y="253886"/>
                </a:lnTo>
                <a:lnTo>
                  <a:pt x="924708" y="270574"/>
                </a:lnTo>
                <a:lnTo>
                  <a:pt x="928284" y="287658"/>
                </a:lnTo>
                <a:lnTo>
                  <a:pt x="931462" y="304743"/>
                </a:lnTo>
                <a:lnTo>
                  <a:pt x="933449" y="322622"/>
                </a:lnTo>
                <a:lnTo>
                  <a:pt x="934641" y="340502"/>
                </a:lnTo>
                <a:lnTo>
                  <a:pt x="935038" y="359175"/>
                </a:lnTo>
                <a:lnTo>
                  <a:pt x="934641" y="377452"/>
                </a:lnTo>
                <a:lnTo>
                  <a:pt x="933449" y="395331"/>
                </a:lnTo>
                <a:lnTo>
                  <a:pt x="931462" y="413211"/>
                </a:lnTo>
                <a:lnTo>
                  <a:pt x="928284" y="430693"/>
                </a:lnTo>
                <a:lnTo>
                  <a:pt x="924708" y="447777"/>
                </a:lnTo>
                <a:lnTo>
                  <a:pt x="920337" y="464465"/>
                </a:lnTo>
                <a:lnTo>
                  <a:pt x="915172" y="480755"/>
                </a:lnTo>
                <a:lnTo>
                  <a:pt x="908815" y="496647"/>
                </a:lnTo>
                <a:lnTo>
                  <a:pt x="901664" y="512540"/>
                </a:lnTo>
                <a:lnTo>
                  <a:pt x="894115" y="527638"/>
                </a:lnTo>
                <a:lnTo>
                  <a:pt x="885374" y="543134"/>
                </a:lnTo>
                <a:lnTo>
                  <a:pt x="876235" y="557437"/>
                </a:lnTo>
                <a:lnTo>
                  <a:pt x="865508" y="572138"/>
                </a:lnTo>
                <a:lnTo>
                  <a:pt x="854780" y="585647"/>
                </a:lnTo>
                <a:lnTo>
                  <a:pt x="842464" y="599553"/>
                </a:lnTo>
                <a:lnTo>
                  <a:pt x="830147" y="612664"/>
                </a:lnTo>
                <a:lnTo>
                  <a:pt x="830147" y="613061"/>
                </a:lnTo>
                <a:lnTo>
                  <a:pt x="822201" y="620611"/>
                </a:lnTo>
                <a:lnTo>
                  <a:pt x="813857" y="628160"/>
                </a:lnTo>
                <a:lnTo>
                  <a:pt x="805911" y="634914"/>
                </a:lnTo>
                <a:lnTo>
                  <a:pt x="797964" y="641668"/>
                </a:lnTo>
                <a:lnTo>
                  <a:pt x="791607" y="619419"/>
                </a:lnTo>
                <a:lnTo>
                  <a:pt x="785250" y="597963"/>
                </a:lnTo>
                <a:lnTo>
                  <a:pt x="778496" y="576111"/>
                </a:lnTo>
                <a:lnTo>
                  <a:pt x="771344" y="553861"/>
                </a:lnTo>
                <a:lnTo>
                  <a:pt x="780880" y="543928"/>
                </a:lnTo>
                <a:lnTo>
                  <a:pt x="790018" y="533201"/>
                </a:lnTo>
                <a:lnTo>
                  <a:pt x="798759" y="522473"/>
                </a:lnTo>
                <a:lnTo>
                  <a:pt x="806705" y="511745"/>
                </a:lnTo>
                <a:lnTo>
                  <a:pt x="813857" y="500223"/>
                </a:lnTo>
                <a:lnTo>
                  <a:pt x="820611" y="488701"/>
                </a:lnTo>
                <a:lnTo>
                  <a:pt x="826571" y="476782"/>
                </a:lnTo>
                <a:lnTo>
                  <a:pt x="831736" y="464862"/>
                </a:lnTo>
                <a:lnTo>
                  <a:pt x="836504" y="452545"/>
                </a:lnTo>
                <a:lnTo>
                  <a:pt x="840477" y="439831"/>
                </a:lnTo>
                <a:lnTo>
                  <a:pt x="844053" y="427117"/>
                </a:lnTo>
                <a:lnTo>
                  <a:pt x="846834" y="414005"/>
                </a:lnTo>
                <a:lnTo>
                  <a:pt x="849218" y="400894"/>
                </a:lnTo>
                <a:lnTo>
                  <a:pt x="850807" y="386988"/>
                </a:lnTo>
                <a:lnTo>
                  <a:pt x="851602" y="373479"/>
                </a:lnTo>
                <a:lnTo>
                  <a:pt x="851999" y="359175"/>
                </a:lnTo>
                <a:lnTo>
                  <a:pt x="851602" y="344872"/>
                </a:lnTo>
                <a:lnTo>
                  <a:pt x="850807" y="330966"/>
                </a:lnTo>
                <a:lnTo>
                  <a:pt x="849218" y="317457"/>
                </a:lnTo>
                <a:lnTo>
                  <a:pt x="846834" y="303948"/>
                </a:lnTo>
                <a:lnTo>
                  <a:pt x="844053" y="291234"/>
                </a:lnTo>
                <a:lnTo>
                  <a:pt x="840477" y="278123"/>
                </a:lnTo>
                <a:lnTo>
                  <a:pt x="836504" y="265806"/>
                </a:lnTo>
                <a:lnTo>
                  <a:pt x="831736" y="253092"/>
                </a:lnTo>
                <a:lnTo>
                  <a:pt x="826571" y="241172"/>
                </a:lnTo>
                <a:lnTo>
                  <a:pt x="820611" y="229253"/>
                </a:lnTo>
                <a:lnTo>
                  <a:pt x="813460" y="217730"/>
                </a:lnTo>
                <a:lnTo>
                  <a:pt x="806308" y="206605"/>
                </a:lnTo>
                <a:lnTo>
                  <a:pt x="798759" y="195481"/>
                </a:lnTo>
                <a:lnTo>
                  <a:pt x="789621" y="185150"/>
                </a:lnTo>
                <a:lnTo>
                  <a:pt x="780880" y="174820"/>
                </a:lnTo>
                <a:lnTo>
                  <a:pt x="770947" y="164092"/>
                </a:lnTo>
                <a:lnTo>
                  <a:pt x="760617" y="154556"/>
                </a:lnTo>
                <a:lnTo>
                  <a:pt x="750287" y="145021"/>
                </a:lnTo>
                <a:lnTo>
                  <a:pt x="739559" y="136677"/>
                </a:lnTo>
                <a:lnTo>
                  <a:pt x="728434" y="129128"/>
                </a:lnTo>
                <a:lnTo>
                  <a:pt x="717310" y="121976"/>
                </a:lnTo>
                <a:lnTo>
                  <a:pt x="705788" y="114825"/>
                </a:lnTo>
                <a:lnTo>
                  <a:pt x="693868" y="108865"/>
                </a:lnTo>
                <a:lnTo>
                  <a:pt x="682346" y="103700"/>
                </a:lnTo>
                <a:lnTo>
                  <a:pt x="669632" y="98932"/>
                </a:lnTo>
                <a:lnTo>
                  <a:pt x="657315" y="94959"/>
                </a:lnTo>
                <a:lnTo>
                  <a:pt x="644204" y="91383"/>
                </a:lnTo>
                <a:lnTo>
                  <a:pt x="631490" y="88204"/>
                </a:lnTo>
                <a:lnTo>
                  <a:pt x="617584" y="86218"/>
                </a:lnTo>
                <a:lnTo>
                  <a:pt x="604472" y="84628"/>
                </a:lnTo>
                <a:lnTo>
                  <a:pt x="590169" y="83436"/>
                </a:lnTo>
                <a:lnTo>
                  <a:pt x="576263" y="83436"/>
                </a:lnTo>
                <a:lnTo>
                  <a:pt x="561960" y="83436"/>
                </a:lnTo>
                <a:lnTo>
                  <a:pt x="548451" y="84628"/>
                </a:lnTo>
                <a:lnTo>
                  <a:pt x="534545" y="86218"/>
                </a:lnTo>
                <a:lnTo>
                  <a:pt x="521434" y="88204"/>
                </a:lnTo>
                <a:lnTo>
                  <a:pt x="507925" y="91383"/>
                </a:lnTo>
                <a:lnTo>
                  <a:pt x="495211" y="94959"/>
                </a:lnTo>
                <a:lnTo>
                  <a:pt x="482497" y="98932"/>
                </a:lnTo>
                <a:lnTo>
                  <a:pt x="470578" y="103700"/>
                </a:lnTo>
                <a:lnTo>
                  <a:pt x="458658" y="108865"/>
                </a:lnTo>
                <a:lnTo>
                  <a:pt x="446341" y="114825"/>
                </a:lnTo>
                <a:lnTo>
                  <a:pt x="435217" y="121976"/>
                </a:lnTo>
                <a:lnTo>
                  <a:pt x="423694" y="129128"/>
                </a:lnTo>
                <a:lnTo>
                  <a:pt x="412967" y="136677"/>
                </a:lnTo>
                <a:lnTo>
                  <a:pt x="401842" y="145021"/>
                </a:lnTo>
                <a:lnTo>
                  <a:pt x="391512" y="154556"/>
                </a:lnTo>
                <a:lnTo>
                  <a:pt x="381579" y="164092"/>
                </a:lnTo>
                <a:lnTo>
                  <a:pt x="381182" y="164092"/>
                </a:lnTo>
                <a:lnTo>
                  <a:pt x="371249" y="174820"/>
                </a:lnTo>
                <a:lnTo>
                  <a:pt x="362111" y="185150"/>
                </a:lnTo>
                <a:lnTo>
                  <a:pt x="353767" y="195481"/>
                </a:lnTo>
                <a:lnTo>
                  <a:pt x="345821" y="207003"/>
                </a:lnTo>
                <a:lnTo>
                  <a:pt x="338669" y="218128"/>
                </a:lnTo>
                <a:lnTo>
                  <a:pt x="331915" y="229253"/>
                </a:lnTo>
                <a:lnTo>
                  <a:pt x="325955" y="241172"/>
                </a:lnTo>
                <a:lnTo>
                  <a:pt x="320790" y="253092"/>
                </a:lnTo>
                <a:lnTo>
                  <a:pt x="315625" y="265806"/>
                </a:lnTo>
                <a:lnTo>
                  <a:pt x="311652" y="278123"/>
                </a:lnTo>
                <a:lnTo>
                  <a:pt x="308473" y="291234"/>
                </a:lnTo>
                <a:lnTo>
                  <a:pt x="305692" y="303948"/>
                </a:lnTo>
                <a:lnTo>
                  <a:pt x="303308" y="317457"/>
                </a:lnTo>
                <a:lnTo>
                  <a:pt x="301719" y="330966"/>
                </a:lnTo>
                <a:lnTo>
                  <a:pt x="300924" y="345269"/>
                </a:lnTo>
                <a:lnTo>
                  <a:pt x="300527" y="359175"/>
                </a:lnTo>
                <a:lnTo>
                  <a:pt x="300924" y="373479"/>
                </a:lnTo>
                <a:lnTo>
                  <a:pt x="301719" y="386988"/>
                </a:lnTo>
                <a:lnTo>
                  <a:pt x="303308" y="400894"/>
                </a:lnTo>
                <a:lnTo>
                  <a:pt x="305692" y="414005"/>
                </a:lnTo>
                <a:lnTo>
                  <a:pt x="308473" y="427514"/>
                </a:lnTo>
                <a:lnTo>
                  <a:pt x="311652" y="440228"/>
                </a:lnTo>
                <a:lnTo>
                  <a:pt x="315625" y="452545"/>
                </a:lnTo>
                <a:lnTo>
                  <a:pt x="320790" y="464862"/>
                </a:lnTo>
                <a:lnTo>
                  <a:pt x="325955" y="476782"/>
                </a:lnTo>
                <a:lnTo>
                  <a:pt x="331915" y="489098"/>
                </a:lnTo>
                <a:lnTo>
                  <a:pt x="338669" y="500223"/>
                </a:lnTo>
                <a:lnTo>
                  <a:pt x="345821" y="511745"/>
                </a:lnTo>
                <a:lnTo>
                  <a:pt x="353767" y="522870"/>
                </a:lnTo>
                <a:lnTo>
                  <a:pt x="362111" y="533201"/>
                </a:lnTo>
                <a:lnTo>
                  <a:pt x="371249" y="543928"/>
                </a:lnTo>
                <a:lnTo>
                  <a:pt x="381182" y="554258"/>
                </a:lnTo>
                <a:lnTo>
                  <a:pt x="387539" y="560218"/>
                </a:lnTo>
                <a:lnTo>
                  <a:pt x="393896" y="566575"/>
                </a:lnTo>
                <a:lnTo>
                  <a:pt x="400650" y="572138"/>
                </a:lnTo>
                <a:lnTo>
                  <a:pt x="407405" y="577700"/>
                </a:lnTo>
                <a:lnTo>
                  <a:pt x="414159" y="582468"/>
                </a:lnTo>
                <a:lnTo>
                  <a:pt x="420913" y="587633"/>
                </a:lnTo>
                <a:lnTo>
                  <a:pt x="428065" y="592401"/>
                </a:lnTo>
                <a:lnTo>
                  <a:pt x="435614" y="597169"/>
                </a:lnTo>
                <a:lnTo>
                  <a:pt x="442368" y="601142"/>
                </a:lnTo>
                <a:lnTo>
                  <a:pt x="449917" y="605115"/>
                </a:lnTo>
                <a:lnTo>
                  <a:pt x="457069" y="608691"/>
                </a:lnTo>
                <a:lnTo>
                  <a:pt x="465015" y="612267"/>
                </a:lnTo>
                <a:lnTo>
                  <a:pt x="472564" y="615445"/>
                </a:lnTo>
                <a:lnTo>
                  <a:pt x="480113" y="618227"/>
                </a:lnTo>
                <a:lnTo>
                  <a:pt x="488457" y="621008"/>
                </a:lnTo>
                <a:lnTo>
                  <a:pt x="496403" y="623789"/>
                </a:lnTo>
                <a:lnTo>
                  <a:pt x="498787" y="634914"/>
                </a:lnTo>
                <a:lnTo>
                  <a:pt x="501171" y="645642"/>
                </a:lnTo>
                <a:lnTo>
                  <a:pt x="505541" y="667891"/>
                </a:lnTo>
                <a:lnTo>
                  <a:pt x="508720" y="690141"/>
                </a:lnTo>
                <a:lnTo>
                  <a:pt x="511501" y="712788"/>
                </a:lnTo>
                <a:lnTo>
                  <a:pt x="498390" y="710404"/>
                </a:lnTo>
                <a:lnTo>
                  <a:pt x="484881" y="707226"/>
                </a:lnTo>
                <a:lnTo>
                  <a:pt x="472167" y="703253"/>
                </a:lnTo>
                <a:lnTo>
                  <a:pt x="459453" y="699279"/>
                </a:lnTo>
                <a:lnTo>
                  <a:pt x="446739" y="694909"/>
                </a:lnTo>
                <a:lnTo>
                  <a:pt x="434819" y="690141"/>
                </a:lnTo>
                <a:lnTo>
                  <a:pt x="422503" y="684579"/>
                </a:lnTo>
                <a:lnTo>
                  <a:pt x="410583" y="678619"/>
                </a:lnTo>
                <a:lnTo>
                  <a:pt x="398664" y="671864"/>
                </a:lnTo>
                <a:lnTo>
                  <a:pt x="387142" y="665110"/>
                </a:lnTo>
                <a:lnTo>
                  <a:pt x="376017" y="657561"/>
                </a:lnTo>
                <a:lnTo>
                  <a:pt x="364892" y="649615"/>
                </a:lnTo>
                <a:lnTo>
                  <a:pt x="354164" y="641271"/>
                </a:lnTo>
                <a:lnTo>
                  <a:pt x="343040" y="632133"/>
                </a:lnTo>
                <a:lnTo>
                  <a:pt x="332709" y="622994"/>
                </a:lnTo>
                <a:lnTo>
                  <a:pt x="322379" y="612664"/>
                </a:lnTo>
                <a:lnTo>
                  <a:pt x="309665" y="599553"/>
                </a:lnTo>
                <a:lnTo>
                  <a:pt x="297746" y="585647"/>
                </a:lnTo>
                <a:lnTo>
                  <a:pt x="286621" y="572138"/>
                </a:lnTo>
                <a:lnTo>
                  <a:pt x="276291" y="557437"/>
                </a:lnTo>
                <a:lnTo>
                  <a:pt x="267153" y="543134"/>
                </a:lnTo>
                <a:lnTo>
                  <a:pt x="258412" y="527638"/>
                </a:lnTo>
                <a:lnTo>
                  <a:pt x="250465" y="512540"/>
                </a:lnTo>
                <a:lnTo>
                  <a:pt x="243711" y="496647"/>
                </a:lnTo>
                <a:lnTo>
                  <a:pt x="237751" y="480755"/>
                </a:lnTo>
                <a:lnTo>
                  <a:pt x="231792" y="464465"/>
                </a:lnTo>
                <a:lnTo>
                  <a:pt x="227421" y="447777"/>
                </a:lnTo>
                <a:lnTo>
                  <a:pt x="223845" y="430693"/>
                </a:lnTo>
                <a:lnTo>
                  <a:pt x="221064" y="413211"/>
                </a:lnTo>
                <a:lnTo>
                  <a:pt x="219078" y="395331"/>
                </a:lnTo>
                <a:lnTo>
                  <a:pt x="217886" y="377452"/>
                </a:lnTo>
                <a:lnTo>
                  <a:pt x="217488" y="359175"/>
                </a:lnTo>
                <a:lnTo>
                  <a:pt x="217886" y="340502"/>
                </a:lnTo>
                <a:lnTo>
                  <a:pt x="219078" y="322622"/>
                </a:lnTo>
                <a:lnTo>
                  <a:pt x="221064" y="304743"/>
                </a:lnTo>
                <a:lnTo>
                  <a:pt x="223845" y="287658"/>
                </a:lnTo>
                <a:lnTo>
                  <a:pt x="227421" y="270574"/>
                </a:lnTo>
                <a:lnTo>
                  <a:pt x="231792" y="253886"/>
                </a:lnTo>
                <a:lnTo>
                  <a:pt x="237751" y="237596"/>
                </a:lnTo>
                <a:lnTo>
                  <a:pt x="243711" y="221306"/>
                </a:lnTo>
                <a:lnTo>
                  <a:pt x="250465" y="205811"/>
                </a:lnTo>
                <a:lnTo>
                  <a:pt x="258412" y="190315"/>
                </a:lnTo>
                <a:lnTo>
                  <a:pt x="267153" y="175615"/>
                </a:lnTo>
                <a:lnTo>
                  <a:pt x="276291" y="160516"/>
                </a:lnTo>
                <a:lnTo>
                  <a:pt x="286621" y="146610"/>
                </a:lnTo>
                <a:lnTo>
                  <a:pt x="297746" y="132307"/>
                </a:lnTo>
                <a:lnTo>
                  <a:pt x="309665" y="118798"/>
                </a:lnTo>
                <a:lnTo>
                  <a:pt x="322379" y="105289"/>
                </a:lnTo>
                <a:lnTo>
                  <a:pt x="335491" y="92575"/>
                </a:lnTo>
                <a:lnTo>
                  <a:pt x="349397" y="80655"/>
                </a:lnTo>
                <a:lnTo>
                  <a:pt x="363303" y="69530"/>
                </a:lnTo>
                <a:lnTo>
                  <a:pt x="378003" y="59200"/>
                </a:lnTo>
                <a:lnTo>
                  <a:pt x="392307" y="50062"/>
                </a:lnTo>
                <a:lnTo>
                  <a:pt x="407405" y="41321"/>
                </a:lnTo>
                <a:lnTo>
                  <a:pt x="422900" y="33374"/>
                </a:lnTo>
                <a:lnTo>
                  <a:pt x="438395" y="26620"/>
                </a:lnTo>
                <a:lnTo>
                  <a:pt x="454288" y="20263"/>
                </a:lnTo>
                <a:lnTo>
                  <a:pt x="470975" y="15098"/>
                </a:lnTo>
                <a:lnTo>
                  <a:pt x="487662" y="10727"/>
                </a:lnTo>
                <a:lnTo>
                  <a:pt x="504747" y="7151"/>
                </a:lnTo>
                <a:lnTo>
                  <a:pt x="522228" y="3973"/>
                </a:lnTo>
                <a:lnTo>
                  <a:pt x="539710" y="1589"/>
                </a:lnTo>
                <a:lnTo>
                  <a:pt x="557589" y="397"/>
                </a:lnTo>
                <a:lnTo>
                  <a:pt x="576263" y="0"/>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Tree>
  </p:cSld>
  <p:transition>
    <p:push dir="u"/>
  </p:transition>
  <p:timing>
    <p:tnLst>
      <p:par>
        <p:cTn id="242" dur="indefinite" restart="never" nodeType="tmRoot">
          <p:childTnLst>
            <p:seq>
              <p:cTn id="243" restart="whenNotActive" nodeType="interactiveSeq" fill="hold">
                <p:stCondLst>
                  <p:cond evt="onClick">
                    <p:tgtEl>
                      <p:spTgt spid="180"/>
                    </p:tgtEl>
                  </p:cond>
                </p:stCondLst>
                <p:childTnLst>
                  <p:par>
                    <p:cTn id="244" fill="hold">
                      <p:stCondLst>
                        <p:cond evt="onClick">
                          <p:tgtEl>
                            <p:spTgt spid="180"/>
                          </p:tgtEl>
                        </p:cond>
                      </p:stCondLst>
                      <p:childTnLst>
                        <p:par>
                          <p:cTn id="245" fill="hold">
                            <p:stCondLst>
                              <p:cond delay="0"/>
                            </p:stCondLst>
                            <p:childTnLst>
                              <p:par>
                                <p:cTn id="246" dur="indefinite" nodeType="clickEffect" fill="hold" presetClass="mediacall" presetID="2">
                                  <p:stCondLst>
                                    <p:cond delay="0"/>
                                  </p:stCondLst>
                                  <p:childTnLst>
                                    <p:cmd type="call" cmd="togglePause">
                                      <p:cBhvr>
                                        <p:cTn id="247" dur="1"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矩形 21"/>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183" name="组合 22" descr=""/>
          <p:cNvPicPr/>
          <p:nvPr/>
        </p:nvPicPr>
        <p:blipFill>
          <a:blip r:embed="rId1"/>
          <a:stretch/>
        </p:blipFill>
        <p:spPr>
          <a:xfrm>
            <a:off x="237960" y="206280"/>
            <a:ext cx="578160" cy="576360"/>
          </a:xfrm>
          <a:prstGeom prst="rect">
            <a:avLst/>
          </a:prstGeom>
          <a:ln w="0">
            <a:noFill/>
          </a:ln>
        </p:spPr>
      </p:pic>
      <p:pic>
        <p:nvPicPr>
          <p:cNvPr id="184" name="矩形 2" descr=""/>
          <p:cNvPicPr/>
          <p:nvPr/>
        </p:nvPicPr>
        <p:blipFill>
          <a:blip r:embed="rId2"/>
          <a:stretch/>
        </p:blipFill>
        <p:spPr>
          <a:xfrm>
            <a:off x="1517760" y="2516040"/>
            <a:ext cx="9190080" cy="1754280"/>
          </a:xfrm>
          <a:prstGeom prst="rect">
            <a:avLst/>
          </a:prstGeom>
          <a:ln w="0">
            <a:noFill/>
          </a:ln>
        </p:spPr>
      </p:pic>
      <p:sp>
        <p:nvSpPr>
          <p:cNvPr id="185" name="PlaceHolder 1"/>
          <p:cNvSpPr>
            <a:spLocks noGrp="1"/>
          </p:cNvSpPr>
          <p:nvPr>
            <p:ph type="title"/>
          </p:nvPr>
        </p:nvSpPr>
        <p:spPr>
          <a:xfrm>
            <a:off x="855720" y="9698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8235"/>
                </a:solidFill>
                <a:latin typeface="等线 Light"/>
              </a:rPr>
              <a:t>Group Discussion</a:t>
            </a:r>
            <a:endParaRPr b="0" lang="en-US" sz="4400" spc="-1" strike="noStrike">
              <a:solidFill>
                <a:srgbClr val="000000"/>
              </a:solidFill>
              <a:latin typeface="等线 Light"/>
            </a:endParaRPr>
          </a:p>
        </p:txBody>
      </p:sp>
    </p:spTree>
  </p:cSld>
  <p:transition>
    <p:push dir="u"/>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dur="indefinite" nodeType="clickEffect" fill="hold" presetClass="entr" presetID="26">
                                  <p:stCondLst>
                                    <p:cond delay="0"/>
                                  </p:stCondLst>
                                  <p:childTnLst>
                                    <p:set>
                                      <p:cBhvr>
                                        <p:cTn id="253" dur="1" fill="hold">
                                          <p:stCondLst>
                                            <p:cond delay="0"/>
                                          </p:stCondLst>
                                        </p:cTn>
                                        <p:tgtEl>
                                          <p:spTgt spid="184"/>
                                        </p:tgtEl>
                                        <p:attrNameLst>
                                          <p:attrName>style.visibility</p:attrName>
                                        </p:attrNameLst>
                                      </p:cBhvr>
                                      <p:to>
                                        <p:strVal val="visible"/>
                                      </p:to>
                                    </p:set>
                                    <p:animEffect filter="wipe(down)" transition="in">
                                      <p:cBhvr additive="repl">
                                        <p:cTn id="254" dur="580">
                                          <p:stCondLst>
                                            <p:cond delay="0"/>
                                          </p:stCondLst>
                                        </p:cTn>
                                        <p:tgtEl>
                                          <p:spTgt spid="184"/>
                                        </p:tgtEl>
                                      </p:cBhvr>
                                    </p:animEffect>
                                    <p:anim calcmode="lin" valueType="num">
                                      <p:cBhvr additive="repl">
                                        <p:cTn id="255" dur="1822">
                                          <p:stCondLst>
                                            <p:cond delay="0"/>
                                          </p:stCondLst>
                                        </p:cTn>
                                        <p:tgtEl>
                                          <p:spTgt spid="184"/>
                                        </p:tgtEl>
                                        <p:attrNameLst>
                                          <p:attrName>ppt_x</p:attrName>
                                        </p:attrNameLst>
                                      </p:cBhvr>
                                      <p:tavLst>
                                        <p:tav tm="0">
                                          <p:val>
                                            <p:strVal val="#ppt_x-0.25"/>
                                          </p:val>
                                        </p:tav>
                                        <p:tav tm="100000">
                                          <p:val>
                                            <p:strVal val="#ppt_x"/>
                                          </p:val>
                                        </p:tav>
                                      </p:tavLst>
                                    </p:anim>
                                    <p:anim calcmode="lin" valueType="num">
                                      <p:cBhvr additive="repl">
                                        <p:cTn id="256" dur="664">
                                          <p:stCondLst>
                                            <p:cond delay="0"/>
                                          </p:stCondLst>
                                        </p:cTn>
                                        <p:tgtEl>
                                          <p:spTgt spid="184"/>
                                        </p:tgtEl>
                                        <p:attrNameLst>
                                          <p:attrName>ppt_y</p:attrName>
                                        </p:attrNameLst>
                                      </p:cBhvr>
                                      <p:tavLst>
                                        <p:tav fmla="y-sin(pi*$)/3" tm="0">
                                          <p:val>
                                            <p:fltVal val="0.5"/>
                                          </p:val>
                                        </p:tav>
                                        <p:tav fmla="y-sin(pi*$)/3" tm="100000">
                                          <p:val>
                                            <p:fltVal val="1"/>
                                          </p:val>
                                        </p:tav>
                                      </p:tavLst>
                                    </p:anim>
                                    <p:anim calcmode="lin" valueType="num">
                                      <p:cBhvr additive="repl">
                                        <p:cTn id="257" dur="664">
                                          <p:stCondLst>
                                            <p:cond delay="664"/>
                                          </p:stCondLst>
                                        </p:cTn>
                                        <p:tgtEl>
                                          <p:spTgt spid="184"/>
                                        </p:tgtEl>
                                        <p:attrNameLst>
                                          <p:attrName>ppt_y</p:attrName>
                                        </p:attrNameLst>
                                      </p:cBhvr>
                                      <p:tavLst>
                                        <p:tav fmla="y-sin(pi*$)/9" tm="0">
                                          <p:val>
                                            <p:fltVal val="0"/>
                                          </p:val>
                                        </p:tav>
                                        <p:tav fmla="y-sin(pi*$)/9" tm="100000">
                                          <p:val>
                                            <p:fltVal val="1"/>
                                          </p:val>
                                        </p:tav>
                                      </p:tavLst>
                                    </p:anim>
                                    <p:anim calcmode="lin" valueType="num">
                                      <p:cBhvr additive="repl">
                                        <p:cTn id="258" dur="332">
                                          <p:stCondLst>
                                            <p:cond delay="1324"/>
                                          </p:stCondLst>
                                        </p:cTn>
                                        <p:tgtEl>
                                          <p:spTgt spid="184"/>
                                        </p:tgtEl>
                                        <p:attrNameLst>
                                          <p:attrName>ppt_y</p:attrName>
                                        </p:attrNameLst>
                                      </p:cBhvr>
                                      <p:tavLst>
                                        <p:tav fmla="y-sin(pi*$)/27" tm="0">
                                          <p:val>
                                            <p:fltVal val="0"/>
                                          </p:val>
                                        </p:tav>
                                        <p:tav fmla="y-sin(pi*$)/27" tm="100000">
                                          <p:val>
                                            <p:fltVal val="1"/>
                                          </p:val>
                                        </p:tav>
                                      </p:tavLst>
                                    </p:anim>
                                    <p:anim calcmode="lin" valueType="num">
                                      <p:cBhvr additive="repl">
                                        <p:cTn id="259" dur="164">
                                          <p:stCondLst>
                                            <p:cond delay="1656"/>
                                          </p:stCondLst>
                                        </p:cTn>
                                        <p:tgtEl>
                                          <p:spTgt spid="184"/>
                                        </p:tgtEl>
                                        <p:attrNameLst>
                                          <p:attrName>ppt_y</p:attrName>
                                        </p:attrNameLst>
                                      </p:cBhvr>
                                      <p:tavLst>
                                        <p:tav fmla="y-sin(pi*$)/81" tm="0">
                                          <p:val>
                                            <p:fltVal val="0"/>
                                          </p:val>
                                        </p:tav>
                                        <p:tav fmla="y-sin(pi*$)/81" tm="100000">
                                          <p:val>
                                            <p:fltVal val="1"/>
                                          </p:val>
                                        </p:tav>
                                      </p:tavLst>
                                    </p:anim>
                                    <p:animScale>
                                      <p:cBhvr>
                                        <p:cTn id="260" dur="26" fill="hold">
                                          <p:stCondLst>
                                            <p:cond delay="650"/>
                                          </p:stCondLst>
                                        </p:cTn>
                                        <p:tgtEl>
                                          <p:spTgt spid="184"/>
                                        </p:tgtEl>
                                      </p:cBhvr>
                                      <p:to x="100000" y="60000"/>
                                    </p:animScale>
                                    <p:animScale>
                                      <p:cBhvr>
                                        <p:cTn id="261" dur="166" fill="hold">
                                          <p:stCondLst>
                                            <p:cond delay="676"/>
                                          </p:stCondLst>
                                        </p:cTn>
                                        <p:tgtEl>
                                          <p:spTgt spid="184"/>
                                        </p:tgtEl>
                                      </p:cBhvr>
                                      <p:to x="100000" y="100000"/>
                                    </p:animScale>
                                    <p:animScale>
                                      <p:cBhvr>
                                        <p:cTn id="262" dur="26" fill="hold">
                                          <p:stCondLst>
                                            <p:cond delay="1312"/>
                                          </p:stCondLst>
                                        </p:cTn>
                                        <p:tgtEl>
                                          <p:spTgt spid="184"/>
                                        </p:tgtEl>
                                      </p:cBhvr>
                                      <p:to x="100000" y="80000"/>
                                    </p:animScale>
                                    <p:animScale>
                                      <p:cBhvr>
                                        <p:cTn id="263" dur="166" fill="hold">
                                          <p:stCondLst>
                                            <p:cond delay="1338"/>
                                          </p:stCondLst>
                                        </p:cTn>
                                        <p:tgtEl>
                                          <p:spTgt spid="184"/>
                                        </p:tgtEl>
                                      </p:cBhvr>
                                      <p:to x="100000" y="100000"/>
                                    </p:animScale>
                                    <p:animScale>
                                      <p:cBhvr>
                                        <p:cTn id="264" dur="26" fill="hold">
                                          <p:stCondLst>
                                            <p:cond delay="1642"/>
                                          </p:stCondLst>
                                        </p:cTn>
                                        <p:tgtEl>
                                          <p:spTgt spid="184"/>
                                        </p:tgtEl>
                                      </p:cBhvr>
                                      <p:to x="100000" y="90000"/>
                                    </p:animScale>
                                    <p:animScale>
                                      <p:cBhvr>
                                        <p:cTn id="265" dur="166" fill="hold">
                                          <p:stCondLst>
                                            <p:cond delay="1668"/>
                                          </p:stCondLst>
                                        </p:cTn>
                                        <p:tgtEl>
                                          <p:spTgt spid="184"/>
                                        </p:tgtEl>
                                      </p:cBhvr>
                                      <p:to x="100000" y="100000"/>
                                    </p:animScale>
                                    <p:animScale>
                                      <p:cBhvr>
                                        <p:cTn id="266" dur="26" fill="hold">
                                          <p:stCondLst>
                                            <p:cond delay="1808"/>
                                          </p:stCondLst>
                                        </p:cTn>
                                        <p:tgtEl>
                                          <p:spTgt spid="184"/>
                                        </p:tgtEl>
                                      </p:cBhvr>
                                      <p:to x="100000" y="95000"/>
                                    </p:animScale>
                                    <p:animScale>
                                      <p:cBhvr>
                                        <p:cTn id="267" dur="166" fill="hold">
                                          <p:stCondLst>
                                            <p:cond delay="1834"/>
                                          </p:stCondLst>
                                        </p:cTn>
                                        <p:tgtEl>
                                          <p:spTgt spid="18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直接连接符 8"/>
          <p:cNvSpPr/>
          <p:nvPr/>
        </p:nvSpPr>
        <p:spPr>
          <a:xfrm>
            <a:off x="420840" y="3154320"/>
            <a:ext cx="11566440" cy="0"/>
          </a:xfrm>
          <a:prstGeom prst="line">
            <a:avLst/>
          </a:prstGeom>
          <a:ln w="19080">
            <a:solidFill>
              <a:srgbClr val="708265"/>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等线"/>
            </a:endParaRPr>
          </a:p>
        </p:txBody>
      </p:sp>
      <p:sp>
        <p:nvSpPr>
          <p:cNvPr id="187" name="直接连接符 10"/>
          <p:cNvSpPr/>
          <p:nvPr/>
        </p:nvSpPr>
        <p:spPr>
          <a:xfrm>
            <a:off x="1477800" y="2741760"/>
            <a:ext cx="0" cy="903240"/>
          </a:xfrm>
          <a:prstGeom prst="line">
            <a:avLst/>
          </a:prstGeom>
          <a:ln w="19080">
            <a:solidFill>
              <a:srgbClr val="708265"/>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等线"/>
            </a:endParaRPr>
          </a:p>
        </p:txBody>
      </p:sp>
      <p:sp>
        <p:nvSpPr>
          <p:cNvPr id="188" name="直接连接符 61"/>
          <p:cNvSpPr/>
          <p:nvPr/>
        </p:nvSpPr>
        <p:spPr>
          <a:xfrm>
            <a:off x="3868560" y="2741760"/>
            <a:ext cx="0" cy="903240"/>
          </a:xfrm>
          <a:prstGeom prst="line">
            <a:avLst/>
          </a:prstGeom>
          <a:ln w="19080">
            <a:solidFill>
              <a:srgbClr val="708265"/>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等线"/>
            </a:endParaRPr>
          </a:p>
        </p:txBody>
      </p:sp>
      <p:sp>
        <p:nvSpPr>
          <p:cNvPr id="189" name="直接连接符 62"/>
          <p:cNvSpPr/>
          <p:nvPr/>
        </p:nvSpPr>
        <p:spPr>
          <a:xfrm>
            <a:off x="8513640" y="2705040"/>
            <a:ext cx="0" cy="903240"/>
          </a:xfrm>
          <a:prstGeom prst="line">
            <a:avLst/>
          </a:prstGeom>
          <a:ln w="19080">
            <a:solidFill>
              <a:srgbClr val="708265"/>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等线"/>
            </a:endParaRPr>
          </a:p>
        </p:txBody>
      </p:sp>
      <p:sp>
        <p:nvSpPr>
          <p:cNvPr id="190" name="直接连接符 72"/>
          <p:cNvSpPr/>
          <p:nvPr/>
        </p:nvSpPr>
        <p:spPr>
          <a:xfrm>
            <a:off x="10987200" y="2701800"/>
            <a:ext cx="0" cy="903240"/>
          </a:xfrm>
          <a:prstGeom prst="line">
            <a:avLst/>
          </a:prstGeom>
          <a:ln w="19080">
            <a:solidFill>
              <a:srgbClr val="708265"/>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等线"/>
            </a:endParaRPr>
          </a:p>
        </p:txBody>
      </p:sp>
      <p:sp>
        <p:nvSpPr>
          <p:cNvPr id="191" name="椭圆 12"/>
          <p:cNvSpPr/>
          <p:nvPr/>
        </p:nvSpPr>
        <p:spPr>
          <a:xfrm>
            <a:off x="1376280" y="3608280"/>
            <a:ext cx="203400" cy="203400"/>
          </a:xfrm>
          <a:prstGeom prst="ellipse">
            <a:avLst/>
          </a:prstGeom>
          <a:solidFill>
            <a:srgbClr val="fefefe"/>
          </a:solidFill>
          <a:ln w="1260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92" name="椭圆 73"/>
          <p:cNvSpPr/>
          <p:nvPr/>
        </p:nvSpPr>
        <p:spPr>
          <a:xfrm>
            <a:off x="3767040" y="3605040"/>
            <a:ext cx="203400" cy="203400"/>
          </a:xfrm>
          <a:prstGeom prst="ellipse">
            <a:avLst/>
          </a:prstGeom>
          <a:solidFill>
            <a:srgbClr val="fefefe"/>
          </a:solidFill>
          <a:ln w="1260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93" name="椭圆 74"/>
          <p:cNvSpPr/>
          <p:nvPr/>
        </p:nvSpPr>
        <p:spPr>
          <a:xfrm>
            <a:off x="6102360" y="3608280"/>
            <a:ext cx="203040" cy="203400"/>
          </a:xfrm>
          <a:prstGeom prst="ellipse">
            <a:avLst/>
          </a:prstGeom>
          <a:solidFill>
            <a:srgbClr val="fefefe"/>
          </a:solidFill>
          <a:ln w="1260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94" name="椭圆 75"/>
          <p:cNvSpPr/>
          <p:nvPr/>
        </p:nvSpPr>
        <p:spPr>
          <a:xfrm>
            <a:off x="10885320" y="3689280"/>
            <a:ext cx="203400" cy="203400"/>
          </a:xfrm>
          <a:prstGeom prst="ellipse">
            <a:avLst/>
          </a:prstGeom>
          <a:solidFill>
            <a:srgbClr val="fefefe"/>
          </a:solidFill>
          <a:ln w="1260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95" name="文本框 80"/>
          <p:cNvSpPr/>
          <p:nvPr/>
        </p:nvSpPr>
        <p:spPr>
          <a:xfrm>
            <a:off x="1090440" y="3892680"/>
            <a:ext cx="104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44546a"/>
                </a:solidFill>
                <a:latin typeface="Calibri"/>
              </a:rPr>
              <a:t>/ɑ: / </a:t>
            </a:r>
            <a:endParaRPr b="0" lang="en-US" sz="2800" spc="-1" strike="noStrike">
              <a:solidFill>
                <a:srgbClr val="000000"/>
              </a:solidFill>
              <a:latin typeface="等线"/>
            </a:endParaRPr>
          </a:p>
        </p:txBody>
      </p:sp>
      <p:sp>
        <p:nvSpPr>
          <p:cNvPr id="196" name="文本框 81"/>
          <p:cNvSpPr/>
          <p:nvPr/>
        </p:nvSpPr>
        <p:spPr>
          <a:xfrm>
            <a:off x="3449880" y="3848040"/>
            <a:ext cx="83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44546a"/>
                </a:solidFill>
                <a:latin typeface="Calibri"/>
              </a:rPr>
              <a:t>/ ɒ /</a:t>
            </a:r>
            <a:endParaRPr b="0" lang="en-US" sz="2800" spc="-1" strike="noStrike">
              <a:solidFill>
                <a:srgbClr val="000000"/>
              </a:solidFill>
              <a:latin typeface="等线"/>
            </a:endParaRPr>
          </a:p>
        </p:txBody>
      </p:sp>
      <p:sp>
        <p:nvSpPr>
          <p:cNvPr id="197" name="文本框 82"/>
          <p:cNvSpPr/>
          <p:nvPr/>
        </p:nvSpPr>
        <p:spPr>
          <a:xfrm>
            <a:off x="5778360" y="3848040"/>
            <a:ext cx="89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44546a"/>
                </a:solidFill>
                <a:latin typeface="Calibri"/>
              </a:rPr>
              <a:t>/ ɔ: /</a:t>
            </a:r>
            <a:endParaRPr b="0" lang="en-US" sz="2800" spc="-1" strike="noStrike">
              <a:solidFill>
                <a:srgbClr val="000000"/>
              </a:solidFill>
              <a:latin typeface="等线"/>
            </a:endParaRPr>
          </a:p>
        </p:txBody>
      </p:sp>
      <p:sp>
        <p:nvSpPr>
          <p:cNvPr id="198" name="文本框 83"/>
          <p:cNvSpPr/>
          <p:nvPr/>
        </p:nvSpPr>
        <p:spPr>
          <a:xfrm>
            <a:off x="8096040" y="3809880"/>
            <a:ext cx="85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44546a"/>
                </a:solidFill>
                <a:latin typeface="Calibri"/>
              </a:rPr>
              <a:t>/ ʊ /</a:t>
            </a:r>
            <a:endParaRPr b="0" lang="en-US" sz="2800" spc="-1" strike="noStrike">
              <a:solidFill>
                <a:srgbClr val="000000"/>
              </a:solidFill>
              <a:latin typeface="等线"/>
            </a:endParaRPr>
          </a:p>
        </p:txBody>
      </p:sp>
      <p:sp>
        <p:nvSpPr>
          <p:cNvPr id="199" name="文本框 84"/>
          <p:cNvSpPr/>
          <p:nvPr/>
        </p:nvSpPr>
        <p:spPr>
          <a:xfrm>
            <a:off x="344520" y="4465800"/>
            <a:ext cx="25336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等线"/>
              </a:rPr>
              <a:t>The tongue is held very low. The mouth is opened with no lip-rounding. The sound is like the exclamation “Ah”.</a:t>
            </a:r>
            <a:endParaRPr b="0" lang="en-US" sz="2000" spc="-1" strike="noStrike">
              <a:solidFill>
                <a:srgbClr val="000000"/>
              </a:solidFill>
              <a:latin typeface="等线"/>
            </a:endParaRPr>
          </a:p>
        </p:txBody>
      </p:sp>
      <p:sp>
        <p:nvSpPr>
          <p:cNvPr id="200" name="文本框 85"/>
          <p:cNvSpPr/>
          <p:nvPr/>
        </p:nvSpPr>
        <p:spPr>
          <a:xfrm>
            <a:off x="3213000" y="4465800"/>
            <a:ext cx="361476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等线"/>
              </a:rPr>
              <a:t>/ ɒ/ is a low vowel while / ɒ / is a mid vowel, so the mouth is more open for /ɒ /.</a:t>
            </a:r>
            <a:endParaRPr b="0" lang="en-US" sz="20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等线"/>
              </a:rPr>
              <a:t>/ɔ :/ has quite strong lip rounding while the lips are only slightly rounded for / ɒ /.</a:t>
            </a:r>
            <a:br>
              <a:rPr sz="2000"/>
            </a:br>
            <a:endParaRPr b="0" lang="en-US" sz="2000" spc="-1" strike="noStrike">
              <a:solidFill>
                <a:srgbClr val="000000"/>
              </a:solidFill>
              <a:latin typeface="等线"/>
            </a:endParaRPr>
          </a:p>
        </p:txBody>
      </p:sp>
      <p:sp>
        <p:nvSpPr>
          <p:cNvPr id="201" name="文本框 105"/>
          <p:cNvSpPr/>
          <p:nvPr/>
        </p:nvSpPr>
        <p:spPr>
          <a:xfrm>
            <a:off x="7753320" y="4457880"/>
            <a:ext cx="4014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等线"/>
              </a:rPr>
              <a:t>/u:/ is somewhat relaxed though it is a long vowel. </a:t>
            </a:r>
            <a:endParaRPr b="0" lang="en-US" sz="20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等线"/>
              </a:rPr>
              <a:t>In the pronunciation of /u:/, the lips are more rounded and closed than for /u/. The back of the tongue is raised higher, too.</a:t>
            </a:r>
            <a:endParaRPr b="0" lang="en-US" sz="2000" spc="-1" strike="noStrike">
              <a:solidFill>
                <a:srgbClr val="000000"/>
              </a:solidFill>
              <a:latin typeface="等线"/>
            </a:endParaRPr>
          </a:p>
        </p:txBody>
      </p:sp>
      <p:sp>
        <p:nvSpPr>
          <p:cNvPr id="202" name="矩形 28"/>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03" name="组合 30" descr=""/>
          <p:cNvPicPr/>
          <p:nvPr/>
        </p:nvPicPr>
        <p:blipFill>
          <a:blip r:embed="rId1"/>
          <a:stretch/>
        </p:blipFill>
        <p:spPr>
          <a:xfrm>
            <a:off x="237960" y="206280"/>
            <a:ext cx="578160" cy="576360"/>
          </a:xfrm>
          <a:prstGeom prst="rect">
            <a:avLst/>
          </a:prstGeom>
          <a:ln w="0">
            <a:noFill/>
          </a:ln>
        </p:spPr>
      </p:pic>
      <p:sp>
        <p:nvSpPr>
          <p:cNvPr id="204" name="文本框 25"/>
          <p:cNvSpPr/>
          <p:nvPr/>
        </p:nvSpPr>
        <p:spPr>
          <a:xfrm>
            <a:off x="917640" y="212760"/>
            <a:ext cx="704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Distinguish the Similar Phonemes</a:t>
            </a:r>
            <a:endParaRPr b="0" lang="en-US" sz="3200" spc="-1" strike="noStrike">
              <a:solidFill>
                <a:srgbClr val="000000"/>
              </a:solidFill>
              <a:latin typeface="等线"/>
            </a:endParaRPr>
          </a:p>
        </p:txBody>
      </p:sp>
      <p:pic>
        <p:nvPicPr>
          <p:cNvPr id="205" name="图片 7185" descr=""/>
          <p:cNvPicPr/>
          <p:nvPr/>
        </p:nvPicPr>
        <p:blipFill>
          <a:blip r:embed="rId2"/>
          <a:stretch/>
        </p:blipFill>
        <p:spPr>
          <a:xfrm>
            <a:off x="814320" y="1203480"/>
            <a:ext cx="1594080" cy="1538280"/>
          </a:xfrm>
          <a:prstGeom prst="rect">
            <a:avLst/>
          </a:prstGeom>
          <a:ln w="0">
            <a:noFill/>
          </a:ln>
        </p:spPr>
      </p:pic>
      <p:sp>
        <p:nvSpPr>
          <p:cNvPr id="206" name="椭圆 1"/>
          <p:cNvSpPr/>
          <p:nvPr/>
        </p:nvSpPr>
        <p:spPr>
          <a:xfrm>
            <a:off x="8412120" y="3645000"/>
            <a:ext cx="203400" cy="203040"/>
          </a:xfrm>
          <a:prstGeom prst="ellipse">
            <a:avLst/>
          </a:prstGeom>
          <a:solidFill>
            <a:srgbClr val="fefefe"/>
          </a:solidFill>
          <a:ln w="1260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07" name="直接连接符 2"/>
          <p:cNvSpPr/>
          <p:nvPr/>
        </p:nvSpPr>
        <p:spPr>
          <a:xfrm>
            <a:off x="6203880" y="2701800"/>
            <a:ext cx="0" cy="903240"/>
          </a:xfrm>
          <a:prstGeom prst="line">
            <a:avLst/>
          </a:prstGeom>
          <a:ln w="19080">
            <a:solidFill>
              <a:srgbClr val="708265"/>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等线"/>
            </a:endParaRPr>
          </a:p>
        </p:txBody>
      </p:sp>
      <p:sp>
        <p:nvSpPr>
          <p:cNvPr id="208" name="文本框 3"/>
          <p:cNvSpPr/>
          <p:nvPr/>
        </p:nvSpPr>
        <p:spPr>
          <a:xfrm>
            <a:off x="10519200" y="3848040"/>
            <a:ext cx="93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44546a"/>
                </a:solidFill>
                <a:latin typeface="Calibri"/>
              </a:rPr>
              <a:t>/ u: /</a:t>
            </a:r>
            <a:endParaRPr b="0" lang="en-US" sz="2800" spc="-1" strike="noStrike">
              <a:solidFill>
                <a:srgbClr val="000000"/>
              </a:solidFill>
              <a:latin typeface="等线"/>
            </a:endParaRPr>
          </a:p>
        </p:txBody>
      </p:sp>
      <p:pic>
        <p:nvPicPr>
          <p:cNvPr id="209" name="图片 10251" descr=""/>
          <p:cNvPicPr/>
          <p:nvPr/>
        </p:nvPicPr>
        <p:blipFill>
          <a:blip r:embed="rId3"/>
          <a:stretch/>
        </p:blipFill>
        <p:spPr>
          <a:xfrm>
            <a:off x="3036960" y="1204920"/>
            <a:ext cx="1665360" cy="1538280"/>
          </a:xfrm>
          <a:prstGeom prst="rect">
            <a:avLst/>
          </a:prstGeom>
          <a:ln w="0">
            <a:noFill/>
          </a:ln>
        </p:spPr>
      </p:pic>
      <p:pic>
        <p:nvPicPr>
          <p:cNvPr id="210" name="图片 11271" descr=""/>
          <p:cNvPicPr/>
          <p:nvPr/>
        </p:nvPicPr>
        <p:blipFill>
          <a:blip r:embed="rId4"/>
          <a:stretch/>
        </p:blipFill>
        <p:spPr>
          <a:xfrm>
            <a:off x="5510160" y="1163520"/>
            <a:ext cx="1701720" cy="1621080"/>
          </a:xfrm>
          <a:prstGeom prst="rect">
            <a:avLst/>
          </a:prstGeom>
          <a:ln w="0">
            <a:noFill/>
          </a:ln>
        </p:spPr>
      </p:pic>
      <p:pic>
        <p:nvPicPr>
          <p:cNvPr id="211" name="图片 15371" descr=""/>
          <p:cNvPicPr/>
          <p:nvPr/>
        </p:nvPicPr>
        <p:blipFill>
          <a:blip r:embed="rId5"/>
          <a:stretch/>
        </p:blipFill>
        <p:spPr>
          <a:xfrm>
            <a:off x="10185480" y="1144440"/>
            <a:ext cx="1582560" cy="1557360"/>
          </a:xfrm>
          <a:prstGeom prst="rect">
            <a:avLst/>
          </a:prstGeom>
          <a:ln w="0">
            <a:noFill/>
          </a:ln>
        </p:spPr>
      </p:pic>
      <p:pic>
        <p:nvPicPr>
          <p:cNvPr id="212" name="图片 16396" descr=""/>
          <p:cNvPicPr/>
          <p:nvPr/>
        </p:nvPicPr>
        <p:blipFill>
          <a:blip r:embed="rId6"/>
          <a:stretch/>
        </p:blipFill>
        <p:spPr>
          <a:xfrm>
            <a:off x="7753320" y="1144440"/>
            <a:ext cx="1569960" cy="1497240"/>
          </a:xfrm>
          <a:prstGeom prst="rect">
            <a:avLst/>
          </a:prstGeom>
          <a:ln w="0">
            <a:noFill/>
          </a:ln>
        </p:spPr>
      </p:pic>
    </p:spTree>
  </p:cSld>
  <p:transition>
    <p:push dir="u"/>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dur="indefinite" nodeType="clickEffect" fill="hold" presetClass="entr" presetID="50">
                                  <p:stCondLst>
                                    <p:cond delay="0"/>
                                  </p:stCondLst>
                                  <p:iterate type="lt">
                                    <p:tmAbs val="25"/>
                                  </p:iterate>
                                  <p:childTnLst>
                                    <p:set>
                                      <p:cBhvr>
                                        <p:cTn id="273" dur="1" fill="hold">
                                          <p:stCondLst>
                                            <p:cond delay="0"/>
                                          </p:stCondLst>
                                        </p:cTn>
                                        <p:tgtEl>
                                          <p:spTgt spid="195"/>
                                        </p:tgtEl>
                                        <p:attrNameLst>
                                          <p:attrName>style.visibility</p:attrName>
                                        </p:attrNameLst>
                                      </p:cBhvr>
                                      <p:to>
                                        <p:strVal val="visible"/>
                                      </p:to>
                                    </p:set>
                                    <p:anim calcmode="lin" valueType="num">
                                      <p:cBhvr additive="repl">
                                        <p:cTn id="274" dur="500" fill="hold"/>
                                        <p:tgtEl>
                                          <p:spTgt spid="195"/>
                                        </p:tgtEl>
                                        <p:attrNameLst>
                                          <p:attrName>ppt_w</p:attrName>
                                        </p:attrNameLst>
                                      </p:cBhvr>
                                      <p:tavLst>
                                        <p:tav tm="0">
                                          <p:val>
                                            <p:strVal val="#ppt_w+.3"/>
                                          </p:val>
                                        </p:tav>
                                        <p:tav tm="100000">
                                          <p:val>
                                            <p:strVal val="#ppt_w"/>
                                          </p:val>
                                        </p:tav>
                                      </p:tavLst>
                                    </p:anim>
                                    <p:anim calcmode="lin" valueType="num">
                                      <p:cBhvr additive="repl">
                                        <p:cTn id="275" dur="500" fill="hold"/>
                                        <p:tgtEl>
                                          <p:spTgt spid="195"/>
                                        </p:tgtEl>
                                        <p:attrNameLst>
                                          <p:attrName>ppt_h</p:attrName>
                                        </p:attrNameLst>
                                      </p:cBhvr>
                                      <p:tavLst>
                                        <p:tav tm="0">
                                          <p:val>
                                            <p:strVal val="#ppt_h"/>
                                          </p:val>
                                        </p:tav>
                                        <p:tav tm="100000">
                                          <p:val>
                                            <p:strVal val="#ppt_h"/>
                                          </p:val>
                                        </p:tav>
                                      </p:tavLst>
                                    </p:anim>
                                    <p:animEffect filter="fade" transition="in">
                                      <p:cBhvr additive="repl">
                                        <p:cTn id="276" dur="500"/>
                                        <p:tgtEl>
                                          <p:spTgt spid="19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50">
                                  <p:stCondLst>
                                    <p:cond delay="0"/>
                                  </p:stCondLst>
                                  <p:iterate type="lt">
                                    <p:tmAbs val="25"/>
                                  </p:iterate>
                                  <p:childTnLst>
                                    <p:set>
                                      <p:cBhvr>
                                        <p:cTn id="280" dur="1" fill="hold">
                                          <p:stCondLst>
                                            <p:cond delay="0"/>
                                          </p:stCondLst>
                                        </p:cTn>
                                        <p:tgtEl>
                                          <p:spTgt spid="196"/>
                                        </p:tgtEl>
                                        <p:attrNameLst>
                                          <p:attrName>style.visibility</p:attrName>
                                        </p:attrNameLst>
                                      </p:cBhvr>
                                      <p:to>
                                        <p:strVal val="visible"/>
                                      </p:to>
                                    </p:set>
                                    <p:anim calcmode="lin" valueType="num">
                                      <p:cBhvr additive="repl">
                                        <p:cTn id="281" dur="500" fill="hold"/>
                                        <p:tgtEl>
                                          <p:spTgt spid="196"/>
                                        </p:tgtEl>
                                        <p:attrNameLst>
                                          <p:attrName>ppt_w</p:attrName>
                                        </p:attrNameLst>
                                      </p:cBhvr>
                                      <p:tavLst>
                                        <p:tav tm="0">
                                          <p:val>
                                            <p:strVal val="#ppt_w+.3"/>
                                          </p:val>
                                        </p:tav>
                                        <p:tav tm="100000">
                                          <p:val>
                                            <p:strVal val="#ppt_w"/>
                                          </p:val>
                                        </p:tav>
                                      </p:tavLst>
                                    </p:anim>
                                    <p:anim calcmode="lin" valueType="num">
                                      <p:cBhvr additive="repl">
                                        <p:cTn id="282" dur="500" fill="hold"/>
                                        <p:tgtEl>
                                          <p:spTgt spid="196"/>
                                        </p:tgtEl>
                                        <p:attrNameLst>
                                          <p:attrName>ppt_h</p:attrName>
                                        </p:attrNameLst>
                                      </p:cBhvr>
                                      <p:tavLst>
                                        <p:tav tm="0">
                                          <p:val>
                                            <p:strVal val="#ppt_h"/>
                                          </p:val>
                                        </p:tav>
                                        <p:tav tm="100000">
                                          <p:val>
                                            <p:strVal val="#ppt_h"/>
                                          </p:val>
                                        </p:tav>
                                      </p:tavLst>
                                    </p:anim>
                                    <p:animEffect filter="fade" transition="in">
                                      <p:cBhvr additive="repl">
                                        <p:cTn id="283" dur="500"/>
                                        <p:tgtEl>
                                          <p:spTgt spid="196"/>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50">
                                  <p:stCondLst>
                                    <p:cond delay="0"/>
                                  </p:stCondLst>
                                  <p:iterate type="lt">
                                    <p:tmAbs val="25"/>
                                  </p:iterate>
                                  <p:childTnLst>
                                    <p:set>
                                      <p:cBhvr>
                                        <p:cTn id="287" dur="1" fill="hold">
                                          <p:stCondLst>
                                            <p:cond delay="0"/>
                                          </p:stCondLst>
                                        </p:cTn>
                                        <p:tgtEl>
                                          <p:spTgt spid="197"/>
                                        </p:tgtEl>
                                        <p:attrNameLst>
                                          <p:attrName>style.visibility</p:attrName>
                                        </p:attrNameLst>
                                      </p:cBhvr>
                                      <p:to>
                                        <p:strVal val="visible"/>
                                      </p:to>
                                    </p:set>
                                    <p:anim calcmode="lin" valueType="num">
                                      <p:cBhvr additive="repl">
                                        <p:cTn id="288" dur="500" fill="hold"/>
                                        <p:tgtEl>
                                          <p:spTgt spid="197"/>
                                        </p:tgtEl>
                                        <p:attrNameLst>
                                          <p:attrName>ppt_w</p:attrName>
                                        </p:attrNameLst>
                                      </p:cBhvr>
                                      <p:tavLst>
                                        <p:tav tm="0">
                                          <p:val>
                                            <p:strVal val="#ppt_w+.3"/>
                                          </p:val>
                                        </p:tav>
                                        <p:tav tm="100000">
                                          <p:val>
                                            <p:strVal val="#ppt_w"/>
                                          </p:val>
                                        </p:tav>
                                      </p:tavLst>
                                    </p:anim>
                                    <p:anim calcmode="lin" valueType="num">
                                      <p:cBhvr additive="repl">
                                        <p:cTn id="289" dur="500" fill="hold"/>
                                        <p:tgtEl>
                                          <p:spTgt spid="197"/>
                                        </p:tgtEl>
                                        <p:attrNameLst>
                                          <p:attrName>ppt_h</p:attrName>
                                        </p:attrNameLst>
                                      </p:cBhvr>
                                      <p:tavLst>
                                        <p:tav tm="0">
                                          <p:val>
                                            <p:strVal val="#ppt_h"/>
                                          </p:val>
                                        </p:tav>
                                        <p:tav tm="100000">
                                          <p:val>
                                            <p:strVal val="#ppt_h"/>
                                          </p:val>
                                        </p:tav>
                                      </p:tavLst>
                                    </p:anim>
                                    <p:animEffect filter="fade" transition="in">
                                      <p:cBhvr additive="repl">
                                        <p:cTn id="290" dur="500"/>
                                        <p:tgtEl>
                                          <p:spTgt spid="197"/>
                                        </p:tgtEl>
                                      </p:cBhvr>
                                    </p:animEffec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50">
                                  <p:stCondLst>
                                    <p:cond delay="0"/>
                                  </p:stCondLst>
                                  <p:iterate type="lt">
                                    <p:tmAbs val="25"/>
                                  </p:iterate>
                                  <p:childTnLst>
                                    <p:set>
                                      <p:cBhvr>
                                        <p:cTn id="294" dur="1" fill="hold">
                                          <p:stCondLst>
                                            <p:cond delay="0"/>
                                          </p:stCondLst>
                                        </p:cTn>
                                        <p:tgtEl>
                                          <p:spTgt spid="198"/>
                                        </p:tgtEl>
                                        <p:attrNameLst>
                                          <p:attrName>style.visibility</p:attrName>
                                        </p:attrNameLst>
                                      </p:cBhvr>
                                      <p:to>
                                        <p:strVal val="visible"/>
                                      </p:to>
                                    </p:set>
                                    <p:anim calcmode="lin" valueType="num">
                                      <p:cBhvr additive="repl">
                                        <p:cTn id="295" dur="500" fill="hold"/>
                                        <p:tgtEl>
                                          <p:spTgt spid="198"/>
                                        </p:tgtEl>
                                        <p:attrNameLst>
                                          <p:attrName>ppt_w</p:attrName>
                                        </p:attrNameLst>
                                      </p:cBhvr>
                                      <p:tavLst>
                                        <p:tav tm="0">
                                          <p:val>
                                            <p:strVal val="#ppt_w+.3"/>
                                          </p:val>
                                        </p:tav>
                                        <p:tav tm="100000">
                                          <p:val>
                                            <p:strVal val="#ppt_w"/>
                                          </p:val>
                                        </p:tav>
                                      </p:tavLst>
                                    </p:anim>
                                    <p:anim calcmode="lin" valueType="num">
                                      <p:cBhvr additive="repl">
                                        <p:cTn id="296" dur="500" fill="hold"/>
                                        <p:tgtEl>
                                          <p:spTgt spid="198"/>
                                        </p:tgtEl>
                                        <p:attrNameLst>
                                          <p:attrName>ppt_h</p:attrName>
                                        </p:attrNameLst>
                                      </p:cBhvr>
                                      <p:tavLst>
                                        <p:tav tm="0">
                                          <p:val>
                                            <p:strVal val="#ppt_h"/>
                                          </p:val>
                                        </p:tav>
                                        <p:tav tm="100000">
                                          <p:val>
                                            <p:strVal val="#ppt_h"/>
                                          </p:val>
                                        </p:tav>
                                      </p:tavLst>
                                    </p:anim>
                                    <p:animEffect filter="fade" transition="in">
                                      <p:cBhvr additive="repl">
                                        <p:cTn id="297" dur="500"/>
                                        <p:tgtEl>
                                          <p:spTgt spid="198"/>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50">
                                  <p:stCondLst>
                                    <p:cond delay="0"/>
                                  </p:stCondLst>
                                  <p:iterate type="lt">
                                    <p:tmAbs val="25"/>
                                  </p:iterate>
                                  <p:childTnLst>
                                    <p:set>
                                      <p:cBhvr>
                                        <p:cTn id="301" dur="1" fill="hold">
                                          <p:stCondLst>
                                            <p:cond delay="0"/>
                                          </p:stCondLst>
                                        </p:cTn>
                                        <p:tgtEl>
                                          <p:spTgt spid="208"/>
                                        </p:tgtEl>
                                        <p:attrNameLst>
                                          <p:attrName>style.visibility</p:attrName>
                                        </p:attrNameLst>
                                      </p:cBhvr>
                                      <p:to>
                                        <p:strVal val="visible"/>
                                      </p:to>
                                    </p:set>
                                    <p:anim calcmode="lin" valueType="num">
                                      <p:cBhvr additive="repl">
                                        <p:cTn id="302" dur="500" fill="hold"/>
                                        <p:tgtEl>
                                          <p:spTgt spid="208"/>
                                        </p:tgtEl>
                                        <p:attrNameLst>
                                          <p:attrName>ppt_w</p:attrName>
                                        </p:attrNameLst>
                                      </p:cBhvr>
                                      <p:tavLst>
                                        <p:tav tm="0">
                                          <p:val>
                                            <p:strVal val="#ppt_w+.3"/>
                                          </p:val>
                                        </p:tav>
                                        <p:tav tm="100000">
                                          <p:val>
                                            <p:strVal val="#ppt_w"/>
                                          </p:val>
                                        </p:tav>
                                      </p:tavLst>
                                    </p:anim>
                                    <p:anim calcmode="lin" valueType="num">
                                      <p:cBhvr additive="repl">
                                        <p:cTn id="303" dur="500" fill="hold"/>
                                        <p:tgtEl>
                                          <p:spTgt spid="208"/>
                                        </p:tgtEl>
                                        <p:attrNameLst>
                                          <p:attrName>ppt_h</p:attrName>
                                        </p:attrNameLst>
                                      </p:cBhvr>
                                      <p:tavLst>
                                        <p:tav tm="0">
                                          <p:val>
                                            <p:strVal val="#ppt_h"/>
                                          </p:val>
                                        </p:tav>
                                        <p:tav tm="100000">
                                          <p:val>
                                            <p:strVal val="#ppt_h"/>
                                          </p:val>
                                        </p:tav>
                                      </p:tavLst>
                                    </p:anim>
                                    <p:animEffect filter="fade" transition="in">
                                      <p:cBhvr additive="repl">
                                        <p:cTn id="304" dur="500"/>
                                        <p:tgtEl>
                                          <p:spTgt spid="208"/>
                                        </p:tgtEl>
                                      </p:cBhvr>
                                    </p:animEffect>
                                  </p:childTnLst>
                                </p:cTn>
                              </p:par>
                              <p:par>
                                <p:cTn id="305" dur="indefinite" nodeType="withEffect" fill="hold" presetClass="entr" presetID="42">
                                  <p:stCondLst>
                                    <p:cond delay="0"/>
                                  </p:stCondLst>
                                  <p:childTnLst>
                                    <p:set>
                                      <p:cBhvr>
                                        <p:cTn id="306" dur="1" fill="hold">
                                          <p:stCondLst>
                                            <p:cond delay="0"/>
                                          </p:stCondLst>
                                        </p:cTn>
                                        <p:tgtEl>
                                          <p:spTgt spid="199"/>
                                        </p:tgtEl>
                                        <p:attrNameLst>
                                          <p:attrName>style.visibility</p:attrName>
                                        </p:attrNameLst>
                                      </p:cBhvr>
                                      <p:to>
                                        <p:strVal val="visible"/>
                                      </p:to>
                                    </p:set>
                                    <p:animEffect filter="fade" transition="in">
                                      <p:cBhvr additive="repl">
                                        <p:cTn id="307" dur="1000"/>
                                        <p:tgtEl>
                                          <p:spTgt spid="199"/>
                                        </p:tgtEl>
                                      </p:cBhvr>
                                    </p:animEffect>
                                    <p:anim calcmode="lin" valueType="num">
                                      <p:cBhvr additive="repl">
                                        <p:cTn id="308" dur="1000" fill="hold"/>
                                        <p:tgtEl>
                                          <p:spTgt spid="199"/>
                                        </p:tgtEl>
                                        <p:attrNameLst>
                                          <p:attrName>ppt_x</p:attrName>
                                        </p:attrNameLst>
                                      </p:cBhvr>
                                      <p:tavLst>
                                        <p:tav tm="0">
                                          <p:val>
                                            <p:strVal val="#ppt_x"/>
                                          </p:val>
                                        </p:tav>
                                        <p:tav tm="100000">
                                          <p:val>
                                            <p:strVal val="#ppt_x"/>
                                          </p:val>
                                        </p:tav>
                                      </p:tavLst>
                                    </p:anim>
                                    <p:anim calcmode="lin" valueType="num">
                                      <p:cBhvr additive="repl">
                                        <p:cTn id="309" dur="1000" fill="hold"/>
                                        <p:tgtEl>
                                          <p:spTgt spid="199"/>
                                        </p:tgtEl>
                                        <p:attrNameLst>
                                          <p:attrName>ppt_y</p:attrName>
                                        </p:attrNameLst>
                                      </p:cBhvr>
                                      <p:tavLst>
                                        <p:tav tm="0">
                                          <p:val>
                                            <p:strVal val="#ppt_y+.1"/>
                                          </p:val>
                                        </p:tav>
                                        <p:tav tm="100000">
                                          <p:val>
                                            <p:strVal val="#ppt_y"/>
                                          </p:val>
                                        </p:tav>
                                      </p:tavLst>
                                    </p:anim>
                                  </p:childTnLst>
                                </p:cTn>
                              </p:par>
                              <p:par>
                                <p:cTn id="310" dur="indefinite" nodeType="withEffect" fill="hold" presetClass="entr" presetID="42">
                                  <p:stCondLst>
                                    <p:cond delay="0"/>
                                  </p:stCondLst>
                                  <p:childTnLst>
                                    <p:set>
                                      <p:cBhvr>
                                        <p:cTn id="311" dur="1" fill="hold">
                                          <p:stCondLst>
                                            <p:cond delay="0"/>
                                          </p:stCondLst>
                                        </p:cTn>
                                        <p:tgtEl>
                                          <p:spTgt spid="200"/>
                                        </p:tgtEl>
                                        <p:attrNameLst>
                                          <p:attrName>style.visibility</p:attrName>
                                        </p:attrNameLst>
                                      </p:cBhvr>
                                      <p:to>
                                        <p:strVal val="visible"/>
                                      </p:to>
                                    </p:set>
                                    <p:animEffect filter="fade" transition="in">
                                      <p:cBhvr additive="repl">
                                        <p:cTn id="312" dur="1000"/>
                                        <p:tgtEl>
                                          <p:spTgt spid="200"/>
                                        </p:tgtEl>
                                      </p:cBhvr>
                                    </p:animEffect>
                                    <p:anim calcmode="lin" valueType="num">
                                      <p:cBhvr additive="repl">
                                        <p:cTn id="313" dur="1000" fill="hold"/>
                                        <p:tgtEl>
                                          <p:spTgt spid="200"/>
                                        </p:tgtEl>
                                        <p:attrNameLst>
                                          <p:attrName>ppt_x</p:attrName>
                                        </p:attrNameLst>
                                      </p:cBhvr>
                                      <p:tavLst>
                                        <p:tav tm="0">
                                          <p:val>
                                            <p:strVal val="#ppt_x"/>
                                          </p:val>
                                        </p:tav>
                                        <p:tav tm="100000">
                                          <p:val>
                                            <p:strVal val="#ppt_x"/>
                                          </p:val>
                                        </p:tav>
                                      </p:tavLst>
                                    </p:anim>
                                    <p:anim calcmode="lin" valueType="num">
                                      <p:cBhvr additive="repl">
                                        <p:cTn id="314" dur="1000" fill="hold"/>
                                        <p:tgtEl>
                                          <p:spTgt spid="200"/>
                                        </p:tgtEl>
                                        <p:attrNameLst>
                                          <p:attrName>ppt_y</p:attrName>
                                        </p:attrNameLst>
                                      </p:cBhvr>
                                      <p:tavLst>
                                        <p:tav tm="0">
                                          <p:val>
                                            <p:strVal val="#ppt_y+.1"/>
                                          </p:val>
                                        </p:tav>
                                        <p:tav tm="100000">
                                          <p:val>
                                            <p:strVal val="#ppt_y"/>
                                          </p:val>
                                        </p:tav>
                                      </p:tavLst>
                                    </p:anim>
                                  </p:childTnLst>
                                </p:cTn>
                              </p:par>
                              <p:par>
                                <p:cTn id="315" dur="indefinite" nodeType="withEffect" fill="hold" presetClass="entr" presetID="42">
                                  <p:stCondLst>
                                    <p:cond delay="0"/>
                                  </p:stCondLst>
                                  <p:childTnLst>
                                    <p:set>
                                      <p:cBhvr>
                                        <p:cTn id="316" dur="1" fill="hold">
                                          <p:stCondLst>
                                            <p:cond delay="0"/>
                                          </p:stCondLst>
                                        </p:cTn>
                                        <p:tgtEl>
                                          <p:spTgt spid="201"/>
                                        </p:tgtEl>
                                        <p:attrNameLst>
                                          <p:attrName>style.visibility</p:attrName>
                                        </p:attrNameLst>
                                      </p:cBhvr>
                                      <p:to>
                                        <p:strVal val="visible"/>
                                      </p:to>
                                    </p:set>
                                    <p:animEffect filter="fade" transition="in">
                                      <p:cBhvr additive="repl">
                                        <p:cTn id="317" dur="1000"/>
                                        <p:tgtEl>
                                          <p:spTgt spid="201"/>
                                        </p:tgtEl>
                                      </p:cBhvr>
                                    </p:animEffect>
                                    <p:anim calcmode="lin" valueType="num">
                                      <p:cBhvr additive="repl">
                                        <p:cTn id="318" dur="1000" fill="hold"/>
                                        <p:tgtEl>
                                          <p:spTgt spid="201"/>
                                        </p:tgtEl>
                                        <p:attrNameLst>
                                          <p:attrName>ppt_x</p:attrName>
                                        </p:attrNameLst>
                                      </p:cBhvr>
                                      <p:tavLst>
                                        <p:tav tm="0">
                                          <p:val>
                                            <p:strVal val="#ppt_x"/>
                                          </p:val>
                                        </p:tav>
                                        <p:tav tm="100000">
                                          <p:val>
                                            <p:strVal val="#ppt_x"/>
                                          </p:val>
                                        </p:tav>
                                      </p:tavLst>
                                    </p:anim>
                                    <p:anim calcmode="lin" valueType="num">
                                      <p:cBhvr additive="repl">
                                        <p:cTn id="319" dur="1000" fill="hold"/>
                                        <p:tgtEl>
                                          <p:spTgt spid="201"/>
                                        </p:tgtEl>
                                        <p:attrNameLst>
                                          <p:attrName>ppt_y</p:attrName>
                                        </p:attrNameLst>
                                      </p:cBhvr>
                                      <p:tavLst>
                                        <p:tav tm="0">
                                          <p:val>
                                            <p:strVal val="#ppt_y+.1"/>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4" presetSubtype="16">
                                  <p:stCondLst>
                                    <p:cond delay="0"/>
                                  </p:stCondLst>
                                  <p:childTnLst>
                                    <p:set>
                                      <p:cBhvr>
                                        <p:cTn id="323" dur="1" fill="hold">
                                          <p:stCondLst>
                                            <p:cond delay="0"/>
                                          </p:stCondLst>
                                        </p:cTn>
                                        <p:tgtEl>
                                          <p:spTgt spid="205"/>
                                        </p:tgtEl>
                                        <p:attrNameLst>
                                          <p:attrName>style.visibility</p:attrName>
                                        </p:attrNameLst>
                                      </p:cBhvr>
                                      <p:to>
                                        <p:strVal val="visible"/>
                                      </p:to>
                                    </p:set>
                                    <p:animEffect filter="box(in)" transition="in">
                                      <p:cBhvr additive="repl">
                                        <p:cTn id="324" dur="500"/>
                                        <p:tgtEl>
                                          <p:spTgt spid="205"/>
                                        </p:tgtEl>
                                      </p:cBhvr>
                                    </p:animEffect>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4" presetSubtype="16">
                                  <p:stCondLst>
                                    <p:cond delay="0"/>
                                  </p:stCondLst>
                                  <p:childTnLst>
                                    <p:set>
                                      <p:cBhvr>
                                        <p:cTn id="328" dur="1" fill="hold">
                                          <p:stCondLst>
                                            <p:cond delay="0"/>
                                          </p:stCondLst>
                                        </p:cTn>
                                        <p:tgtEl>
                                          <p:spTgt spid="209"/>
                                        </p:tgtEl>
                                        <p:attrNameLst>
                                          <p:attrName>style.visibility</p:attrName>
                                        </p:attrNameLst>
                                      </p:cBhvr>
                                      <p:to>
                                        <p:strVal val="visible"/>
                                      </p:to>
                                    </p:set>
                                    <p:animEffect filter="box(in)" transition="in">
                                      <p:cBhvr additive="repl">
                                        <p:cTn id="329" dur="500"/>
                                        <p:tgtEl>
                                          <p:spTgt spid="209"/>
                                        </p:tgtEl>
                                      </p:cBhvr>
                                    </p:animEffect>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4" presetSubtype="16">
                                  <p:stCondLst>
                                    <p:cond delay="0"/>
                                  </p:stCondLst>
                                  <p:childTnLst>
                                    <p:set>
                                      <p:cBhvr>
                                        <p:cTn id="333" dur="1" fill="hold">
                                          <p:stCondLst>
                                            <p:cond delay="0"/>
                                          </p:stCondLst>
                                        </p:cTn>
                                        <p:tgtEl>
                                          <p:spTgt spid="210"/>
                                        </p:tgtEl>
                                        <p:attrNameLst>
                                          <p:attrName>style.visibility</p:attrName>
                                        </p:attrNameLst>
                                      </p:cBhvr>
                                      <p:to>
                                        <p:strVal val="visible"/>
                                      </p:to>
                                    </p:set>
                                    <p:animEffect filter="box(in)" transition="in">
                                      <p:cBhvr additive="repl">
                                        <p:cTn id="334" dur="500"/>
                                        <p:tgtEl>
                                          <p:spTgt spid="210"/>
                                        </p:tgtEl>
                                      </p:cBhvr>
                                    </p:animEffect>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4" presetSubtype="16">
                                  <p:stCondLst>
                                    <p:cond delay="0"/>
                                  </p:stCondLst>
                                  <p:childTnLst>
                                    <p:set>
                                      <p:cBhvr>
                                        <p:cTn id="338" dur="1" fill="hold">
                                          <p:stCondLst>
                                            <p:cond delay="0"/>
                                          </p:stCondLst>
                                        </p:cTn>
                                        <p:tgtEl>
                                          <p:spTgt spid="212"/>
                                        </p:tgtEl>
                                        <p:attrNameLst>
                                          <p:attrName>style.visibility</p:attrName>
                                        </p:attrNameLst>
                                      </p:cBhvr>
                                      <p:to>
                                        <p:strVal val="visible"/>
                                      </p:to>
                                    </p:set>
                                    <p:animEffect filter="box(in)" transition="in">
                                      <p:cBhvr additive="repl">
                                        <p:cTn id="339" dur="500"/>
                                        <p:tgtEl>
                                          <p:spTgt spid="212"/>
                                        </p:tgtEl>
                                      </p:cBhvr>
                                    </p:animEffect>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4" presetSubtype="16">
                                  <p:stCondLst>
                                    <p:cond delay="0"/>
                                  </p:stCondLst>
                                  <p:childTnLst>
                                    <p:set>
                                      <p:cBhvr>
                                        <p:cTn id="343" dur="1" fill="hold">
                                          <p:stCondLst>
                                            <p:cond delay="0"/>
                                          </p:stCondLst>
                                        </p:cTn>
                                        <p:tgtEl>
                                          <p:spTgt spid="211"/>
                                        </p:tgtEl>
                                        <p:attrNameLst>
                                          <p:attrName>style.visibility</p:attrName>
                                        </p:attrNameLst>
                                      </p:cBhvr>
                                      <p:to>
                                        <p:strVal val="visible"/>
                                      </p:to>
                                    </p:set>
                                    <p:animEffect filter="box(in)" transition="in">
                                      <p:cBhvr additive="repl">
                                        <p:cTn id="34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图片 9" descr=""/>
          <p:cNvPicPr/>
          <p:nvPr/>
        </p:nvPicPr>
        <p:blipFill>
          <a:blip r:embed="rId1"/>
          <a:srcRect l="0" t="0" r="42150" b="48020"/>
          <a:stretch/>
        </p:blipFill>
        <p:spPr>
          <a:xfrm>
            <a:off x="7345440" y="2511360"/>
            <a:ext cx="4846680" cy="4346640"/>
          </a:xfrm>
          <a:prstGeom prst="rect">
            <a:avLst/>
          </a:prstGeom>
          <a:ln w="0">
            <a:noFill/>
          </a:ln>
        </p:spPr>
      </p:pic>
      <p:sp>
        <p:nvSpPr>
          <p:cNvPr id="214" name="Rectangle 5"/>
          <p:cNvSpPr/>
          <p:nvPr/>
        </p:nvSpPr>
        <p:spPr>
          <a:xfrm>
            <a:off x="2473200" y="2049480"/>
            <a:ext cx="7245360" cy="2760480"/>
          </a:xfrm>
          <a:prstGeom prst="rect">
            <a:avLst/>
          </a:prstGeom>
          <a:noFill/>
          <a:ln w="38160">
            <a:solidFill>
              <a:srgbClr val="3d735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15" name="图片 16" descr=""/>
          <p:cNvPicPr/>
          <p:nvPr/>
        </p:nvPicPr>
        <p:blipFill>
          <a:blip r:embed="rId2"/>
          <a:srcRect l="17878" t="35014" r="0" b="43149"/>
          <a:stretch/>
        </p:blipFill>
        <p:spPr>
          <a:xfrm>
            <a:off x="0" y="0"/>
            <a:ext cx="5837400" cy="2166840"/>
          </a:xfrm>
          <a:prstGeom prst="rect">
            <a:avLst/>
          </a:prstGeom>
          <a:ln w="0">
            <a:noFill/>
          </a:ln>
        </p:spPr>
      </p:pic>
      <p:grpSp>
        <p:nvGrpSpPr>
          <p:cNvPr id="216" name="组合 29"/>
          <p:cNvGrpSpPr/>
          <p:nvPr/>
        </p:nvGrpSpPr>
        <p:grpSpPr>
          <a:xfrm>
            <a:off x="3621240" y="2793960"/>
            <a:ext cx="5603760" cy="1101240"/>
            <a:chOff x="3621240" y="2793960"/>
            <a:chExt cx="5603760" cy="1101240"/>
          </a:xfrm>
        </p:grpSpPr>
        <p:sp>
          <p:nvSpPr>
            <p:cNvPr id="217" name="文本框 13"/>
            <p:cNvSpPr/>
            <p:nvPr/>
          </p:nvSpPr>
          <p:spPr>
            <a:xfrm>
              <a:off x="4812480" y="2807280"/>
              <a:ext cx="4412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微软雅黑"/>
                  <a:ea typeface="微软雅黑"/>
                </a:rPr>
                <a:t>”</a:t>
              </a:r>
              <a:r>
                <a:rPr b="1" lang="en-US" sz="4000" spc="-1" strike="noStrike">
                  <a:solidFill>
                    <a:srgbClr val="595959"/>
                  </a:solidFill>
                  <a:latin typeface="微软雅黑"/>
                  <a:ea typeface="微软雅黑"/>
                </a:rPr>
                <a:t>Phonics Time”</a:t>
              </a:r>
              <a:endParaRPr b="0" lang="en-US" sz="4000" spc="-1" strike="noStrike">
                <a:solidFill>
                  <a:srgbClr val="000000"/>
                </a:solidFill>
                <a:latin typeface="等线"/>
              </a:endParaRPr>
            </a:p>
          </p:txBody>
        </p:sp>
        <p:sp>
          <p:nvSpPr>
            <p:cNvPr id="218" name="文本框 35"/>
            <p:cNvSpPr/>
            <p:nvPr/>
          </p:nvSpPr>
          <p:spPr>
            <a:xfrm>
              <a:off x="3655080" y="3313800"/>
              <a:ext cx="1274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8265"/>
                  </a:solidFill>
                  <a:latin typeface="Impact"/>
                  <a:ea typeface="微软雅黑 Light"/>
                </a:rPr>
                <a:t>PART</a:t>
              </a:r>
              <a:endParaRPr b="0" lang="en-US" sz="3200" spc="-1" strike="noStrike">
                <a:solidFill>
                  <a:srgbClr val="000000"/>
                </a:solidFill>
                <a:latin typeface="等线"/>
              </a:endParaRPr>
            </a:p>
          </p:txBody>
        </p:sp>
        <p:sp>
          <p:nvSpPr>
            <p:cNvPr id="219" name="文本框 36"/>
            <p:cNvSpPr/>
            <p:nvPr/>
          </p:nvSpPr>
          <p:spPr>
            <a:xfrm>
              <a:off x="3621240" y="2793960"/>
              <a:ext cx="134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8265"/>
                  </a:solidFill>
                  <a:latin typeface="微软雅黑"/>
                  <a:ea typeface="微软雅黑"/>
                </a:rPr>
                <a:t>03</a:t>
              </a:r>
              <a:endParaRPr b="0" lang="en-US" sz="4000" spc="-1" strike="noStrike">
                <a:solidFill>
                  <a:srgbClr val="000000"/>
                </a:solidFill>
                <a:latin typeface="等线"/>
              </a:endParaRPr>
            </a:p>
          </p:txBody>
        </p:sp>
        <p:grpSp>
          <p:nvGrpSpPr>
            <p:cNvPr id="220" name="组合 37"/>
            <p:cNvGrpSpPr/>
            <p:nvPr/>
          </p:nvGrpSpPr>
          <p:grpSpPr>
            <a:xfrm>
              <a:off x="4270320" y="3146400"/>
              <a:ext cx="250560" cy="146880"/>
              <a:chOff x="4270320" y="3146400"/>
              <a:chExt cx="250560" cy="146880"/>
            </a:xfrm>
          </p:grpSpPr>
          <p:sp>
            <p:nvSpPr>
              <p:cNvPr id="221" name="L 形 38"/>
              <p:cNvSpPr/>
              <p:nvPr/>
            </p:nvSpPr>
            <p:spPr>
              <a:xfrm flipH="1" flipV="1" rot="2493600">
                <a:off x="4291920" y="3167640"/>
                <a:ext cx="103680" cy="104400"/>
              </a:xfrm>
              <a:custGeom>
                <a:avLst/>
                <a:gdLst/>
                <a:ahLst/>
                <a:rect l="l" t="t" r="r" b="b"/>
                <a:pathLst>
                  <a:path w="53585" h="54389">
                    <a:moveTo>
                      <a:pt x="0" y="0"/>
                    </a:moveTo>
                    <a:lnTo>
                      <a:pt x="9184" y="0"/>
                    </a:lnTo>
                    <a:lnTo>
                      <a:pt x="9184" y="46271"/>
                    </a:lnTo>
                    <a:lnTo>
                      <a:pt x="53585" y="46271"/>
                    </a:lnTo>
                    <a:lnTo>
                      <a:pt x="53585" y="54389"/>
                    </a:lnTo>
                    <a:lnTo>
                      <a:pt x="0" y="54389"/>
                    </a:lnTo>
                    <a:close/>
                  </a:path>
                </a:pathLst>
              </a:custGeom>
              <a:solidFill>
                <a:srgbClr val="6f8163"/>
              </a:solidFill>
              <a:ln w="12600">
                <a:solidFill>
                  <a:srgbClr val="7082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22" name="L 形 39"/>
              <p:cNvSpPr/>
              <p:nvPr/>
            </p:nvSpPr>
            <p:spPr>
              <a:xfrm flipH="1" flipV="1" rot="2493600">
                <a:off x="4395600" y="3167640"/>
                <a:ext cx="103680" cy="104400"/>
              </a:xfrm>
              <a:custGeom>
                <a:avLst/>
                <a:gdLst/>
                <a:ahLst/>
                <a:rect l="l" t="t" r="r" b="b"/>
                <a:pathLst>
                  <a:path w="53585" h="54389">
                    <a:moveTo>
                      <a:pt x="0" y="0"/>
                    </a:moveTo>
                    <a:lnTo>
                      <a:pt x="9184" y="0"/>
                    </a:lnTo>
                    <a:lnTo>
                      <a:pt x="9184" y="46271"/>
                    </a:lnTo>
                    <a:lnTo>
                      <a:pt x="53585" y="46271"/>
                    </a:lnTo>
                    <a:lnTo>
                      <a:pt x="53585" y="54389"/>
                    </a:lnTo>
                    <a:lnTo>
                      <a:pt x="0" y="54389"/>
                    </a:lnTo>
                    <a:close/>
                  </a:path>
                </a:pathLst>
              </a:custGeom>
              <a:solidFill>
                <a:srgbClr val="6f8163"/>
              </a:solidFill>
              <a:ln w="12600">
                <a:solidFill>
                  <a:srgbClr val="7082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grpSp>
    </p:spTree>
  </p:cSld>
  <p:transition>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87160" y="1077840"/>
            <a:ext cx="10544040" cy="4702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pl</a:t>
            </a:r>
            <a:r>
              <a:rPr b="0" lang="en-US" sz="2800" spc="-1" strike="noStrike">
                <a:solidFill>
                  <a:srgbClr val="44546a"/>
                </a:solidFill>
                <a:latin typeface="等线"/>
              </a:rPr>
              <a:t>a</a:t>
            </a:r>
            <a:r>
              <a:rPr b="0" lang="en-US" sz="2800" spc="-1" strike="noStrike">
                <a:solidFill>
                  <a:srgbClr val="000000"/>
                </a:solidFill>
                <a:latin typeface="等线"/>
              </a:rPr>
              <a:t>nt</a:t>
            </a:r>
            <a:r>
              <a:rPr b="0" lang="en-US" sz="2800" spc="-1" strike="noStrike">
                <a:solidFill>
                  <a:srgbClr val="000000"/>
                </a:solidFill>
                <a:latin typeface="等线"/>
              </a:rPr>
              <a:t>	</a:t>
            </a:r>
            <a:r>
              <a:rPr b="0" lang="en-US" sz="2800" spc="-1" strike="noStrike">
                <a:solidFill>
                  <a:srgbClr val="000000"/>
                </a:solidFill>
                <a:latin typeface="等线"/>
              </a:rPr>
              <a:t>     gl</a:t>
            </a:r>
            <a:r>
              <a:rPr b="0" lang="en-US" sz="2800" spc="-1" strike="noStrike">
                <a:solidFill>
                  <a:srgbClr val="44546a"/>
                </a:solidFill>
                <a:latin typeface="等线"/>
              </a:rPr>
              <a:t>a</a:t>
            </a:r>
            <a:r>
              <a:rPr b="0" lang="en-US" sz="2800" spc="-1" strike="noStrike">
                <a:solidFill>
                  <a:srgbClr val="000000"/>
                </a:solidFill>
                <a:latin typeface="等线"/>
              </a:rPr>
              <a:t>ss</a:t>
            </a:r>
            <a:r>
              <a:rPr b="0" lang="en-US" sz="2800" spc="-1" strike="noStrike">
                <a:solidFill>
                  <a:srgbClr val="000000"/>
                </a:solidFill>
                <a:latin typeface="等线"/>
              </a:rPr>
              <a:t>	</a:t>
            </a:r>
            <a:r>
              <a:rPr b="0" lang="en-US" sz="2800" spc="-1" strike="noStrike">
                <a:solidFill>
                  <a:srgbClr val="000000"/>
                </a:solidFill>
                <a:latin typeface="等线"/>
              </a:rPr>
              <a:t>cl</a:t>
            </a:r>
            <a:r>
              <a:rPr b="0" lang="en-US" sz="2800" spc="-1" strike="noStrike">
                <a:solidFill>
                  <a:srgbClr val="44546a"/>
                </a:solidFill>
                <a:latin typeface="等线"/>
              </a:rPr>
              <a:t>a</a:t>
            </a:r>
            <a:r>
              <a:rPr b="0" lang="en-US" sz="2800" spc="-1" strike="noStrike">
                <a:solidFill>
                  <a:srgbClr val="000000"/>
                </a:solidFill>
                <a:latin typeface="等线"/>
              </a:rPr>
              <a:t>ss</a:t>
            </a:r>
            <a:r>
              <a:rPr b="0" lang="en-US" sz="2800" spc="-1" strike="noStrike">
                <a:solidFill>
                  <a:srgbClr val="000000"/>
                </a:solidFill>
                <a:latin typeface="等线"/>
              </a:rPr>
              <a:t>	</a:t>
            </a:r>
            <a:r>
              <a:rPr b="0" lang="en-US" sz="2800" spc="-1" strike="noStrike">
                <a:solidFill>
                  <a:srgbClr val="000000"/>
                </a:solidFill>
                <a:latin typeface="等线"/>
              </a:rPr>
              <a:t>      f</a:t>
            </a:r>
            <a:r>
              <a:rPr b="0" lang="en-US" sz="2800" spc="-1" strike="noStrike">
                <a:solidFill>
                  <a:srgbClr val="44546a"/>
                </a:solidFill>
                <a:latin typeface="等线"/>
              </a:rPr>
              <a:t>a</a:t>
            </a:r>
            <a:r>
              <a:rPr b="0" lang="en-US" sz="2800" spc="-1" strike="noStrike">
                <a:solidFill>
                  <a:srgbClr val="000000"/>
                </a:solidFill>
                <a:latin typeface="等线"/>
              </a:rPr>
              <a:t>st</a:t>
            </a:r>
            <a:r>
              <a:rPr b="0" lang="en-US" sz="2800" spc="-1" strike="noStrike">
                <a:solidFill>
                  <a:srgbClr val="000000"/>
                </a:solidFill>
                <a:latin typeface="等线"/>
              </a:rPr>
              <a:t>	</a:t>
            </a:r>
            <a:r>
              <a:rPr b="0" lang="en-US" sz="2800" spc="-1" strike="noStrike">
                <a:solidFill>
                  <a:srgbClr val="000000"/>
                </a:solidFill>
                <a:latin typeface="等线"/>
              </a:rPr>
              <a:t>    b</a:t>
            </a:r>
            <a:r>
              <a:rPr b="0" lang="en-US" sz="2800" spc="-1" strike="noStrike">
                <a:solidFill>
                  <a:srgbClr val="44546a"/>
                </a:solidFill>
                <a:latin typeface="等线"/>
              </a:rPr>
              <a:t>a</a:t>
            </a:r>
            <a:r>
              <a:rPr b="0" lang="en-US" sz="2800" spc="-1" strike="noStrike">
                <a:solidFill>
                  <a:srgbClr val="000000"/>
                </a:solidFill>
                <a:latin typeface="等线"/>
              </a:rPr>
              <a:t>sket</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t</a:t>
            </a:r>
            <a:r>
              <a:rPr b="0" lang="en-US" sz="2800" spc="-1" strike="noStrike">
                <a:solidFill>
                  <a:srgbClr val="44546a"/>
                </a:solidFill>
                <a:latin typeface="等线"/>
              </a:rPr>
              <a:t>ar</a:t>
            </a:r>
            <a:r>
              <a:rPr b="0" lang="en-US" sz="2800" spc="-1" strike="noStrike">
                <a:solidFill>
                  <a:srgbClr val="000000"/>
                </a:solidFill>
                <a:latin typeface="等线"/>
              </a:rPr>
              <a:t>	</a:t>
            </a:r>
            <a:r>
              <a:rPr b="0" lang="en-US" sz="2800" spc="-1" strike="noStrike">
                <a:solidFill>
                  <a:srgbClr val="000000"/>
                </a:solidFill>
                <a:latin typeface="等线"/>
              </a:rPr>
              <a:t>     p</a:t>
            </a:r>
            <a:r>
              <a:rPr b="0" lang="en-US" sz="2800" spc="-1" strike="noStrike">
                <a:solidFill>
                  <a:srgbClr val="44546a"/>
                </a:solidFill>
                <a:latin typeface="等线"/>
              </a:rPr>
              <a:t>ar</a:t>
            </a:r>
            <a:r>
              <a:rPr b="0" lang="en-US" sz="2800" spc="-1" strike="noStrike">
                <a:solidFill>
                  <a:srgbClr val="000000"/>
                </a:solidFill>
                <a:latin typeface="等线"/>
              </a:rPr>
              <a:t>k      c</a:t>
            </a:r>
            <a:r>
              <a:rPr b="0" lang="en-US" sz="2800" spc="-1" strike="noStrike">
                <a:solidFill>
                  <a:srgbClr val="44546a"/>
                </a:solidFill>
                <a:latin typeface="等线"/>
              </a:rPr>
              <a:t>ar</a:t>
            </a:r>
            <a:r>
              <a:rPr b="0" lang="en-US" sz="2800" spc="-1" strike="noStrike">
                <a:solidFill>
                  <a:srgbClr val="000000"/>
                </a:solidFill>
                <a:latin typeface="等线"/>
              </a:rPr>
              <a:t>         p</a:t>
            </a:r>
            <a:r>
              <a:rPr b="0" lang="en-US" sz="2800" spc="-1" strike="noStrike">
                <a:solidFill>
                  <a:srgbClr val="44546a"/>
                </a:solidFill>
                <a:latin typeface="等线"/>
              </a:rPr>
              <a:t>ar</a:t>
            </a:r>
            <a:r>
              <a:rPr b="0" lang="en-US" sz="2800" spc="-1" strike="noStrike">
                <a:solidFill>
                  <a:srgbClr val="000000"/>
                </a:solidFill>
                <a:latin typeface="等线"/>
              </a:rPr>
              <a:t>cel      h</a:t>
            </a:r>
            <a:r>
              <a:rPr b="0" lang="en-US" sz="2800" spc="-1" strike="noStrike">
                <a:solidFill>
                  <a:srgbClr val="44546a"/>
                </a:solidFill>
                <a:latin typeface="等线"/>
              </a:rPr>
              <a:t>ar</a:t>
            </a:r>
            <a:r>
              <a:rPr b="0" lang="en-US" sz="2800" spc="-1" strike="noStrike">
                <a:solidFill>
                  <a:srgbClr val="000000"/>
                </a:solidFill>
                <a:latin typeface="等线"/>
              </a:rPr>
              <a:t>d</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a:t>
            </a:r>
            <a:r>
              <a:rPr b="0" lang="en-US" sz="2800" spc="-1" strike="noStrike">
                <a:solidFill>
                  <a:srgbClr val="44546a"/>
                </a:solidFill>
                <a:latin typeface="等线"/>
              </a:rPr>
              <a:t>al</a:t>
            </a:r>
            <a:r>
              <a:rPr b="0" lang="en-US" sz="2800" spc="-1" strike="noStrike">
                <a:solidFill>
                  <a:srgbClr val="000000"/>
                </a:solidFill>
                <a:latin typeface="等线"/>
              </a:rPr>
              <a:t>m       h</a:t>
            </a:r>
            <a:r>
              <a:rPr b="0" lang="en-US" sz="2800" spc="-1" strike="noStrike">
                <a:solidFill>
                  <a:srgbClr val="44546a"/>
                </a:solidFill>
                <a:latin typeface="等线"/>
              </a:rPr>
              <a:t>al</a:t>
            </a:r>
            <a:r>
              <a:rPr b="0" lang="en-US" sz="2800" spc="-1" strike="noStrike">
                <a:solidFill>
                  <a:srgbClr val="000000"/>
                </a:solidFill>
                <a:latin typeface="等线"/>
              </a:rPr>
              <a:t>f      p</a:t>
            </a:r>
            <a:r>
              <a:rPr b="0" lang="en-US" sz="2800" spc="-1" strike="noStrike">
                <a:solidFill>
                  <a:srgbClr val="44546a"/>
                </a:solidFill>
                <a:latin typeface="等线"/>
              </a:rPr>
              <a:t>al</a:t>
            </a:r>
            <a:r>
              <a:rPr b="0" lang="en-US" sz="2800" spc="-1" strike="noStrike">
                <a:solidFill>
                  <a:srgbClr val="000000"/>
                </a:solidFill>
                <a:latin typeface="等线"/>
              </a:rPr>
              <a:t>m </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46a"/>
                </a:solidFill>
                <a:latin typeface="等线"/>
              </a:rPr>
              <a:t>au</a:t>
            </a:r>
            <a:r>
              <a:rPr b="0" lang="en-US" sz="2800" spc="-1" strike="noStrike">
                <a:solidFill>
                  <a:srgbClr val="000000"/>
                </a:solidFill>
                <a:latin typeface="等线"/>
              </a:rPr>
              <a:t>nt       l</a:t>
            </a:r>
            <a:r>
              <a:rPr b="0" lang="en-US" sz="2800" spc="-1" strike="noStrike">
                <a:solidFill>
                  <a:srgbClr val="44546a"/>
                </a:solidFill>
                <a:latin typeface="等线"/>
              </a:rPr>
              <a:t>au</a:t>
            </a:r>
            <a:r>
              <a:rPr b="0" lang="en-US" sz="2800" spc="-1" strike="noStrike">
                <a:solidFill>
                  <a:srgbClr val="000000"/>
                </a:solidFill>
                <a:latin typeface="等线"/>
              </a:rPr>
              <a:t>gh</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24" name="矩形 94"/>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25" name="组合 95" descr=""/>
          <p:cNvPicPr/>
          <p:nvPr/>
        </p:nvPicPr>
        <p:blipFill>
          <a:blip r:embed="rId1"/>
          <a:stretch/>
        </p:blipFill>
        <p:spPr>
          <a:xfrm>
            <a:off x="237960" y="206280"/>
            <a:ext cx="578160" cy="576360"/>
          </a:xfrm>
          <a:prstGeom prst="rect">
            <a:avLst/>
          </a:prstGeom>
          <a:ln w="0">
            <a:noFill/>
          </a:ln>
        </p:spPr>
      </p:pic>
      <p:sp>
        <p:nvSpPr>
          <p:cNvPr id="226" name="文本框 25"/>
          <p:cNvSpPr/>
          <p:nvPr/>
        </p:nvSpPr>
        <p:spPr>
          <a:xfrm>
            <a:off x="1185480" y="212760"/>
            <a:ext cx="393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a:t>
            </a:r>
            <a:r>
              <a:rPr b="1" lang="en-US" sz="3200" spc="-1" strike="noStrike">
                <a:solidFill>
                  <a:srgbClr val="3d7351"/>
                </a:solidFill>
                <a:latin typeface="微软雅黑"/>
                <a:ea typeface="微软雅黑"/>
              </a:rPr>
              <a:t>Phonics Time”/ɑ:/</a:t>
            </a:r>
            <a:endParaRPr b="0" lang="en-US" sz="3200" spc="-1" strike="noStrike">
              <a:solidFill>
                <a:srgbClr val="000000"/>
              </a:solidFill>
              <a:latin typeface="等线"/>
            </a:endParaRPr>
          </a:p>
        </p:txBody>
      </p:sp>
      <p:sp>
        <p:nvSpPr>
          <p:cNvPr id="227" name=" 2050"/>
          <p:cNvSpPr/>
          <p:nvPr/>
        </p:nvSpPr>
        <p:spPr>
          <a:xfrm>
            <a:off x="10058400" y="1200240"/>
            <a:ext cx="1309680" cy="1235160"/>
          </a:xfrm>
          <a:custGeom>
            <a:avLst/>
            <a:gdLst/>
            <a:ahLst/>
            <a:rect l="l" t="t" r="r" b="b"/>
            <a:pathLst>
              <a:path w="3841" h="3861">
                <a:moveTo>
                  <a:pt x="2021" y="3639"/>
                </a:moveTo>
                <a:cubicBezTo>
                  <a:pt x="1770" y="3639"/>
                  <a:pt x="1531" y="3588"/>
                  <a:pt x="1313" y="3496"/>
                </a:cubicBezTo>
                <a:cubicBezTo>
                  <a:pt x="830" y="3861"/>
                  <a:pt x="0" y="3855"/>
                  <a:pt x="0" y="3855"/>
                </a:cubicBezTo>
                <a:cubicBezTo>
                  <a:pt x="0" y="3855"/>
                  <a:pt x="417" y="3566"/>
                  <a:pt x="605" y="2961"/>
                </a:cubicBezTo>
                <a:cubicBezTo>
                  <a:pt x="352" y="2648"/>
                  <a:pt x="201" y="2252"/>
                  <a:pt x="201" y="1819"/>
                </a:cubicBezTo>
                <a:cubicBezTo>
                  <a:pt x="201" y="814"/>
                  <a:pt x="1016" y="0"/>
                  <a:pt x="2021" y="0"/>
                </a:cubicBezTo>
                <a:cubicBezTo>
                  <a:pt x="3026" y="0"/>
                  <a:pt x="3841" y="814"/>
                  <a:pt x="3841" y="1819"/>
                </a:cubicBezTo>
                <a:cubicBezTo>
                  <a:pt x="3841" y="2824"/>
                  <a:pt x="3026" y="3639"/>
                  <a:pt x="2021" y="3639"/>
                </a:cubicBezTo>
                <a:close/>
                <a:moveTo>
                  <a:pt x="1463" y="2671"/>
                </a:moveTo>
                <a:cubicBezTo>
                  <a:pt x="1463" y="2826"/>
                  <a:pt x="1568" y="2941"/>
                  <a:pt x="1723" y="2941"/>
                </a:cubicBezTo>
                <a:cubicBezTo>
                  <a:pt x="1917" y="2941"/>
                  <a:pt x="2052" y="2806"/>
                  <a:pt x="2052" y="2619"/>
                </a:cubicBezTo>
                <a:cubicBezTo>
                  <a:pt x="2052" y="2457"/>
                  <a:pt x="1940" y="2342"/>
                  <a:pt x="1782" y="2342"/>
                </a:cubicBezTo>
                <a:cubicBezTo>
                  <a:pt x="1595" y="2342"/>
                  <a:pt x="1463" y="2497"/>
                  <a:pt x="1463" y="2671"/>
                </a:cubicBezTo>
                <a:close/>
                <a:moveTo>
                  <a:pt x="2121" y="647"/>
                </a:moveTo>
                <a:cubicBezTo>
                  <a:pt x="1874" y="647"/>
                  <a:pt x="1687" y="716"/>
                  <a:pt x="1565" y="789"/>
                </a:cubicBezTo>
                <a:cubicBezTo>
                  <a:pt x="1627" y="1121"/>
                  <a:pt x="1627" y="1121"/>
                  <a:pt x="1627" y="1121"/>
                </a:cubicBezTo>
                <a:cubicBezTo>
                  <a:pt x="1720" y="1065"/>
                  <a:pt x="1838" y="1029"/>
                  <a:pt x="1986" y="1029"/>
                </a:cubicBezTo>
                <a:cubicBezTo>
                  <a:pt x="2134" y="1032"/>
                  <a:pt x="2177" y="1101"/>
                  <a:pt x="2177" y="1187"/>
                </a:cubicBezTo>
                <a:cubicBezTo>
                  <a:pt x="2177" y="1302"/>
                  <a:pt x="2042" y="1414"/>
                  <a:pt x="1914" y="1552"/>
                </a:cubicBezTo>
                <a:cubicBezTo>
                  <a:pt x="1729" y="1747"/>
                  <a:pt x="1641" y="1921"/>
                  <a:pt x="1614" y="2099"/>
                </a:cubicBezTo>
                <a:cubicBezTo>
                  <a:pt x="1611" y="2125"/>
                  <a:pt x="1608" y="2155"/>
                  <a:pt x="1604" y="2184"/>
                </a:cubicBezTo>
                <a:cubicBezTo>
                  <a:pt x="2065" y="2184"/>
                  <a:pt x="2065" y="2184"/>
                  <a:pt x="2065" y="2184"/>
                </a:cubicBezTo>
                <a:cubicBezTo>
                  <a:pt x="2072" y="2155"/>
                  <a:pt x="2075" y="2128"/>
                  <a:pt x="2081" y="2105"/>
                </a:cubicBezTo>
                <a:cubicBezTo>
                  <a:pt x="2111" y="1957"/>
                  <a:pt x="2177" y="1845"/>
                  <a:pt x="2305" y="1717"/>
                </a:cubicBezTo>
                <a:cubicBezTo>
                  <a:pt x="2490" y="1526"/>
                  <a:pt x="2664" y="1358"/>
                  <a:pt x="2664" y="1095"/>
                </a:cubicBezTo>
                <a:cubicBezTo>
                  <a:pt x="2664" y="825"/>
                  <a:pt x="2437" y="647"/>
                  <a:pt x="2121" y="647"/>
                </a:cubicBezTo>
                <a:close/>
              </a:path>
            </a:pathLst>
          </a:custGeom>
          <a:solidFill>
            <a:srgbClr val="5b9b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28" name="文本框 3"/>
          <p:cNvSpPr/>
          <p:nvPr/>
        </p:nvSpPr>
        <p:spPr>
          <a:xfrm>
            <a:off x="2697120" y="3924360"/>
            <a:ext cx="867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ɑ:/ is usually read in the following letter or combine letters: </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等线"/>
              </a:rPr>
              <a:t>a ar al au</a:t>
            </a:r>
            <a:endParaRPr b="0" lang="en-US" sz="2400" spc="-1" strike="noStrike">
              <a:solidFill>
                <a:srgbClr val="000000"/>
              </a:solidFill>
              <a:latin typeface="等线"/>
            </a:endParaRPr>
          </a:p>
        </p:txBody>
      </p:sp>
      <p:sp>
        <p:nvSpPr>
          <p:cNvPr id="229" name=" 162"/>
          <p:cNvSpPr/>
          <p:nvPr/>
        </p:nvSpPr>
        <p:spPr>
          <a:xfrm>
            <a:off x="587520" y="3940200"/>
            <a:ext cx="1798560" cy="806400"/>
          </a:xfrm>
          <a:custGeom>
            <a:avLst/>
            <a:gdLst/>
            <a:ahLst/>
            <a:rect l="l" t="t" r="r" b="b"/>
            <a:pathLst>
              <a:path w="494328" h="324036">
                <a:moveTo>
                  <a:pt x="277525" y="292250"/>
                </a:moveTo>
                <a:lnTo>
                  <a:pt x="309311" y="292250"/>
                </a:lnTo>
                <a:lnTo>
                  <a:pt x="309311" y="324036"/>
                </a:lnTo>
                <a:lnTo>
                  <a:pt x="277525" y="324036"/>
                </a:lnTo>
                <a:close/>
                <a:moveTo>
                  <a:pt x="323779" y="243541"/>
                </a:moveTo>
                <a:lnTo>
                  <a:pt x="355565" y="243541"/>
                </a:lnTo>
                <a:lnTo>
                  <a:pt x="355565" y="275328"/>
                </a:lnTo>
                <a:lnTo>
                  <a:pt x="323779" y="275328"/>
                </a:lnTo>
                <a:close/>
                <a:moveTo>
                  <a:pt x="277525" y="243541"/>
                </a:moveTo>
                <a:lnTo>
                  <a:pt x="309311" y="243541"/>
                </a:lnTo>
                <a:lnTo>
                  <a:pt x="309311" y="275328"/>
                </a:lnTo>
                <a:lnTo>
                  <a:pt x="277525" y="275328"/>
                </a:lnTo>
                <a:close/>
                <a:moveTo>
                  <a:pt x="370033" y="194833"/>
                </a:moveTo>
                <a:lnTo>
                  <a:pt x="401820" y="194833"/>
                </a:lnTo>
                <a:lnTo>
                  <a:pt x="401820" y="226620"/>
                </a:lnTo>
                <a:lnTo>
                  <a:pt x="370033" y="226620"/>
                </a:lnTo>
                <a:close/>
                <a:moveTo>
                  <a:pt x="323779" y="194833"/>
                </a:moveTo>
                <a:lnTo>
                  <a:pt x="355565" y="194833"/>
                </a:lnTo>
                <a:lnTo>
                  <a:pt x="355565" y="226620"/>
                </a:lnTo>
                <a:lnTo>
                  <a:pt x="323779" y="226620"/>
                </a:lnTo>
                <a:close/>
                <a:moveTo>
                  <a:pt x="277525" y="194833"/>
                </a:moveTo>
                <a:lnTo>
                  <a:pt x="309311" y="194833"/>
                </a:lnTo>
                <a:lnTo>
                  <a:pt x="309311" y="226620"/>
                </a:lnTo>
                <a:lnTo>
                  <a:pt x="277525" y="226620"/>
                </a:lnTo>
                <a:close/>
                <a:moveTo>
                  <a:pt x="231271" y="194833"/>
                </a:moveTo>
                <a:lnTo>
                  <a:pt x="263057" y="194833"/>
                </a:lnTo>
                <a:lnTo>
                  <a:pt x="263057" y="226620"/>
                </a:lnTo>
                <a:lnTo>
                  <a:pt x="231271" y="226620"/>
                </a:lnTo>
                <a:close/>
                <a:moveTo>
                  <a:pt x="185016" y="194833"/>
                </a:moveTo>
                <a:lnTo>
                  <a:pt x="216803" y="194833"/>
                </a:lnTo>
                <a:lnTo>
                  <a:pt x="216803" y="226620"/>
                </a:lnTo>
                <a:lnTo>
                  <a:pt x="185016" y="226620"/>
                </a:lnTo>
                <a:close/>
                <a:moveTo>
                  <a:pt x="138762" y="194833"/>
                </a:moveTo>
                <a:lnTo>
                  <a:pt x="170549" y="194833"/>
                </a:lnTo>
                <a:lnTo>
                  <a:pt x="170549" y="226620"/>
                </a:lnTo>
                <a:lnTo>
                  <a:pt x="138762" y="226620"/>
                </a:lnTo>
                <a:close/>
                <a:moveTo>
                  <a:pt x="92508" y="194833"/>
                </a:moveTo>
                <a:lnTo>
                  <a:pt x="124294" y="194833"/>
                </a:lnTo>
                <a:lnTo>
                  <a:pt x="124294" y="226620"/>
                </a:lnTo>
                <a:lnTo>
                  <a:pt x="92508" y="226620"/>
                </a:lnTo>
                <a:close/>
                <a:moveTo>
                  <a:pt x="46254" y="194833"/>
                </a:moveTo>
                <a:lnTo>
                  <a:pt x="78040" y="194833"/>
                </a:lnTo>
                <a:lnTo>
                  <a:pt x="78040" y="226620"/>
                </a:lnTo>
                <a:lnTo>
                  <a:pt x="46254" y="226620"/>
                </a:lnTo>
                <a:close/>
                <a:moveTo>
                  <a:pt x="0" y="194833"/>
                </a:moveTo>
                <a:lnTo>
                  <a:pt x="31787" y="194833"/>
                </a:lnTo>
                <a:lnTo>
                  <a:pt x="31787" y="226620"/>
                </a:lnTo>
                <a:lnTo>
                  <a:pt x="0" y="226620"/>
                </a:lnTo>
                <a:close/>
                <a:moveTo>
                  <a:pt x="416287" y="170479"/>
                </a:moveTo>
                <a:lnTo>
                  <a:pt x="448074" y="170479"/>
                </a:lnTo>
                <a:lnTo>
                  <a:pt x="448074" y="202266"/>
                </a:lnTo>
                <a:lnTo>
                  <a:pt x="416287" y="202266"/>
                </a:lnTo>
                <a:close/>
                <a:moveTo>
                  <a:pt x="462542" y="146125"/>
                </a:moveTo>
                <a:lnTo>
                  <a:pt x="494328" y="146125"/>
                </a:lnTo>
                <a:lnTo>
                  <a:pt x="494328" y="177911"/>
                </a:lnTo>
                <a:lnTo>
                  <a:pt x="462542" y="177911"/>
                </a:lnTo>
                <a:close/>
                <a:moveTo>
                  <a:pt x="370033" y="146125"/>
                </a:moveTo>
                <a:lnTo>
                  <a:pt x="401820" y="146125"/>
                </a:lnTo>
                <a:lnTo>
                  <a:pt x="401820" y="177911"/>
                </a:lnTo>
                <a:lnTo>
                  <a:pt x="370033" y="177911"/>
                </a:lnTo>
                <a:close/>
                <a:moveTo>
                  <a:pt x="323779" y="146125"/>
                </a:moveTo>
                <a:lnTo>
                  <a:pt x="355565" y="146125"/>
                </a:lnTo>
                <a:lnTo>
                  <a:pt x="355565" y="177911"/>
                </a:lnTo>
                <a:lnTo>
                  <a:pt x="323779" y="177911"/>
                </a:lnTo>
                <a:close/>
                <a:moveTo>
                  <a:pt x="277525" y="146125"/>
                </a:moveTo>
                <a:lnTo>
                  <a:pt x="309311" y="146125"/>
                </a:lnTo>
                <a:lnTo>
                  <a:pt x="309311" y="177911"/>
                </a:lnTo>
                <a:lnTo>
                  <a:pt x="277525" y="177911"/>
                </a:lnTo>
                <a:close/>
                <a:moveTo>
                  <a:pt x="231271" y="146125"/>
                </a:moveTo>
                <a:lnTo>
                  <a:pt x="263057" y="146125"/>
                </a:lnTo>
                <a:lnTo>
                  <a:pt x="263057" y="177911"/>
                </a:lnTo>
                <a:lnTo>
                  <a:pt x="231271" y="177911"/>
                </a:lnTo>
                <a:close/>
                <a:moveTo>
                  <a:pt x="185016" y="146125"/>
                </a:moveTo>
                <a:lnTo>
                  <a:pt x="216803" y="146125"/>
                </a:lnTo>
                <a:lnTo>
                  <a:pt x="216803" y="177911"/>
                </a:lnTo>
                <a:lnTo>
                  <a:pt x="185016" y="177911"/>
                </a:lnTo>
                <a:close/>
                <a:moveTo>
                  <a:pt x="138762" y="146125"/>
                </a:moveTo>
                <a:lnTo>
                  <a:pt x="170549" y="146125"/>
                </a:lnTo>
                <a:lnTo>
                  <a:pt x="170549" y="177911"/>
                </a:lnTo>
                <a:lnTo>
                  <a:pt x="138762" y="177911"/>
                </a:lnTo>
                <a:close/>
                <a:moveTo>
                  <a:pt x="92508" y="146125"/>
                </a:moveTo>
                <a:lnTo>
                  <a:pt x="124294" y="146125"/>
                </a:lnTo>
                <a:lnTo>
                  <a:pt x="124294" y="177911"/>
                </a:lnTo>
                <a:lnTo>
                  <a:pt x="92508" y="177911"/>
                </a:lnTo>
                <a:close/>
                <a:moveTo>
                  <a:pt x="46254" y="146125"/>
                </a:moveTo>
                <a:lnTo>
                  <a:pt x="78040" y="146125"/>
                </a:lnTo>
                <a:lnTo>
                  <a:pt x="78040" y="177911"/>
                </a:lnTo>
                <a:lnTo>
                  <a:pt x="46254" y="177911"/>
                </a:lnTo>
                <a:close/>
                <a:moveTo>
                  <a:pt x="0" y="146125"/>
                </a:moveTo>
                <a:lnTo>
                  <a:pt x="31787" y="146125"/>
                </a:lnTo>
                <a:lnTo>
                  <a:pt x="31787" y="177911"/>
                </a:lnTo>
                <a:lnTo>
                  <a:pt x="0" y="177911"/>
                </a:lnTo>
                <a:close/>
                <a:moveTo>
                  <a:pt x="416287" y="121771"/>
                </a:moveTo>
                <a:lnTo>
                  <a:pt x="448074" y="121771"/>
                </a:lnTo>
                <a:lnTo>
                  <a:pt x="448074" y="153557"/>
                </a:lnTo>
                <a:lnTo>
                  <a:pt x="416287" y="153557"/>
                </a:lnTo>
                <a:close/>
                <a:moveTo>
                  <a:pt x="370033" y="97417"/>
                </a:moveTo>
                <a:lnTo>
                  <a:pt x="401820" y="97417"/>
                </a:lnTo>
                <a:lnTo>
                  <a:pt x="401820" y="129203"/>
                </a:lnTo>
                <a:lnTo>
                  <a:pt x="370033" y="129203"/>
                </a:lnTo>
                <a:close/>
                <a:moveTo>
                  <a:pt x="323779" y="97417"/>
                </a:moveTo>
                <a:lnTo>
                  <a:pt x="355565" y="97417"/>
                </a:lnTo>
                <a:lnTo>
                  <a:pt x="355565" y="129203"/>
                </a:lnTo>
                <a:lnTo>
                  <a:pt x="323779" y="129203"/>
                </a:lnTo>
                <a:close/>
                <a:moveTo>
                  <a:pt x="277525" y="97417"/>
                </a:moveTo>
                <a:lnTo>
                  <a:pt x="309311" y="97417"/>
                </a:lnTo>
                <a:lnTo>
                  <a:pt x="309311" y="129203"/>
                </a:lnTo>
                <a:lnTo>
                  <a:pt x="277525" y="129203"/>
                </a:lnTo>
                <a:close/>
                <a:moveTo>
                  <a:pt x="231271" y="97417"/>
                </a:moveTo>
                <a:lnTo>
                  <a:pt x="263057" y="97417"/>
                </a:lnTo>
                <a:lnTo>
                  <a:pt x="263057" y="129203"/>
                </a:lnTo>
                <a:lnTo>
                  <a:pt x="231271" y="129203"/>
                </a:lnTo>
                <a:close/>
                <a:moveTo>
                  <a:pt x="185016" y="97417"/>
                </a:moveTo>
                <a:lnTo>
                  <a:pt x="216803" y="97417"/>
                </a:lnTo>
                <a:lnTo>
                  <a:pt x="216803" y="129203"/>
                </a:lnTo>
                <a:lnTo>
                  <a:pt x="185016" y="129203"/>
                </a:lnTo>
                <a:close/>
                <a:moveTo>
                  <a:pt x="138762" y="97417"/>
                </a:moveTo>
                <a:lnTo>
                  <a:pt x="170549" y="97417"/>
                </a:lnTo>
                <a:lnTo>
                  <a:pt x="170549" y="129203"/>
                </a:lnTo>
                <a:lnTo>
                  <a:pt x="138762" y="129203"/>
                </a:lnTo>
                <a:close/>
                <a:moveTo>
                  <a:pt x="92508" y="97417"/>
                </a:moveTo>
                <a:lnTo>
                  <a:pt x="124294" y="97417"/>
                </a:lnTo>
                <a:lnTo>
                  <a:pt x="124294" y="129203"/>
                </a:lnTo>
                <a:lnTo>
                  <a:pt x="92508" y="129203"/>
                </a:lnTo>
                <a:close/>
                <a:moveTo>
                  <a:pt x="46254" y="97417"/>
                </a:moveTo>
                <a:lnTo>
                  <a:pt x="78040" y="97417"/>
                </a:lnTo>
                <a:lnTo>
                  <a:pt x="78040" y="129203"/>
                </a:lnTo>
                <a:lnTo>
                  <a:pt x="46254" y="129203"/>
                </a:lnTo>
                <a:close/>
                <a:moveTo>
                  <a:pt x="0" y="97417"/>
                </a:moveTo>
                <a:lnTo>
                  <a:pt x="31787" y="97417"/>
                </a:lnTo>
                <a:lnTo>
                  <a:pt x="31787" y="129203"/>
                </a:lnTo>
                <a:lnTo>
                  <a:pt x="0" y="129203"/>
                </a:lnTo>
                <a:close/>
                <a:moveTo>
                  <a:pt x="323779" y="48708"/>
                </a:moveTo>
                <a:lnTo>
                  <a:pt x="355565" y="48708"/>
                </a:lnTo>
                <a:lnTo>
                  <a:pt x="355565" y="80495"/>
                </a:lnTo>
                <a:lnTo>
                  <a:pt x="323779" y="80495"/>
                </a:lnTo>
                <a:close/>
                <a:moveTo>
                  <a:pt x="277525" y="48708"/>
                </a:moveTo>
                <a:lnTo>
                  <a:pt x="309311" y="48708"/>
                </a:lnTo>
                <a:lnTo>
                  <a:pt x="309311" y="80495"/>
                </a:lnTo>
                <a:lnTo>
                  <a:pt x="277525" y="80495"/>
                </a:lnTo>
                <a:close/>
                <a:moveTo>
                  <a:pt x="277525" y="0"/>
                </a:moveTo>
                <a:lnTo>
                  <a:pt x="309311" y="0"/>
                </a:lnTo>
                <a:lnTo>
                  <a:pt x="309311" y="31787"/>
                </a:lnTo>
                <a:lnTo>
                  <a:pt x="277525" y="31787"/>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30" name="文本框 4"/>
          <p:cNvSpPr/>
          <p:nvPr/>
        </p:nvSpPr>
        <p:spPr>
          <a:xfrm>
            <a:off x="425520" y="5211720"/>
            <a:ext cx="963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等线"/>
              </a:rPr>
              <a:t>How to pronounce the following words?</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等线"/>
              </a:rPr>
              <a:t>cadre     tart     draught     hearth     psalm     clerk     sergeant   </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等线"/>
            </a:endParaRPr>
          </a:p>
        </p:txBody>
      </p:sp>
    </p:spTree>
  </p:cSld>
  <p:transition>
    <p:push dir="u"/>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dur="indefinite" nodeType="clickEffect" fill="hold" presetClass="entr" presetID="2" presetSubtype="4">
                                  <p:stCondLst>
                                    <p:cond delay="0"/>
                                  </p:stCondLst>
                                  <p:childTnLst>
                                    <p:set>
                                      <p:cBhvr>
                                        <p:cTn id="350" dur="1" fill="hold">
                                          <p:stCondLst>
                                            <p:cond delay="0"/>
                                          </p:stCondLst>
                                        </p:cTn>
                                        <p:tgtEl>
                                          <p:spTgt spid="223">
                                            <p:txEl>
                                              <p:pRg st="0" end="0"/>
                                            </p:txEl>
                                          </p:spTgt>
                                        </p:tgtEl>
                                        <p:attrNameLst>
                                          <p:attrName>style.visibility</p:attrName>
                                        </p:attrNameLst>
                                      </p:cBhvr>
                                      <p:to>
                                        <p:strVal val="visible"/>
                                      </p:to>
                                    </p:set>
                                    <p:anim calcmode="lin" valueType="num">
                                      <p:cBhvr additive="repl">
                                        <p:cTn id="351"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223">
                                            <p:txEl>
                                              <p:pRg st="0" end="0"/>
                                            </p:txEl>
                                          </p:spTgt>
                                        </p:tgtEl>
                                        <p:attrNameLst>
                                          <p:attrName>ppt_y</p:attrName>
                                        </p:attrNameLst>
                                      </p:cBhvr>
                                      <p:tavLst>
                                        <p:tav tm="0">
                                          <p:val>
                                            <p:strVal val="1+#ppt_h/2"/>
                                          </p:val>
                                        </p:tav>
                                        <p:tav tm="100000">
                                          <p:val>
                                            <p:strVal val="#ppt_y"/>
                                          </p:val>
                                        </p:tav>
                                      </p:tavLst>
                                    </p:anim>
                                  </p:childTnLst>
                                </p:cTn>
                              </p:par>
                              <p:par>
                                <p:cTn id="353" dur="indefinite" nodeType="withEffect" fill="hold" presetClass="entr" presetID="2" presetSubtype="4">
                                  <p:stCondLst>
                                    <p:cond delay="0"/>
                                  </p:stCondLst>
                                  <p:childTnLst>
                                    <p:set>
                                      <p:cBhvr>
                                        <p:cTn id="354" dur="1" fill="hold">
                                          <p:stCondLst>
                                            <p:cond delay="0"/>
                                          </p:stCondLst>
                                        </p:cTn>
                                        <p:tgtEl>
                                          <p:spTgt spid="223">
                                            <p:txEl>
                                              <p:pRg st="1" end="1"/>
                                            </p:txEl>
                                          </p:spTgt>
                                        </p:tgtEl>
                                        <p:attrNameLst>
                                          <p:attrName>style.visibility</p:attrName>
                                        </p:attrNameLst>
                                      </p:cBhvr>
                                      <p:to>
                                        <p:strVal val="visible"/>
                                      </p:to>
                                    </p:set>
                                    <p:anim calcmode="lin" valueType="num">
                                      <p:cBhvr additive="repl">
                                        <p:cTn id="355"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repl">
                                        <p:cTn id="356" dur="500" fill="hold"/>
                                        <p:tgtEl>
                                          <p:spTgt spid="223">
                                            <p:txEl>
                                              <p:pRg st="1" end="1"/>
                                            </p:txEl>
                                          </p:spTgt>
                                        </p:tgtEl>
                                        <p:attrNameLst>
                                          <p:attrName>ppt_y</p:attrName>
                                        </p:attrNameLst>
                                      </p:cBhvr>
                                      <p:tavLst>
                                        <p:tav tm="0">
                                          <p:val>
                                            <p:strVal val="1+#ppt_h/2"/>
                                          </p:val>
                                        </p:tav>
                                        <p:tav tm="100000">
                                          <p:val>
                                            <p:strVal val="#ppt_y"/>
                                          </p:val>
                                        </p:tav>
                                      </p:tavLst>
                                    </p:anim>
                                  </p:childTnLst>
                                </p:cTn>
                              </p:par>
                              <p:par>
                                <p:cTn id="357" dur="indefinite" nodeType="withEffect" fill="hold" presetClass="entr" presetID="2" presetSubtype="4">
                                  <p:stCondLst>
                                    <p:cond delay="0"/>
                                  </p:stCondLst>
                                  <p:childTnLst>
                                    <p:set>
                                      <p:cBhvr>
                                        <p:cTn id="358" dur="1" fill="hold">
                                          <p:stCondLst>
                                            <p:cond delay="0"/>
                                          </p:stCondLst>
                                        </p:cTn>
                                        <p:tgtEl>
                                          <p:spTgt spid="223">
                                            <p:txEl>
                                              <p:pRg st="2" end="2"/>
                                            </p:txEl>
                                          </p:spTgt>
                                        </p:tgtEl>
                                        <p:attrNameLst>
                                          <p:attrName>style.visibility</p:attrName>
                                        </p:attrNameLst>
                                      </p:cBhvr>
                                      <p:to>
                                        <p:strVal val="visible"/>
                                      </p:to>
                                    </p:set>
                                    <p:anim calcmode="lin" valueType="num">
                                      <p:cBhvr additive="repl">
                                        <p:cTn id="359"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repl">
                                        <p:cTn id="360" dur="500" fill="hold"/>
                                        <p:tgtEl>
                                          <p:spTgt spid="223">
                                            <p:txEl>
                                              <p:pRg st="2" end="2"/>
                                            </p:txEl>
                                          </p:spTgt>
                                        </p:tgtEl>
                                        <p:attrNameLst>
                                          <p:attrName>ppt_y</p:attrName>
                                        </p:attrNameLst>
                                      </p:cBhvr>
                                      <p:tavLst>
                                        <p:tav tm="0">
                                          <p:val>
                                            <p:strVal val="1+#ppt_h/2"/>
                                          </p:val>
                                        </p:tav>
                                        <p:tav tm="100000">
                                          <p:val>
                                            <p:strVal val="#ppt_y"/>
                                          </p:val>
                                        </p:tav>
                                      </p:tavLst>
                                    </p:anim>
                                  </p:childTnLst>
                                </p:cTn>
                              </p:par>
                              <p:par>
                                <p:cTn id="361" dur="indefinite" nodeType="withEffect" fill="hold" presetClass="entr" presetID="2" presetSubtype="4">
                                  <p:stCondLst>
                                    <p:cond delay="0"/>
                                  </p:stCondLst>
                                  <p:childTnLst>
                                    <p:set>
                                      <p:cBhvr>
                                        <p:cTn id="362" dur="1" fill="hold">
                                          <p:stCondLst>
                                            <p:cond delay="0"/>
                                          </p:stCondLst>
                                        </p:cTn>
                                        <p:tgtEl>
                                          <p:spTgt spid="223">
                                            <p:txEl>
                                              <p:pRg st="3" end="3"/>
                                            </p:txEl>
                                          </p:spTgt>
                                        </p:tgtEl>
                                        <p:attrNameLst>
                                          <p:attrName>style.visibility</p:attrName>
                                        </p:attrNameLst>
                                      </p:cBhvr>
                                      <p:to>
                                        <p:strVal val="visible"/>
                                      </p:to>
                                    </p:set>
                                    <p:anim calcmode="lin" valueType="num">
                                      <p:cBhvr additive="repl">
                                        <p:cTn id="363"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repl">
                                        <p:cTn id="364"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2" presetSubtype="4">
                                  <p:stCondLst>
                                    <p:cond delay="0"/>
                                  </p:stCondLst>
                                  <p:childTnLst>
                                    <p:set>
                                      <p:cBhvr>
                                        <p:cTn id="368" dur="1" fill="hold">
                                          <p:stCondLst>
                                            <p:cond delay="0"/>
                                          </p:stCondLst>
                                        </p:cTn>
                                        <p:tgtEl>
                                          <p:spTgt spid="227"/>
                                        </p:tgtEl>
                                        <p:attrNameLst>
                                          <p:attrName>style.visibility</p:attrName>
                                        </p:attrNameLst>
                                      </p:cBhvr>
                                      <p:to>
                                        <p:strVal val="visible"/>
                                      </p:to>
                                    </p:set>
                                    <p:anim calcmode="lin" valueType="num">
                                      <p:cBhvr additive="repl">
                                        <p:cTn id="369" dur="500" fill="hold"/>
                                        <p:tgtEl>
                                          <p:spTgt spid="227"/>
                                        </p:tgtEl>
                                        <p:attrNameLst>
                                          <p:attrName>ppt_x</p:attrName>
                                        </p:attrNameLst>
                                      </p:cBhvr>
                                      <p:tavLst>
                                        <p:tav tm="0">
                                          <p:val>
                                            <p:strVal val="#ppt_x"/>
                                          </p:val>
                                        </p:tav>
                                        <p:tav tm="100000">
                                          <p:val>
                                            <p:strVal val="#ppt_x"/>
                                          </p:val>
                                        </p:tav>
                                      </p:tavLst>
                                    </p:anim>
                                    <p:anim calcmode="lin" valueType="num">
                                      <p:cBhvr additive="repl">
                                        <p:cTn id="370"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2" presetSubtype="4">
                                  <p:stCondLst>
                                    <p:cond delay="0"/>
                                  </p:stCondLst>
                                  <p:childTnLst>
                                    <p:set>
                                      <p:cBhvr>
                                        <p:cTn id="374" dur="1" fill="hold">
                                          <p:stCondLst>
                                            <p:cond delay="0"/>
                                          </p:stCondLst>
                                        </p:cTn>
                                        <p:tgtEl>
                                          <p:spTgt spid="229"/>
                                        </p:tgtEl>
                                        <p:attrNameLst>
                                          <p:attrName>style.visibility</p:attrName>
                                        </p:attrNameLst>
                                      </p:cBhvr>
                                      <p:to>
                                        <p:strVal val="visible"/>
                                      </p:to>
                                    </p:set>
                                    <p:anim calcmode="lin" valueType="num">
                                      <p:cBhvr additive="repl">
                                        <p:cTn id="375" dur="500" fill="hold"/>
                                        <p:tgtEl>
                                          <p:spTgt spid="229"/>
                                        </p:tgtEl>
                                        <p:attrNameLst>
                                          <p:attrName>ppt_x</p:attrName>
                                        </p:attrNameLst>
                                      </p:cBhvr>
                                      <p:tavLst>
                                        <p:tav tm="0">
                                          <p:val>
                                            <p:strVal val="#ppt_x"/>
                                          </p:val>
                                        </p:tav>
                                        <p:tav tm="100000">
                                          <p:val>
                                            <p:strVal val="#ppt_x"/>
                                          </p:val>
                                        </p:tav>
                                      </p:tavLst>
                                    </p:anim>
                                    <p:anim calcmode="lin" valueType="num">
                                      <p:cBhvr additive="repl">
                                        <p:cTn id="376"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2" presetSubtype="4">
                                  <p:stCondLst>
                                    <p:cond delay="0"/>
                                  </p:stCondLst>
                                  <p:childTnLst>
                                    <p:set>
                                      <p:cBhvr>
                                        <p:cTn id="380" dur="1" fill="hold">
                                          <p:stCondLst>
                                            <p:cond delay="0"/>
                                          </p:stCondLst>
                                        </p:cTn>
                                        <p:tgtEl>
                                          <p:spTgt spid="228">
                                            <p:txEl>
                                              <p:pRg st="0" end="0"/>
                                            </p:txEl>
                                          </p:spTgt>
                                        </p:tgtEl>
                                        <p:attrNameLst>
                                          <p:attrName>style.visibility</p:attrName>
                                        </p:attrNameLst>
                                      </p:cBhvr>
                                      <p:to>
                                        <p:strVal val="visible"/>
                                      </p:to>
                                    </p:set>
                                    <p:anim calcmode="lin" valueType="num">
                                      <p:cBhvr additive="repl">
                                        <p:cTn id="381" dur="5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repl">
                                        <p:cTn id="382" dur="500" fill="hold"/>
                                        <p:tgtEl>
                                          <p:spTgt spid="228">
                                            <p:txEl>
                                              <p:pRg st="0" end="0"/>
                                            </p:txEl>
                                          </p:spTgt>
                                        </p:tgtEl>
                                        <p:attrNameLst>
                                          <p:attrName>ppt_y</p:attrName>
                                        </p:attrNameLst>
                                      </p:cBhvr>
                                      <p:tavLst>
                                        <p:tav tm="0">
                                          <p:val>
                                            <p:strVal val="1+#ppt_h/2"/>
                                          </p:val>
                                        </p:tav>
                                        <p:tav tm="100000">
                                          <p:val>
                                            <p:strVal val="#ppt_y"/>
                                          </p:val>
                                        </p:tav>
                                      </p:tavLst>
                                    </p:anim>
                                  </p:childTnLst>
                                </p:cTn>
                              </p:par>
                              <p:par>
                                <p:cTn id="383" dur="indefinite" nodeType="withEffect" fill="hold" presetClass="entr" presetID="2" presetSubtype="4">
                                  <p:stCondLst>
                                    <p:cond delay="0"/>
                                  </p:stCondLst>
                                  <p:childTnLst>
                                    <p:set>
                                      <p:cBhvr>
                                        <p:cTn id="384" dur="1" fill="hold">
                                          <p:stCondLst>
                                            <p:cond delay="0"/>
                                          </p:stCondLst>
                                        </p:cTn>
                                        <p:tgtEl>
                                          <p:spTgt spid="228">
                                            <p:txEl>
                                              <p:pRg st="1" end="1"/>
                                            </p:txEl>
                                          </p:spTgt>
                                        </p:tgtEl>
                                        <p:attrNameLst>
                                          <p:attrName>style.visibility</p:attrName>
                                        </p:attrNameLst>
                                      </p:cBhvr>
                                      <p:to>
                                        <p:strVal val="visible"/>
                                      </p:to>
                                    </p:set>
                                    <p:anim calcmode="lin" valueType="num">
                                      <p:cBhvr additive="repl">
                                        <p:cTn id="385" dur="5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repl">
                                        <p:cTn id="386" dur="5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 presetSubtype="4">
                                  <p:stCondLst>
                                    <p:cond delay="0"/>
                                  </p:stCondLst>
                                  <p:childTnLst>
                                    <p:set>
                                      <p:cBhvr>
                                        <p:cTn id="390" dur="1" fill="hold">
                                          <p:stCondLst>
                                            <p:cond delay="0"/>
                                          </p:stCondLst>
                                        </p:cTn>
                                        <p:tgtEl>
                                          <p:spTgt spid="230">
                                            <p:txEl>
                                              <p:pRg st="0" end="0"/>
                                            </p:txEl>
                                          </p:spTgt>
                                        </p:tgtEl>
                                        <p:attrNameLst>
                                          <p:attrName>style.visibility</p:attrName>
                                        </p:attrNameLst>
                                      </p:cBhvr>
                                      <p:to>
                                        <p:strVal val="visible"/>
                                      </p:to>
                                    </p:set>
                                    <p:anim calcmode="lin" valueType="num">
                                      <p:cBhvr additive="repl">
                                        <p:cTn id="391"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392" dur="500" fill="hold"/>
                                        <p:tgtEl>
                                          <p:spTgt spid="230">
                                            <p:txEl>
                                              <p:pRg st="0" end="0"/>
                                            </p:txEl>
                                          </p:spTgt>
                                        </p:tgtEl>
                                        <p:attrNameLst>
                                          <p:attrName>ppt_y</p:attrName>
                                        </p:attrNameLst>
                                      </p:cBhvr>
                                      <p:tavLst>
                                        <p:tav tm="0">
                                          <p:val>
                                            <p:strVal val="1+#ppt_h/2"/>
                                          </p:val>
                                        </p:tav>
                                        <p:tav tm="100000">
                                          <p:val>
                                            <p:strVal val="#ppt_y"/>
                                          </p:val>
                                        </p:tav>
                                      </p:tavLst>
                                    </p:anim>
                                  </p:childTnLst>
                                </p:cTn>
                              </p:par>
                              <p:par>
                                <p:cTn id="393" dur="indefinite" nodeType="withEffect" fill="hold" presetClass="entr" presetID="2" presetSubtype="4">
                                  <p:stCondLst>
                                    <p:cond delay="0"/>
                                  </p:stCondLst>
                                  <p:childTnLst>
                                    <p:set>
                                      <p:cBhvr>
                                        <p:cTn id="394" dur="1" fill="hold">
                                          <p:stCondLst>
                                            <p:cond delay="0"/>
                                          </p:stCondLst>
                                        </p:cTn>
                                        <p:tgtEl>
                                          <p:spTgt spid="230">
                                            <p:txEl>
                                              <p:pRg st="1" end="1"/>
                                            </p:txEl>
                                          </p:spTgt>
                                        </p:tgtEl>
                                        <p:attrNameLst>
                                          <p:attrName>style.visibility</p:attrName>
                                        </p:attrNameLst>
                                      </p:cBhvr>
                                      <p:to>
                                        <p:strVal val="visible"/>
                                      </p:to>
                                    </p:set>
                                    <p:anim calcmode="lin" valueType="num">
                                      <p:cBhvr additive="repl">
                                        <p:cTn id="395"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repl">
                                        <p:cTn id="396"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87160" y="1077840"/>
            <a:ext cx="10544040" cy="4702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a:t>
            </a:r>
            <a:r>
              <a:rPr b="0" lang="en-US" sz="2800" spc="-1" strike="noStrike">
                <a:solidFill>
                  <a:srgbClr val="44546a"/>
                </a:solidFill>
                <a:latin typeface="等线"/>
              </a:rPr>
              <a:t>o</a:t>
            </a:r>
            <a:r>
              <a:rPr b="0" lang="en-US" sz="2800" spc="-1" strike="noStrike">
                <a:solidFill>
                  <a:srgbClr val="000000"/>
                </a:solidFill>
                <a:latin typeface="等线"/>
              </a:rPr>
              <a:t>p         l</a:t>
            </a:r>
            <a:r>
              <a:rPr b="0" lang="en-US" sz="2800" spc="-1" strike="noStrike">
                <a:solidFill>
                  <a:srgbClr val="44546a"/>
                </a:solidFill>
                <a:latin typeface="等线"/>
              </a:rPr>
              <a:t>o</a:t>
            </a:r>
            <a:r>
              <a:rPr b="0" lang="en-US" sz="2800" spc="-1" strike="noStrike">
                <a:solidFill>
                  <a:srgbClr val="000000"/>
                </a:solidFill>
                <a:latin typeface="等线"/>
              </a:rPr>
              <a:t>ck       h</a:t>
            </a:r>
            <a:r>
              <a:rPr b="0" lang="en-US" sz="2800" spc="-1" strike="noStrike">
                <a:solidFill>
                  <a:srgbClr val="44546a"/>
                </a:solidFill>
                <a:latin typeface="等线"/>
              </a:rPr>
              <a:t>o</a:t>
            </a:r>
            <a:r>
              <a:rPr b="0" lang="en-US" sz="2800" spc="-1" strike="noStrike">
                <a:solidFill>
                  <a:srgbClr val="000000"/>
                </a:solidFill>
                <a:latin typeface="等线"/>
              </a:rPr>
              <a:t>t      cl</a:t>
            </a:r>
            <a:r>
              <a:rPr b="0" lang="en-US" sz="2800" spc="-1" strike="noStrike">
                <a:solidFill>
                  <a:srgbClr val="44546a"/>
                </a:solidFill>
                <a:latin typeface="等线"/>
              </a:rPr>
              <a:t>o</a:t>
            </a:r>
            <a:r>
              <a:rPr b="0" lang="en-US" sz="2800" spc="-1" strike="noStrike">
                <a:solidFill>
                  <a:srgbClr val="000000"/>
                </a:solidFill>
                <a:latin typeface="等线"/>
              </a:rPr>
              <a:t>ck    n</a:t>
            </a:r>
            <a:r>
              <a:rPr b="0" lang="en-US" sz="2800" spc="-1" strike="noStrike">
                <a:solidFill>
                  <a:srgbClr val="44546a"/>
                </a:solidFill>
                <a:latin typeface="等线"/>
              </a:rPr>
              <a:t>o</a:t>
            </a:r>
            <a:r>
              <a:rPr b="0" lang="en-US" sz="2800" spc="-1" strike="noStrike">
                <a:solidFill>
                  <a:srgbClr val="000000"/>
                </a:solidFill>
                <a:latin typeface="等线"/>
              </a:rPr>
              <a:t>vel</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w</a:t>
            </a:r>
            <a:r>
              <a:rPr b="0" lang="en-US" sz="2800" spc="-1" strike="noStrike">
                <a:solidFill>
                  <a:srgbClr val="44546a"/>
                </a:solidFill>
                <a:latin typeface="等线"/>
              </a:rPr>
              <a:t>a</a:t>
            </a:r>
            <a:r>
              <a:rPr b="0" lang="en-US" sz="2800" spc="-1" strike="noStrike">
                <a:solidFill>
                  <a:srgbClr val="000000"/>
                </a:solidFill>
                <a:latin typeface="等线"/>
              </a:rPr>
              <a:t>nt       wh</a:t>
            </a:r>
            <a:r>
              <a:rPr b="0" lang="en-US" sz="2800" spc="-1" strike="noStrike">
                <a:solidFill>
                  <a:srgbClr val="44546a"/>
                </a:solidFill>
                <a:latin typeface="等线"/>
              </a:rPr>
              <a:t>a</a:t>
            </a:r>
            <a:r>
              <a:rPr b="0" lang="en-US" sz="2800" spc="-1" strike="noStrike">
                <a:solidFill>
                  <a:srgbClr val="000000"/>
                </a:solidFill>
                <a:latin typeface="等线"/>
              </a:rPr>
              <a:t>t      w</a:t>
            </a:r>
            <a:r>
              <a:rPr b="0" lang="en-US" sz="2800" spc="-1" strike="noStrike">
                <a:solidFill>
                  <a:srgbClr val="44546a"/>
                </a:solidFill>
                <a:latin typeface="等线"/>
              </a:rPr>
              <a:t>a</a:t>
            </a:r>
            <a:r>
              <a:rPr b="0" lang="en-US" sz="2800" spc="-1" strike="noStrike">
                <a:solidFill>
                  <a:srgbClr val="000000"/>
                </a:solidFill>
                <a:latin typeface="等线"/>
              </a:rPr>
              <a:t>s      w</a:t>
            </a:r>
            <a:r>
              <a:rPr b="0" lang="en-US" sz="2800" spc="-1" strike="noStrike">
                <a:solidFill>
                  <a:srgbClr val="44546a"/>
                </a:solidFill>
                <a:latin typeface="等线"/>
              </a:rPr>
              <a:t>a</a:t>
            </a:r>
            <a:r>
              <a:rPr b="0" lang="en-US" sz="2800" spc="-1" strike="noStrike">
                <a:solidFill>
                  <a:srgbClr val="000000"/>
                </a:solidFill>
                <a:latin typeface="等线"/>
              </a:rPr>
              <a:t>tch  qu</a:t>
            </a:r>
            <a:r>
              <a:rPr b="0" lang="en-US" sz="2800" spc="-1" strike="noStrike">
                <a:solidFill>
                  <a:srgbClr val="44546a"/>
                </a:solidFill>
                <a:latin typeface="等线"/>
              </a:rPr>
              <a:t>a</a:t>
            </a:r>
            <a:r>
              <a:rPr b="0" lang="en-US" sz="2800" spc="-1" strike="noStrike">
                <a:solidFill>
                  <a:srgbClr val="000000"/>
                </a:solidFill>
                <a:latin typeface="等线"/>
              </a:rPr>
              <a:t>lity</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a:t>
            </a:r>
            <a:r>
              <a:rPr b="0" lang="en-US" sz="2800" spc="-1" strike="noStrike">
                <a:solidFill>
                  <a:srgbClr val="44546a"/>
                </a:solidFill>
                <a:latin typeface="等线"/>
              </a:rPr>
              <a:t>ou</a:t>
            </a:r>
            <a:r>
              <a:rPr b="0" lang="en-US" sz="2800" spc="-1" strike="noStrike">
                <a:solidFill>
                  <a:srgbClr val="000000"/>
                </a:solidFill>
                <a:latin typeface="等线"/>
              </a:rPr>
              <a:t>gh     tr</a:t>
            </a:r>
            <a:r>
              <a:rPr b="0" lang="en-US" sz="2800" spc="-1" strike="noStrike">
                <a:solidFill>
                  <a:srgbClr val="44546a"/>
                </a:solidFill>
                <a:latin typeface="等线"/>
              </a:rPr>
              <a:t>ou</a:t>
            </a:r>
            <a:r>
              <a:rPr b="0" lang="en-US" sz="2800" spc="-1" strike="noStrike">
                <a:solidFill>
                  <a:srgbClr val="000000"/>
                </a:solidFill>
                <a:latin typeface="等线"/>
              </a:rPr>
              <a:t>gh</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bec</a:t>
            </a:r>
            <a:r>
              <a:rPr b="0" lang="en-US" sz="2800" spc="-1" strike="noStrike">
                <a:solidFill>
                  <a:srgbClr val="44546a"/>
                </a:solidFill>
                <a:latin typeface="等线"/>
              </a:rPr>
              <a:t>au</a:t>
            </a:r>
            <a:r>
              <a:rPr b="0" lang="en-US" sz="2800" spc="-1" strike="noStrike">
                <a:solidFill>
                  <a:srgbClr val="000000"/>
                </a:solidFill>
                <a:latin typeface="等线"/>
              </a:rPr>
              <a:t>se  s</a:t>
            </a:r>
            <a:r>
              <a:rPr b="0" lang="en-US" sz="2800" spc="-1" strike="noStrike">
                <a:solidFill>
                  <a:srgbClr val="44546a"/>
                </a:solidFill>
                <a:latin typeface="等线"/>
              </a:rPr>
              <a:t>au</a:t>
            </a:r>
            <a:r>
              <a:rPr b="0" lang="en-US" sz="2800" spc="-1" strike="noStrike">
                <a:solidFill>
                  <a:srgbClr val="000000"/>
                </a:solidFill>
                <a:latin typeface="等线"/>
              </a:rPr>
              <a:t>sage  </a:t>
            </a:r>
            <a:r>
              <a:rPr b="0" lang="en-US" sz="2800" spc="-1" strike="noStrike">
                <a:solidFill>
                  <a:srgbClr val="44546a"/>
                </a:solidFill>
                <a:latin typeface="等线"/>
              </a:rPr>
              <a:t>Au</a:t>
            </a:r>
            <a:r>
              <a:rPr b="0" lang="en-US" sz="2800" spc="-1" strike="noStrike">
                <a:solidFill>
                  <a:srgbClr val="000000"/>
                </a:solidFill>
                <a:latin typeface="等线"/>
              </a:rPr>
              <a:t>stria </a:t>
            </a:r>
            <a:r>
              <a:rPr b="0" lang="en-US" sz="2800" spc="-1" strike="noStrike">
                <a:solidFill>
                  <a:srgbClr val="44546a"/>
                </a:solidFill>
                <a:latin typeface="等线"/>
              </a:rPr>
              <a:t>Au</a:t>
            </a:r>
            <a:r>
              <a:rPr b="0" lang="en-US" sz="2800" spc="-1" strike="noStrike">
                <a:solidFill>
                  <a:srgbClr val="000000"/>
                </a:solidFill>
                <a:latin typeface="等线"/>
              </a:rPr>
              <a:t>stralia</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32" name="矩形 94"/>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33" name="组合 95" descr=""/>
          <p:cNvPicPr/>
          <p:nvPr/>
        </p:nvPicPr>
        <p:blipFill>
          <a:blip r:embed="rId1"/>
          <a:stretch/>
        </p:blipFill>
        <p:spPr>
          <a:xfrm>
            <a:off x="237960" y="206280"/>
            <a:ext cx="578160" cy="576360"/>
          </a:xfrm>
          <a:prstGeom prst="rect">
            <a:avLst/>
          </a:prstGeom>
          <a:ln w="0">
            <a:noFill/>
          </a:ln>
        </p:spPr>
      </p:pic>
      <p:sp>
        <p:nvSpPr>
          <p:cNvPr id="234" name="文本框 25"/>
          <p:cNvSpPr/>
          <p:nvPr/>
        </p:nvSpPr>
        <p:spPr>
          <a:xfrm>
            <a:off x="1170360" y="212760"/>
            <a:ext cx="381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a:t>
            </a:r>
            <a:r>
              <a:rPr b="1" lang="en-US" sz="3200" spc="-1" strike="noStrike">
                <a:solidFill>
                  <a:srgbClr val="3d7351"/>
                </a:solidFill>
                <a:latin typeface="微软雅黑"/>
                <a:ea typeface="微软雅黑"/>
              </a:rPr>
              <a:t>Phonics Time”/ɒ/</a:t>
            </a:r>
            <a:endParaRPr b="0" lang="en-US" sz="3200" spc="-1" strike="noStrike">
              <a:solidFill>
                <a:srgbClr val="000000"/>
              </a:solidFill>
              <a:latin typeface="等线"/>
            </a:endParaRPr>
          </a:p>
        </p:txBody>
      </p:sp>
      <p:sp>
        <p:nvSpPr>
          <p:cNvPr id="235" name=" 2050"/>
          <p:cNvSpPr/>
          <p:nvPr/>
        </p:nvSpPr>
        <p:spPr>
          <a:xfrm>
            <a:off x="10058400" y="1200240"/>
            <a:ext cx="1309680" cy="1235160"/>
          </a:xfrm>
          <a:custGeom>
            <a:avLst/>
            <a:gdLst/>
            <a:ahLst/>
            <a:rect l="l" t="t" r="r" b="b"/>
            <a:pathLst>
              <a:path w="3841" h="3861">
                <a:moveTo>
                  <a:pt x="2021" y="3639"/>
                </a:moveTo>
                <a:cubicBezTo>
                  <a:pt x="1770" y="3639"/>
                  <a:pt x="1531" y="3588"/>
                  <a:pt x="1313" y="3496"/>
                </a:cubicBezTo>
                <a:cubicBezTo>
                  <a:pt x="830" y="3861"/>
                  <a:pt x="0" y="3855"/>
                  <a:pt x="0" y="3855"/>
                </a:cubicBezTo>
                <a:cubicBezTo>
                  <a:pt x="0" y="3855"/>
                  <a:pt x="417" y="3566"/>
                  <a:pt x="605" y="2961"/>
                </a:cubicBezTo>
                <a:cubicBezTo>
                  <a:pt x="352" y="2648"/>
                  <a:pt x="201" y="2252"/>
                  <a:pt x="201" y="1819"/>
                </a:cubicBezTo>
                <a:cubicBezTo>
                  <a:pt x="201" y="814"/>
                  <a:pt x="1016" y="0"/>
                  <a:pt x="2021" y="0"/>
                </a:cubicBezTo>
                <a:cubicBezTo>
                  <a:pt x="3026" y="0"/>
                  <a:pt x="3841" y="814"/>
                  <a:pt x="3841" y="1819"/>
                </a:cubicBezTo>
                <a:cubicBezTo>
                  <a:pt x="3841" y="2824"/>
                  <a:pt x="3026" y="3639"/>
                  <a:pt x="2021" y="3639"/>
                </a:cubicBezTo>
                <a:close/>
                <a:moveTo>
                  <a:pt x="1463" y="2671"/>
                </a:moveTo>
                <a:cubicBezTo>
                  <a:pt x="1463" y="2826"/>
                  <a:pt x="1568" y="2941"/>
                  <a:pt x="1723" y="2941"/>
                </a:cubicBezTo>
                <a:cubicBezTo>
                  <a:pt x="1917" y="2941"/>
                  <a:pt x="2052" y="2806"/>
                  <a:pt x="2052" y="2619"/>
                </a:cubicBezTo>
                <a:cubicBezTo>
                  <a:pt x="2052" y="2457"/>
                  <a:pt x="1940" y="2342"/>
                  <a:pt x="1782" y="2342"/>
                </a:cubicBezTo>
                <a:cubicBezTo>
                  <a:pt x="1595" y="2342"/>
                  <a:pt x="1463" y="2497"/>
                  <a:pt x="1463" y="2671"/>
                </a:cubicBezTo>
                <a:close/>
                <a:moveTo>
                  <a:pt x="2121" y="647"/>
                </a:moveTo>
                <a:cubicBezTo>
                  <a:pt x="1874" y="647"/>
                  <a:pt x="1687" y="716"/>
                  <a:pt x="1565" y="789"/>
                </a:cubicBezTo>
                <a:cubicBezTo>
                  <a:pt x="1627" y="1121"/>
                  <a:pt x="1627" y="1121"/>
                  <a:pt x="1627" y="1121"/>
                </a:cubicBezTo>
                <a:cubicBezTo>
                  <a:pt x="1720" y="1065"/>
                  <a:pt x="1838" y="1029"/>
                  <a:pt x="1986" y="1029"/>
                </a:cubicBezTo>
                <a:cubicBezTo>
                  <a:pt x="2134" y="1032"/>
                  <a:pt x="2177" y="1101"/>
                  <a:pt x="2177" y="1187"/>
                </a:cubicBezTo>
                <a:cubicBezTo>
                  <a:pt x="2177" y="1302"/>
                  <a:pt x="2042" y="1414"/>
                  <a:pt x="1914" y="1552"/>
                </a:cubicBezTo>
                <a:cubicBezTo>
                  <a:pt x="1729" y="1747"/>
                  <a:pt x="1641" y="1921"/>
                  <a:pt x="1614" y="2099"/>
                </a:cubicBezTo>
                <a:cubicBezTo>
                  <a:pt x="1611" y="2125"/>
                  <a:pt x="1608" y="2155"/>
                  <a:pt x="1604" y="2184"/>
                </a:cubicBezTo>
                <a:cubicBezTo>
                  <a:pt x="2065" y="2184"/>
                  <a:pt x="2065" y="2184"/>
                  <a:pt x="2065" y="2184"/>
                </a:cubicBezTo>
                <a:cubicBezTo>
                  <a:pt x="2072" y="2155"/>
                  <a:pt x="2075" y="2128"/>
                  <a:pt x="2081" y="2105"/>
                </a:cubicBezTo>
                <a:cubicBezTo>
                  <a:pt x="2111" y="1957"/>
                  <a:pt x="2177" y="1845"/>
                  <a:pt x="2305" y="1717"/>
                </a:cubicBezTo>
                <a:cubicBezTo>
                  <a:pt x="2490" y="1526"/>
                  <a:pt x="2664" y="1358"/>
                  <a:pt x="2664" y="1095"/>
                </a:cubicBezTo>
                <a:cubicBezTo>
                  <a:pt x="2664" y="825"/>
                  <a:pt x="2437" y="647"/>
                  <a:pt x="2121" y="647"/>
                </a:cubicBezTo>
                <a:close/>
              </a:path>
            </a:pathLst>
          </a:custGeom>
          <a:solidFill>
            <a:srgbClr val="5b9b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36" name="文本框 3"/>
          <p:cNvSpPr/>
          <p:nvPr/>
        </p:nvSpPr>
        <p:spPr>
          <a:xfrm>
            <a:off x="2697120" y="3878280"/>
            <a:ext cx="86709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ɒ/ is usually read in the following letters or combined letters: </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等线"/>
              </a:rPr>
              <a:t>o a ou au</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 </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等线"/>
            </a:endParaRPr>
          </a:p>
        </p:txBody>
      </p:sp>
      <p:sp>
        <p:nvSpPr>
          <p:cNvPr id="237" name=" 162"/>
          <p:cNvSpPr/>
          <p:nvPr/>
        </p:nvSpPr>
        <p:spPr>
          <a:xfrm>
            <a:off x="587520" y="3878280"/>
            <a:ext cx="1798560" cy="808200"/>
          </a:xfrm>
          <a:custGeom>
            <a:avLst/>
            <a:gdLst/>
            <a:ahLst/>
            <a:rect l="l" t="t" r="r" b="b"/>
            <a:pathLst>
              <a:path w="494328" h="324036">
                <a:moveTo>
                  <a:pt x="277525" y="292250"/>
                </a:moveTo>
                <a:lnTo>
                  <a:pt x="309311" y="292250"/>
                </a:lnTo>
                <a:lnTo>
                  <a:pt x="309311" y="324036"/>
                </a:lnTo>
                <a:lnTo>
                  <a:pt x="277525" y="324036"/>
                </a:lnTo>
                <a:close/>
                <a:moveTo>
                  <a:pt x="323779" y="243541"/>
                </a:moveTo>
                <a:lnTo>
                  <a:pt x="355565" y="243541"/>
                </a:lnTo>
                <a:lnTo>
                  <a:pt x="355565" y="275328"/>
                </a:lnTo>
                <a:lnTo>
                  <a:pt x="323779" y="275328"/>
                </a:lnTo>
                <a:close/>
                <a:moveTo>
                  <a:pt x="277525" y="243541"/>
                </a:moveTo>
                <a:lnTo>
                  <a:pt x="309311" y="243541"/>
                </a:lnTo>
                <a:lnTo>
                  <a:pt x="309311" y="275328"/>
                </a:lnTo>
                <a:lnTo>
                  <a:pt x="277525" y="275328"/>
                </a:lnTo>
                <a:close/>
                <a:moveTo>
                  <a:pt x="370033" y="194833"/>
                </a:moveTo>
                <a:lnTo>
                  <a:pt x="401820" y="194833"/>
                </a:lnTo>
                <a:lnTo>
                  <a:pt x="401820" y="226620"/>
                </a:lnTo>
                <a:lnTo>
                  <a:pt x="370033" y="226620"/>
                </a:lnTo>
                <a:close/>
                <a:moveTo>
                  <a:pt x="323779" y="194833"/>
                </a:moveTo>
                <a:lnTo>
                  <a:pt x="355565" y="194833"/>
                </a:lnTo>
                <a:lnTo>
                  <a:pt x="355565" y="226620"/>
                </a:lnTo>
                <a:lnTo>
                  <a:pt x="323779" y="226620"/>
                </a:lnTo>
                <a:close/>
                <a:moveTo>
                  <a:pt x="277525" y="194833"/>
                </a:moveTo>
                <a:lnTo>
                  <a:pt x="309311" y="194833"/>
                </a:lnTo>
                <a:lnTo>
                  <a:pt x="309311" y="226620"/>
                </a:lnTo>
                <a:lnTo>
                  <a:pt x="277525" y="226620"/>
                </a:lnTo>
                <a:close/>
                <a:moveTo>
                  <a:pt x="231271" y="194833"/>
                </a:moveTo>
                <a:lnTo>
                  <a:pt x="263057" y="194833"/>
                </a:lnTo>
                <a:lnTo>
                  <a:pt x="263057" y="226620"/>
                </a:lnTo>
                <a:lnTo>
                  <a:pt x="231271" y="226620"/>
                </a:lnTo>
                <a:close/>
                <a:moveTo>
                  <a:pt x="185016" y="194833"/>
                </a:moveTo>
                <a:lnTo>
                  <a:pt x="216803" y="194833"/>
                </a:lnTo>
                <a:lnTo>
                  <a:pt x="216803" y="226620"/>
                </a:lnTo>
                <a:lnTo>
                  <a:pt x="185016" y="226620"/>
                </a:lnTo>
                <a:close/>
                <a:moveTo>
                  <a:pt x="138762" y="194833"/>
                </a:moveTo>
                <a:lnTo>
                  <a:pt x="170549" y="194833"/>
                </a:lnTo>
                <a:lnTo>
                  <a:pt x="170549" y="226620"/>
                </a:lnTo>
                <a:lnTo>
                  <a:pt x="138762" y="226620"/>
                </a:lnTo>
                <a:close/>
                <a:moveTo>
                  <a:pt x="92508" y="194833"/>
                </a:moveTo>
                <a:lnTo>
                  <a:pt x="124294" y="194833"/>
                </a:lnTo>
                <a:lnTo>
                  <a:pt x="124294" y="226620"/>
                </a:lnTo>
                <a:lnTo>
                  <a:pt x="92508" y="226620"/>
                </a:lnTo>
                <a:close/>
                <a:moveTo>
                  <a:pt x="46254" y="194833"/>
                </a:moveTo>
                <a:lnTo>
                  <a:pt x="78040" y="194833"/>
                </a:lnTo>
                <a:lnTo>
                  <a:pt x="78040" y="226620"/>
                </a:lnTo>
                <a:lnTo>
                  <a:pt x="46254" y="226620"/>
                </a:lnTo>
                <a:close/>
                <a:moveTo>
                  <a:pt x="0" y="194833"/>
                </a:moveTo>
                <a:lnTo>
                  <a:pt x="31787" y="194833"/>
                </a:lnTo>
                <a:lnTo>
                  <a:pt x="31787" y="226620"/>
                </a:lnTo>
                <a:lnTo>
                  <a:pt x="0" y="226620"/>
                </a:lnTo>
                <a:close/>
                <a:moveTo>
                  <a:pt x="416287" y="170479"/>
                </a:moveTo>
                <a:lnTo>
                  <a:pt x="448074" y="170479"/>
                </a:lnTo>
                <a:lnTo>
                  <a:pt x="448074" y="202266"/>
                </a:lnTo>
                <a:lnTo>
                  <a:pt x="416287" y="202266"/>
                </a:lnTo>
                <a:close/>
                <a:moveTo>
                  <a:pt x="462542" y="146125"/>
                </a:moveTo>
                <a:lnTo>
                  <a:pt x="494328" y="146125"/>
                </a:lnTo>
                <a:lnTo>
                  <a:pt x="494328" y="177911"/>
                </a:lnTo>
                <a:lnTo>
                  <a:pt x="462542" y="177911"/>
                </a:lnTo>
                <a:close/>
                <a:moveTo>
                  <a:pt x="370033" y="146125"/>
                </a:moveTo>
                <a:lnTo>
                  <a:pt x="401820" y="146125"/>
                </a:lnTo>
                <a:lnTo>
                  <a:pt x="401820" y="177911"/>
                </a:lnTo>
                <a:lnTo>
                  <a:pt x="370033" y="177911"/>
                </a:lnTo>
                <a:close/>
                <a:moveTo>
                  <a:pt x="323779" y="146125"/>
                </a:moveTo>
                <a:lnTo>
                  <a:pt x="355565" y="146125"/>
                </a:lnTo>
                <a:lnTo>
                  <a:pt x="355565" y="177911"/>
                </a:lnTo>
                <a:lnTo>
                  <a:pt x="323779" y="177911"/>
                </a:lnTo>
                <a:close/>
                <a:moveTo>
                  <a:pt x="277525" y="146125"/>
                </a:moveTo>
                <a:lnTo>
                  <a:pt x="309311" y="146125"/>
                </a:lnTo>
                <a:lnTo>
                  <a:pt x="309311" y="177911"/>
                </a:lnTo>
                <a:lnTo>
                  <a:pt x="277525" y="177911"/>
                </a:lnTo>
                <a:close/>
                <a:moveTo>
                  <a:pt x="231271" y="146125"/>
                </a:moveTo>
                <a:lnTo>
                  <a:pt x="263057" y="146125"/>
                </a:lnTo>
                <a:lnTo>
                  <a:pt x="263057" y="177911"/>
                </a:lnTo>
                <a:lnTo>
                  <a:pt x="231271" y="177911"/>
                </a:lnTo>
                <a:close/>
                <a:moveTo>
                  <a:pt x="185016" y="146125"/>
                </a:moveTo>
                <a:lnTo>
                  <a:pt x="216803" y="146125"/>
                </a:lnTo>
                <a:lnTo>
                  <a:pt x="216803" y="177911"/>
                </a:lnTo>
                <a:lnTo>
                  <a:pt x="185016" y="177911"/>
                </a:lnTo>
                <a:close/>
                <a:moveTo>
                  <a:pt x="138762" y="146125"/>
                </a:moveTo>
                <a:lnTo>
                  <a:pt x="170549" y="146125"/>
                </a:lnTo>
                <a:lnTo>
                  <a:pt x="170549" y="177911"/>
                </a:lnTo>
                <a:lnTo>
                  <a:pt x="138762" y="177911"/>
                </a:lnTo>
                <a:close/>
                <a:moveTo>
                  <a:pt x="92508" y="146125"/>
                </a:moveTo>
                <a:lnTo>
                  <a:pt x="124294" y="146125"/>
                </a:lnTo>
                <a:lnTo>
                  <a:pt x="124294" y="177911"/>
                </a:lnTo>
                <a:lnTo>
                  <a:pt x="92508" y="177911"/>
                </a:lnTo>
                <a:close/>
                <a:moveTo>
                  <a:pt x="46254" y="146125"/>
                </a:moveTo>
                <a:lnTo>
                  <a:pt x="78040" y="146125"/>
                </a:lnTo>
                <a:lnTo>
                  <a:pt x="78040" y="177911"/>
                </a:lnTo>
                <a:lnTo>
                  <a:pt x="46254" y="177911"/>
                </a:lnTo>
                <a:close/>
                <a:moveTo>
                  <a:pt x="0" y="146125"/>
                </a:moveTo>
                <a:lnTo>
                  <a:pt x="31787" y="146125"/>
                </a:lnTo>
                <a:lnTo>
                  <a:pt x="31787" y="177911"/>
                </a:lnTo>
                <a:lnTo>
                  <a:pt x="0" y="177911"/>
                </a:lnTo>
                <a:close/>
                <a:moveTo>
                  <a:pt x="416287" y="121771"/>
                </a:moveTo>
                <a:lnTo>
                  <a:pt x="448074" y="121771"/>
                </a:lnTo>
                <a:lnTo>
                  <a:pt x="448074" y="153557"/>
                </a:lnTo>
                <a:lnTo>
                  <a:pt x="416287" y="153557"/>
                </a:lnTo>
                <a:close/>
                <a:moveTo>
                  <a:pt x="370033" y="97417"/>
                </a:moveTo>
                <a:lnTo>
                  <a:pt x="401820" y="97417"/>
                </a:lnTo>
                <a:lnTo>
                  <a:pt x="401820" y="129203"/>
                </a:lnTo>
                <a:lnTo>
                  <a:pt x="370033" y="129203"/>
                </a:lnTo>
                <a:close/>
                <a:moveTo>
                  <a:pt x="323779" y="97417"/>
                </a:moveTo>
                <a:lnTo>
                  <a:pt x="355565" y="97417"/>
                </a:lnTo>
                <a:lnTo>
                  <a:pt x="355565" y="129203"/>
                </a:lnTo>
                <a:lnTo>
                  <a:pt x="323779" y="129203"/>
                </a:lnTo>
                <a:close/>
                <a:moveTo>
                  <a:pt x="277525" y="97417"/>
                </a:moveTo>
                <a:lnTo>
                  <a:pt x="309311" y="97417"/>
                </a:lnTo>
                <a:lnTo>
                  <a:pt x="309311" y="129203"/>
                </a:lnTo>
                <a:lnTo>
                  <a:pt x="277525" y="129203"/>
                </a:lnTo>
                <a:close/>
                <a:moveTo>
                  <a:pt x="231271" y="97417"/>
                </a:moveTo>
                <a:lnTo>
                  <a:pt x="263057" y="97417"/>
                </a:lnTo>
                <a:lnTo>
                  <a:pt x="263057" y="129203"/>
                </a:lnTo>
                <a:lnTo>
                  <a:pt x="231271" y="129203"/>
                </a:lnTo>
                <a:close/>
                <a:moveTo>
                  <a:pt x="185016" y="97417"/>
                </a:moveTo>
                <a:lnTo>
                  <a:pt x="216803" y="97417"/>
                </a:lnTo>
                <a:lnTo>
                  <a:pt x="216803" y="129203"/>
                </a:lnTo>
                <a:lnTo>
                  <a:pt x="185016" y="129203"/>
                </a:lnTo>
                <a:close/>
                <a:moveTo>
                  <a:pt x="138762" y="97417"/>
                </a:moveTo>
                <a:lnTo>
                  <a:pt x="170549" y="97417"/>
                </a:lnTo>
                <a:lnTo>
                  <a:pt x="170549" y="129203"/>
                </a:lnTo>
                <a:lnTo>
                  <a:pt x="138762" y="129203"/>
                </a:lnTo>
                <a:close/>
                <a:moveTo>
                  <a:pt x="92508" y="97417"/>
                </a:moveTo>
                <a:lnTo>
                  <a:pt x="124294" y="97417"/>
                </a:lnTo>
                <a:lnTo>
                  <a:pt x="124294" y="129203"/>
                </a:lnTo>
                <a:lnTo>
                  <a:pt x="92508" y="129203"/>
                </a:lnTo>
                <a:close/>
                <a:moveTo>
                  <a:pt x="46254" y="97417"/>
                </a:moveTo>
                <a:lnTo>
                  <a:pt x="78040" y="97417"/>
                </a:lnTo>
                <a:lnTo>
                  <a:pt x="78040" y="129203"/>
                </a:lnTo>
                <a:lnTo>
                  <a:pt x="46254" y="129203"/>
                </a:lnTo>
                <a:close/>
                <a:moveTo>
                  <a:pt x="0" y="97417"/>
                </a:moveTo>
                <a:lnTo>
                  <a:pt x="31787" y="97417"/>
                </a:lnTo>
                <a:lnTo>
                  <a:pt x="31787" y="129203"/>
                </a:lnTo>
                <a:lnTo>
                  <a:pt x="0" y="129203"/>
                </a:lnTo>
                <a:close/>
                <a:moveTo>
                  <a:pt x="323779" y="48708"/>
                </a:moveTo>
                <a:lnTo>
                  <a:pt x="355565" y="48708"/>
                </a:lnTo>
                <a:lnTo>
                  <a:pt x="355565" y="80495"/>
                </a:lnTo>
                <a:lnTo>
                  <a:pt x="323779" y="80495"/>
                </a:lnTo>
                <a:close/>
                <a:moveTo>
                  <a:pt x="277525" y="48708"/>
                </a:moveTo>
                <a:lnTo>
                  <a:pt x="309311" y="48708"/>
                </a:lnTo>
                <a:lnTo>
                  <a:pt x="309311" y="80495"/>
                </a:lnTo>
                <a:lnTo>
                  <a:pt x="277525" y="80495"/>
                </a:lnTo>
                <a:close/>
                <a:moveTo>
                  <a:pt x="277525" y="0"/>
                </a:moveTo>
                <a:lnTo>
                  <a:pt x="309311" y="0"/>
                </a:lnTo>
                <a:lnTo>
                  <a:pt x="309311" y="31787"/>
                </a:lnTo>
                <a:lnTo>
                  <a:pt x="277525" y="31787"/>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38" name="文本框 4"/>
          <p:cNvSpPr/>
          <p:nvPr/>
        </p:nvSpPr>
        <p:spPr>
          <a:xfrm>
            <a:off x="425520" y="5532480"/>
            <a:ext cx="963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等线"/>
              </a:rPr>
              <a:t>How to pronounce the following words?</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等线"/>
              </a:rPr>
              <a:t>comrade     wonder     cobbler     yacht     laurel     lorry</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等线"/>
            </a:endParaRPr>
          </a:p>
        </p:txBody>
      </p:sp>
    </p:spTree>
  </p:cSld>
  <p:transition>
    <p:push dir="u"/>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dur="indefinite" nodeType="clickEffect" fill="hold" presetClass="entr" presetID="2" presetSubtype="4">
                                  <p:stCondLst>
                                    <p:cond delay="0"/>
                                  </p:stCondLst>
                                  <p:childTnLst>
                                    <p:set>
                                      <p:cBhvr>
                                        <p:cTn id="402" dur="1" fill="hold">
                                          <p:stCondLst>
                                            <p:cond delay="0"/>
                                          </p:stCondLst>
                                        </p:cTn>
                                        <p:tgtEl>
                                          <p:spTgt spid="231">
                                            <p:txEl>
                                              <p:pRg st="0" end="0"/>
                                            </p:txEl>
                                          </p:spTgt>
                                        </p:tgtEl>
                                        <p:attrNameLst>
                                          <p:attrName>style.visibility</p:attrName>
                                        </p:attrNameLst>
                                      </p:cBhvr>
                                      <p:to>
                                        <p:strVal val="visible"/>
                                      </p:to>
                                    </p:set>
                                    <p:anim calcmode="lin" valueType="num">
                                      <p:cBhvr additive="repl">
                                        <p:cTn id="403"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404" dur="500" fill="hold"/>
                                        <p:tgtEl>
                                          <p:spTgt spid="231">
                                            <p:txEl>
                                              <p:pRg st="0" end="0"/>
                                            </p:txEl>
                                          </p:spTgt>
                                        </p:tgtEl>
                                        <p:attrNameLst>
                                          <p:attrName>ppt_y</p:attrName>
                                        </p:attrNameLst>
                                      </p:cBhvr>
                                      <p:tavLst>
                                        <p:tav tm="0">
                                          <p:val>
                                            <p:strVal val="1+#ppt_h/2"/>
                                          </p:val>
                                        </p:tav>
                                        <p:tav tm="100000">
                                          <p:val>
                                            <p:strVal val="#ppt_y"/>
                                          </p:val>
                                        </p:tav>
                                      </p:tavLst>
                                    </p:anim>
                                  </p:childTnLst>
                                </p:cTn>
                              </p:par>
                              <p:par>
                                <p:cTn id="405" dur="indefinite" nodeType="withEffect" fill="hold" presetClass="entr" presetID="2" presetSubtype="4">
                                  <p:stCondLst>
                                    <p:cond delay="0"/>
                                  </p:stCondLst>
                                  <p:childTnLst>
                                    <p:set>
                                      <p:cBhvr>
                                        <p:cTn id="406" dur="1" fill="hold">
                                          <p:stCondLst>
                                            <p:cond delay="0"/>
                                          </p:stCondLst>
                                        </p:cTn>
                                        <p:tgtEl>
                                          <p:spTgt spid="231">
                                            <p:txEl>
                                              <p:pRg st="1" end="1"/>
                                            </p:txEl>
                                          </p:spTgt>
                                        </p:tgtEl>
                                        <p:attrNameLst>
                                          <p:attrName>style.visibility</p:attrName>
                                        </p:attrNameLst>
                                      </p:cBhvr>
                                      <p:to>
                                        <p:strVal val="visible"/>
                                      </p:to>
                                    </p:set>
                                    <p:anim calcmode="lin" valueType="num">
                                      <p:cBhvr additive="repl">
                                        <p:cTn id="407"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repl">
                                        <p:cTn id="408" dur="500" fill="hold"/>
                                        <p:tgtEl>
                                          <p:spTgt spid="231">
                                            <p:txEl>
                                              <p:pRg st="1" end="1"/>
                                            </p:txEl>
                                          </p:spTgt>
                                        </p:tgtEl>
                                        <p:attrNameLst>
                                          <p:attrName>ppt_y</p:attrName>
                                        </p:attrNameLst>
                                      </p:cBhvr>
                                      <p:tavLst>
                                        <p:tav tm="0">
                                          <p:val>
                                            <p:strVal val="1+#ppt_h/2"/>
                                          </p:val>
                                        </p:tav>
                                        <p:tav tm="100000">
                                          <p:val>
                                            <p:strVal val="#ppt_y"/>
                                          </p:val>
                                        </p:tav>
                                      </p:tavLst>
                                    </p:anim>
                                  </p:childTnLst>
                                </p:cTn>
                              </p:par>
                              <p:par>
                                <p:cTn id="409" dur="indefinite" nodeType="withEffect" fill="hold" presetClass="entr" presetID="2" presetSubtype="4">
                                  <p:stCondLst>
                                    <p:cond delay="0"/>
                                  </p:stCondLst>
                                  <p:childTnLst>
                                    <p:set>
                                      <p:cBhvr>
                                        <p:cTn id="410" dur="1" fill="hold">
                                          <p:stCondLst>
                                            <p:cond delay="0"/>
                                          </p:stCondLst>
                                        </p:cTn>
                                        <p:tgtEl>
                                          <p:spTgt spid="231">
                                            <p:txEl>
                                              <p:pRg st="2" end="2"/>
                                            </p:txEl>
                                          </p:spTgt>
                                        </p:tgtEl>
                                        <p:attrNameLst>
                                          <p:attrName>style.visibility</p:attrName>
                                        </p:attrNameLst>
                                      </p:cBhvr>
                                      <p:to>
                                        <p:strVal val="visible"/>
                                      </p:to>
                                    </p:set>
                                    <p:anim calcmode="lin" valueType="num">
                                      <p:cBhvr additive="repl">
                                        <p:cTn id="411"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231">
                                            <p:txEl>
                                              <p:pRg st="2" end="2"/>
                                            </p:txEl>
                                          </p:spTgt>
                                        </p:tgtEl>
                                        <p:attrNameLst>
                                          <p:attrName>ppt_y</p:attrName>
                                        </p:attrNameLst>
                                      </p:cBhvr>
                                      <p:tavLst>
                                        <p:tav tm="0">
                                          <p:val>
                                            <p:strVal val="1+#ppt_h/2"/>
                                          </p:val>
                                        </p:tav>
                                        <p:tav tm="100000">
                                          <p:val>
                                            <p:strVal val="#ppt_y"/>
                                          </p:val>
                                        </p:tav>
                                      </p:tavLst>
                                    </p:anim>
                                  </p:childTnLst>
                                </p:cTn>
                              </p:par>
                              <p:par>
                                <p:cTn id="413" dur="indefinite" nodeType="withEffect" fill="hold" presetClass="entr" presetID="2" presetSubtype="4">
                                  <p:stCondLst>
                                    <p:cond delay="0"/>
                                  </p:stCondLst>
                                  <p:childTnLst>
                                    <p:set>
                                      <p:cBhvr>
                                        <p:cTn id="414" dur="1" fill="hold">
                                          <p:stCondLst>
                                            <p:cond delay="0"/>
                                          </p:stCondLst>
                                        </p:cTn>
                                        <p:tgtEl>
                                          <p:spTgt spid="231">
                                            <p:txEl>
                                              <p:pRg st="3" end="3"/>
                                            </p:txEl>
                                          </p:spTgt>
                                        </p:tgtEl>
                                        <p:attrNameLst>
                                          <p:attrName>style.visibility</p:attrName>
                                        </p:attrNameLst>
                                      </p:cBhvr>
                                      <p:to>
                                        <p:strVal val="visible"/>
                                      </p:to>
                                    </p:set>
                                    <p:anim calcmode="lin" valueType="num">
                                      <p:cBhvr additive="repl">
                                        <p:cTn id="415" dur="5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repl">
                                        <p:cTn id="416" dur="500" fill="hold"/>
                                        <p:tgtEl>
                                          <p:spTgt spid="2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2" presetSubtype="4">
                                  <p:stCondLst>
                                    <p:cond delay="0"/>
                                  </p:stCondLst>
                                  <p:childTnLst>
                                    <p:set>
                                      <p:cBhvr>
                                        <p:cTn id="420" dur="1" fill="hold">
                                          <p:stCondLst>
                                            <p:cond delay="0"/>
                                          </p:stCondLst>
                                        </p:cTn>
                                        <p:tgtEl>
                                          <p:spTgt spid="235"/>
                                        </p:tgtEl>
                                        <p:attrNameLst>
                                          <p:attrName>style.visibility</p:attrName>
                                        </p:attrNameLst>
                                      </p:cBhvr>
                                      <p:to>
                                        <p:strVal val="visible"/>
                                      </p:to>
                                    </p:set>
                                    <p:anim calcmode="lin" valueType="num">
                                      <p:cBhvr additive="repl">
                                        <p:cTn id="421" dur="500" fill="hold"/>
                                        <p:tgtEl>
                                          <p:spTgt spid="235"/>
                                        </p:tgtEl>
                                        <p:attrNameLst>
                                          <p:attrName>ppt_x</p:attrName>
                                        </p:attrNameLst>
                                      </p:cBhvr>
                                      <p:tavLst>
                                        <p:tav tm="0">
                                          <p:val>
                                            <p:strVal val="#ppt_x"/>
                                          </p:val>
                                        </p:tav>
                                        <p:tav tm="100000">
                                          <p:val>
                                            <p:strVal val="#ppt_x"/>
                                          </p:val>
                                        </p:tav>
                                      </p:tavLst>
                                    </p:anim>
                                    <p:anim calcmode="lin" valueType="num">
                                      <p:cBhvr additive="repl">
                                        <p:cTn id="42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2" presetSubtype="4">
                                  <p:stCondLst>
                                    <p:cond delay="0"/>
                                  </p:stCondLst>
                                  <p:childTnLst>
                                    <p:set>
                                      <p:cBhvr>
                                        <p:cTn id="426" dur="1" fill="hold">
                                          <p:stCondLst>
                                            <p:cond delay="0"/>
                                          </p:stCondLst>
                                        </p:cTn>
                                        <p:tgtEl>
                                          <p:spTgt spid="237"/>
                                        </p:tgtEl>
                                        <p:attrNameLst>
                                          <p:attrName>style.visibility</p:attrName>
                                        </p:attrNameLst>
                                      </p:cBhvr>
                                      <p:to>
                                        <p:strVal val="visible"/>
                                      </p:to>
                                    </p:set>
                                    <p:anim calcmode="lin" valueType="num">
                                      <p:cBhvr additive="repl">
                                        <p:cTn id="427" dur="500" fill="hold"/>
                                        <p:tgtEl>
                                          <p:spTgt spid="237"/>
                                        </p:tgtEl>
                                        <p:attrNameLst>
                                          <p:attrName>ppt_x</p:attrName>
                                        </p:attrNameLst>
                                      </p:cBhvr>
                                      <p:tavLst>
                                        <p:tav tm="0">
                                          <p:val>
                                            <p:strVal val="#ppt_x"/>
                                          </p:val>
                                        </p:tav>
                                        <p:tav tm="100000">
                                          <p:val>
                                            <p:strVal val="#ppt_x"/>
                                          </p:val>
                                        </p:tav>
                                      </p:tavLst>
                                    </p:anim>
                                    <p:anim calcmode="lin" valueType="num">
                                      <p:cBhvr additive="repl">
                                        <p:cTn id="428"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 presetSubtype="4">
                                  <p:stCondLst>
                                    <p:cond delay="0"/>
                                  </p:stCondLst>
                                  <p:childTnLst>
                                    <p:set>
                                      <p:cBhvr>
                                        <p:cTn id="432" dur="1" fill="hold">
                                          <p:stCondLst>
                                            <p:cond delay="0"/>
                                          </p:stCondLst>
                                        </p:cTn>
                                        <p:tgtEl>
                                          <p:spTgt spid="236">
                                            <p:txEl>
                                              <p:pRg st="0" end="0"/>
                                            </p:txEl>
                                          </p:spTgt>
                                        </p:tgtEl>
                                        <p:attrNameLst>
                                          <p:attrName>style.visibility</p:attrName>
                                        </p:attrNameLst>
                                      </p:cBhvr>
                                      <p:to>
                                        <p:strVal val="visible"/>
                                      </p:to>
                                    </p:set>
                                    <p:anim calcmode="lin" valueType="num">
                                      <p:cBhvr additive="repl">
                                        <p:cTn id="433"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434" dur="500" fill="hold"/>
                                        <p:tgtEl>
                                          <p:spTgt spid="236">
                                            <p:txEl>
                                              <p:pRg st="0" end="0"/>
                                            </p:txEl>
                                          </p:spTgt>
                                        </p:tgtEl>
                                        <p:attrNameLst>
                                          <p:attrName>ppt_y</p:attrName>
                                        </p:attrNameLst>
                                      </p:cBhvr>
                                      <p:tavLst>
                                        <p:tav tm="0">
                                          <p:val>
                                            <p:strVal val="1+#ppt_h/2"/>
                                          </p:val>
                                        </p:tav>
                                        <p:tav tm="100000">
                                          <p:val>
                                            <p:strVal val="#ppt_y"/>
                                          </p:val>
                                        </p:tav>
                                      </p:tavLst>
                                    </p:anim>
                                  </p:childTnLst>
                                </p:cTn>
                              </p:par>
                              <p:par>
                                <p:cTn id="435" dur="indefinite" nodeType="withEffect" fill="hold" presetClass="entr" presetID="2" presetSubtype="4">
                                  <p:stCondLst>
                                    <p:cond delay="0"/>
                                  </p:stCondLst>
                                  <p:childTnLst>
                                    <p:set>
                                      <p:cBhvr>
                                        <p:cTn id="436" dur="1" fill="hold">
                                          <p:stCondLst>
                                            <p:cond delay="0"/>
                                          </p:stCondLst>
                                        </p:cTn>
                                        <p:tgtEl>
                                          <p:spTgt spid="236">
                                            <p:txEl>
                                              <p:pRg st="1" end="1"/>
                                            </p:txEl>
                                          </p:spTgt>
                                        </p:tgtEl>
                                        <p:attrNameLst>
                                          <p:attrName>style.visibility</p:attrName>
                                        </p:attrNameLst>
                                      </p:cBhvr>
                                      <p:to>
                                        <p:strVal val="visible"/>
                                      </p:to>
                                    </p:set>
                                    <p:anim calcmode="lin" valueType="num">
                                      <p:cBhvr additive="repl">
                                        <p:cTn id="437"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2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2" presetSubtype="4">
                                  <p:stCondLst>
                                    <p:cond delay="0"/>
                                  </p:stCondLst>
                                  <p:childTnLst>
                                    <p:set>
                                      <p:cBhvr>
                                        <p:cTn id="442" dur="1" fill="hold">
                                          <p:stCondLst>
                                            <p:cond delay="0"/>
                                          </p:stCondLst>
                                        </p:cTn>
                                        <p:tgtEl>
                                          <p:spTgt spid="238">
                                            <p:txEl>
                                              <p:pRg st="0" end="0"/>
                                            </p:txEl>
                                          </p:spTgt>
                                        </p:tgtEl>
                                        <p:attrNameLst>
                                          <p:attrName>style.visibility</p:attrName>
                                        </p:attrNameLst>
                                      </p:cBhvr>
                                      <p:to>
                                        <p:strVal val="visible"/>
                                      </p:to>
                                    </p:set>
                                    <p:anim calcmode="lin" valueType="num">
                                      <p:cBhvr additive="repl">
                                        <p:cTn id="443"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444" dur="500" fill="hold"/>
                                        <p:tgtEl>
                                          <p:spTgt spid="238">
                                            <p:txEl>
                                              <p:pRg st="0" end="0"/>
                                            </p:txEl>
                                          </p:spTgt>
                                        </p:tgtEl>
                                        <p:attrNameLst>
                                          <p:attrName>ppt_y</p:attrName>
                                        </p:attrNameLst>
                                      </p:cBhvr>
                                      <p:tavLst>
                                        <p:tav tm="0">
                                          <p:val>
                                            <p:strVal val="1+#ppt_h/2"/>
                                          </p:val>
                                        </p:tav>
                                        <p:tav tm="100000">
                                          <p:val>
                                            <p:strVal val="#ppt_y"/>
                                          </p:val>
                                        </p:tav>
                                      </p:tavLst>
                                    </p:anim>
                                  </p:childTnLst>
                                </p:cTn>
                              </p:par>
                              <p:par>
                                <p:cTn id="445" dur="indefinite" nodeType="withEffect" fill="hold" presetClass="entr" presetID="2" presetSubtype="4">
                                  <p:stCondLst>
                                    <p:cond delay="0"/>
                                  </p:stCondLst>
                                  <p:childTnLst>
                                    <p:set>
                                      <p:cBhvr>
                                        <p:cTn id="446" dur="1" fill="hold">
                                          <p:stCondLst>
                                            <p:cond delay="0"/>
                                          </p:stCondLst>
                                        </p:cTn>
                                        <p:tgtEl>
                                          <p:spTgt spid="238">
                                            <p:txEl>
                                              <p:pRg st="1" end="1"/>
                                            </p:txEl>
                                          </p:spTgt>
                                        </p:tgtEl>
                                        <p:attrNameLst>
                                          <p:attrName>style.visibility</p:attrName>
                                        </p:attrNameLst>
                                      </p:cBhvr>
                                      <p:to>
                                        <p:strVal val="visible"/>
                                      </p:to>
                                    </p:set>
                                    <p:anim calcmode="lin" valueType="num">
                                      <p:cBhvr additive="repl">
                                        <p:cTn id="447"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823680" y="995040"/>
            <a:ext cx="10544040" cy="470196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a:t>
            </a:r>
            <a:r>
              <a:rPr b="0" lang="en-US" sz="2800" spc="-1" strike="noStrike">
                <a:solidFill>
                  <a:srgbClr val="44546a"/>
                </a:solidFill>
                <a:latin typeface="等线"/>
              </a:rPr>
              <a:t>aw</a:t>
            </a:r>
            <a:r>
              <a:rPr b="0" lang="en-US" sz="2800" spc="-1" strike="noStrike">
                <a:solidFill>
                  <a:srgbClr val="000000"/>
                </a:solidFill>
                <a:latin typeface="等线"/>
              </a:rPr>
              <a:t>      j</a:t>
            </a:r>
            <a:r>
              <a:rPr b="0" lang="en-US" sz="2800" spc="-1" strike="noStrike">
                <a:solidFill>
                  <a:srgbClr val="44546a"/>
                </a:solidFill>
                <a:latin typeface="等线"/>
              </a:rPr>
              <a:t>aw</a:t>
            </a:r>
            <a:r>
              <a:rPr b="0" lang="en-US" sz="2800" spc="-1" strike="noStrike">
                <a:solidFill>
                  <a:srgbClr val="000000"/>
                </a:solidFill>
                <a:latin typeface="等线"/>
              </a:rPr>
              <a:t>       l</a:t>
            </a:r>
            <a:r>
              <a:rPr b="0" lang="en-US" sz="2800" spc="-1" strike="noStrike">
                <a:solidFill>
                  <a:srgbClr val="44546a"/>
                </a:solidFill>
                <a:latin typeface="等线"/>
              </a:rPr>
              <a:t>aw</a:t>
            </a:r>
            <a:r>
              <a:rPr b="0" lang="en-US" sz="2800" spc="-1" strike="noStrike">
                <a:solidFill>
                  <a:srgbClr val="000000"/>
                </a:solidFill>
                <a:latin typeface="等线"/>
              </a:rPr>
              <a:t>        y</a:t>
            </a:r>
            <a:r>
              <a:rPr b="0" lang="en-US" sz="2800" spc="-1" strike="noStrike">
                <a:solidFill>
                  <a:srgbClr val="44546a"/>
                </a:solidFill>
                <a:latin typeface="等线"/>
              </a:rPr>
              <a:t>aw</a:t>
            </a:r>
            <a:r>
              <a:rPr b="0" lang="en-US" sz="2800" spc="-1" strike="noStrike">
                <a:solidFill>
                  <a:srgbClr val="000000"/>
                </a:solidFill>
                <a:latin typeface="等线"/>
              </a:rPr>
              <a:t>n        dr</a:t>
            </a:r>
            <a:r>
              <a:rPr b="0" lang="en-US" sz="2800" spc="-1" strike="noStrike">
                <a:solidFill>
                  <a:srgbClr val="44546a"/>
                </a:solidFill>
                <a:latin typeface="等线"/>
              </a:rPr>
              <a:t>aw</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h</a:t>
            </a:r>
            <a:r>
              <a:rPr b="0" lang="en-US" sz="2800" spc="-1" strike="noStrike">
                <a:solidFill>
                  <a:srgbClr val="44546a"/>
                </a:solidFill>
                <a:latin typeface="等线"/>
              </a:rPr>
              <a:t>or</a:t>
            </a:r>
            <a:r>
              <a:rPr b="0" lang="en-US" sz="2800" spc="-1" strike="noStrike">
                <a:solidFill>
                  <a:srgbClr val="000000"/>
                </a:solidFill>
                <a:latin typeface="等线"/>
              </a:rPr>
              <a:t>se   b</a:t>
            </a:r>
            <a:r>
              <a:rPr b="0" lang="en-US" sz="2800" spc="-1" strike="noStrike">
                <a:solidFill>
                  <a:srgbClr val="44546a"/>
                </a:solidFill>
                <a:latin typeface="等线"/>
              </a:rPr>
              <a:t>or</a:t>
            </a:r>
            <a:r>
              <a:rPr b="0" lang="en-US" sz="2800" spc="-1" strike="noStrike">
                <a:solidFill>
                  <a:srgbClr val="000000"/>
                </a:solidFill>
                <a:latin typeface="等线"/>
              </a:rPr>
              <a:t>n     c</a:t>
            </a:r>
            <a:r>
              <a:rPr b="0" lang="en-US" sz="2800" spc="-1" strike="noStrike">
                <a:solidFill>
                  <a:srgbClr val="44546a"/>
                </a:solidFill>
                <a:latin typeface="等线"/>
              </a:rPr>
              <a:t>or</a:t>
            </a:r>
            <a:r>
              <a:rPr b="0" lang="en-US" sz="2800" spc="-1" strike="noStrike">
                <a:solidFill>
                  <a:srgbClr val="000000"/>
                </a:solidFill>
                <a:latin typeface="等线"/>
              </a:rPr>
              <a:t>d      sw</a:t>
            </a:r>
            <a:r>
              <a:rPr b="0" lang="en-US" sz="2800" spc="-1" strike="noStrike">
                <a:solidFill>
                  <a:srgbClr val="44546a"/>
                </a:solidFill>
                <a:latin typeface="等线"/>
              </a:rPr>
              <a:t>or</a:t>
            </a:r>
            <a:r>
              <a:rPr b="0" lang="en-US" sz="2800" spc="-1" strike="noStrike">
                <a:solidFill>
                  <a:srgbClr val="000000"/>
                </a:solidFill>
                <a:latin typeface="等线"/>
              </a:rPr>
              <a:t>d</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a:t>
            </a:r>
            <a:r>
              <a:rPr b="0" lang="en-US" sz="2800" spc="-1" strike="noStrike">
                <a:solidFill>
                  <a:srgbClr val="44546a"/>
                </a:solidFill>
                <a:latin typeface="等线"/>
              </a:rPr>
              <a:t>au</a:t>
            </a:r>
            <a:r>
              <a:rPr b="0" lang="en-US" sz="2800" spc="-1" strike="noStrike">
                <a:solidFill>
                  <a:srgbClr val="000000"/>
                </a:solidFill>
                <a:latin typeface="等线"/>
              </a:rPr>
              <a:t>se   f</a:t>
            </a:r>
            <a:r>
              <a:rPr b="0" lang="en-US" sz="2800" spc="-1" strike="noStrike">
                <a:solidFill>
                  <a:srgbClr val="44546a"/>
                </a:solidFill>
                <a:latin typeface="等线"/>
              </a:rPr>
              <a:t>au</a:t>
            </a:r>
            <a:r>
              <a:rPr b="0" lang="en-US" sz="2800" spc="-1" strike="noStrike">
                <a:solidFill>
                  <a:srgbClr val="000000"/>
                </a:solidFill>
                <a:latin typeface="等线"/>
              </a:rPr>
              <a:t>lt     w</a:t>
            </a:r>
            <a:r>
              <a:rPr b="0" lang="en-US" sz="2800" spc="-1" strike="noStrike">
                <a:solidFill>
                  <a:srgbClr val="44546a"/>
                </a:solidFill>
                <a:latin typeface="等线"/>
              </a:rPr>
              <a:t>ar</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a:t>
            </a:r>
            <a:r>
              <a:rPr b="0" lang="en-US" sz="2800" spc="-1" strike="noStrike">
                <a:solidFill>
                  <a:srgbClr val="44546a"/>
                </a:solidFill>
                <a:latin typeface="等线"/>
              </a:rPr>
              <a:t>al</a:t>
            </a:r>
            <a:r>
              <a:rPr b="0" lang="en-US" sz="2800" spc="-1" strike="noStrike">
                <a:solidFill>
                  <a:srgbClr val="000000"/>
                </a:solidFill>
                <a:latin typeface="等线"/>
              </a:rPr>
              <a:t>l       </a:t>
            </a:r>
            <a:r>
              <a:rPr b="0" lang="en-US" sz="2800" spc="-1" strike="noStrike">
                <a:solidFill>
                  <a:srgbClr val="44546a"/>
                </a:solidFill>
                <a:latin typeface="等线"/>
              </a:rPr>
              <a:t>al</a:t>
            </a:r>
            <a:r>
              <a:rPr b="0" lang="en-US" sz="2800" spc="-1" strike="noStrike">
                <a:solidFill>
                  <a:srgbClr val="000000"/>
                </a:solidFill>
                <a:latin typeface="等线"/>
              </a:rPr>
              <a:t>l         s</a:t>
            </a:r>
            <a:r>
              <a:rPr b="0" lang="en-US" sz="2800" spc="-1" strike="noStrike">
                <a:solidFill>
                  <a:srgbClr val="44546a"/>
                </a:solidFill>
                <a:latin typeface="等线"/>
              </a:rPr>
              <a:t>al</a:t>
            </a:r>
            <a:r>
              <a:rPr b="0" lang="en-US" sz="2800" spc="-1" strike="noStrike">
                <a:solidFill>
                  <a:srgbClr val="000000"/>
                </a:solidFill>
                <a:latin typeface="等线"/>
              </a:rPr>
              <a:t>t      t</a:t>
            </a:r>
            <a:r>
              <a:rPr b="0" lang="en-US" sz="2800" spc="-1" strike="noStrike">
                <a:solidFill>
                  <a:srgbClr val="44546a"/>
                </a:solidFill>
                <a:latin typeface="等线"/>
              </a:rPr>
              <a:t>al</a:t>
            </a:r>
            <a:r>
              <a:rPr b="0" lang="en-US" sz="2800" spc="-1" strike="noStrike">
                <a:solidFill>
                  <a:srgbClr val="000000"/>
                </a:solidFill>
                <a:latin typeface="等线"/>
              </a:rPr>
              <a:t>k</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t</a:t>
            </a:r>
            <a:r>
              <a:rPr b="0" lang="en-US" sz="2800" spc="-1" strike="noStrike">
                <a:solidFill>
                  <a:srgbClr val="44546a"/>
                </a:solidFill>
                <a:latin typeface="等线"/>
              </a:rPr>
              <a:t>ore</a:t>
            </a:r>
            <a:r>
              <a:rPr b="0" lang="en-US" sz="2800" spc="-1" strike="noStrike">
                <a:solidFill>
                  <a:srgbClr val="000000"/>
                </a:solidFill>
                <a:latin typeface="等线"/>
              </a:rPr>
              <a:t>     bef</a:t>
            </a:r>
            <a:r>
              <a:rPr b="0" lang="en-US" sz="2800" spc="-1" strike="noStrike">
                <a:solidFill>
                  <a:srgbClr val="44546a"/>
                </a:solidFill>
                <a:latin typeface="等线"/>
              </a:rPr>
              <a:t>ore</a:t>
            </a:r>
            <a:r>
              <a:rPr b="0" lang="en-US" sz="2800" spc="-1" strike="noStrike">
                <a:solidFill>
                  <a:srgbClr val="000000"/>
                </a:solidFill>
                <a:latin typeface="等线"/>
              </a:rPr>
              <a:t>  m</a:t>
            </a:r>
            <a:r>
              <a:rPr b="0" lang="en-US" sz="2800" spc="-1" strike="noStrike">
                <a:solidFill>
                  <a:srgbClr val="44546a"/>
                </a:solidFill>
                <a:latin typeface="等线"/>
              </a:rPr>
              <a:t>ore</a:t>
            </a:r>
            <a:r>
              <a:rPr b="0" lang="en-US" sz="2800" spc="-1" strike="noStrike">
                <a:solidFill>
                  <a:srgbClr val="000000"/>
                </a:solidFill>
                <a:latin typeface="等线"/>
              </a:rPr>
              <a:t>     b</a:t>
            </a:r>
            <a:r>
              <a:rPr b="0" lang="en-US" sz="2800" spc="-1" strike="noStrike">
                <a:solidFill>
                  <a:srgbClr val="44546a"/>
                </a:solidFill>
                <a:latin typeface="等线"/>
              </a:rPr>
              <a:t>oar</a:t>
            </a:r>
            <a:r>
              <a:rPr b="0" lang="en-US" sz="2800" spc="-1" strike="noStrike">
                <a:solidFill>
                  <a:srgbClr val="000000"/>
                </a:solidFill>
                <a:latin typeface="等线"/>
              </a:rPr>
              <a:t>d      d</a:t>
            </a:r>
            <a:r>
              <a:rPr b="0" lang="en-US" sz="2800" spc="-1" strike="noStrike">
                <a:solidFill>
                  <a:srgbClr val="44546a"/>
                </a:solidFill>
                <a:latin typeface="等线"/>
              </a:rPr>
              <a:t>oor</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a:t>
            </a:r>
            <a:r>
              <a:rPr b="0" lang="en-US" sz="2800" spc="-1" strike="noStrike">
                <a:solidFill>
                  <a:srgbClr val="44546a"/>
                </a:solidFill>
                <a:latin typeface="等线"/>
              </a:rPr>
              <a:t>our </a:t>
            </a:r>
            <a:r>
              <a:rPr b="0" lang="en-US" sz="2800" spc="-1" strike="noStrike">
                <a:solidFill>
                  <a:srgbClr val="000000"/>
                </a:solidFill>
                <a:latin typeface="等线"/>
              </a:rPr>
              <a:t>    f</a:t>
            </a:r>
            <a:r>
              <a:rPr b="0" lang="en-US" sz="2800" spc="-1" strike="noStrike">
                <a:solidFill>
                  <a:srgbClr val="44546a"/>
                </a:solidFill>
                <a:latin typeface="等线"/>
              </a:rPr>
              <a:t>ough</a:t>
            </a:r>
            <a:r>
              <a:rPr b="0" lang="en-US" sz="2800" spc="-1" strike="noStrike">
                <a:solidFill>
                  <a:srgbClr val="000000"/>
                </a:solidFill>
                <a:latin typeface="等线"/>
              </a:rPr>
              <a:t>t  t</a:t>
            </a:r>
            <a:r>
              <a:rPr b="0" lang="en-US" sz="2800" spc="-1" strike="noStrike">
                <a:solidFill>
                  <a:srgbClr val="44546a"/>
                </a:solidFill>
                <a:latin typeface="等线"/>
              </a:rPr>
              <a:t>augh</a:t>
            </a:r>
            <a:r>
              <a:rPr b="0" lang="en-US" sz="2800" spc="-1" strike="noStrike">
                <a:solidFill>
                  <a:srgbClr val="000000"/>
                </a:solidFill>
                <a:latin typeface="等线"/>
              </a:rPr>
              <a:t>t  d</a:t>
            </a:r>
            <a:r>
              <a:rPr b="0" lang="en-US" sz="2800" spc="-1" strike="noStrike">
                <a:solidFill>
                  <a:srgbClr val="44546a"/>
                </a:solidFill>
                <a:latin typeface="等线"/>
              </a:rPr>
              <a:t>augh</a:t>
            </a:r>
            <a:r>
              <a:rPr b="0" lang="en-US" sz="2800" spc="-1" strike="noStrike">
                <a:solidFill>
                  <a:srgbClr val="000000"/>
                </a:solidFill>
                <a:latin typeface="等线"/>
              </a:rPr>
              <a:t>ter</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40" name="矩形 94"/>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41" name="组合 95" descr=""/>
          <p:cNvPicPr/>
          <p:nvPr/>
        </p:nvPicPr>
        <p:blipFill>
          <a:blip r:embed="rId1"/>
          <a:stretch/>
        </p:blipFill>
        <p:spPr>
          <a:xfrm>
            <a:off x="237960" y="206280"/>
            <a:ext cx="578160" cy="576360"/>
          </a:xfrm>
          <a:prstGeom prst="rect">
            <a:avLst/>
          </a:prstGeom>
          <a:ln w="0">
            <a:noFill/>
          </a:ln>
        </p:spPr>
      </p:pic>
      <p:sp>
        <p:nvSpPr>
          <p:cNvPr id="242" name="文本框 25"/>
          <p:cNvSpPr/>
          <p:nvPr/>
        </p:nvSpPr>
        <p:spPr>
          <a:xfrm>
            <a:off x="1183680" y="212760"/>
            <a:ext cx="388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a:t>
            </a:r>
            <a:r>
              <a:rPr b="1" lang="en-US" sz="3200" spc="-1" strike="noStrike">
                <a:solidFill>
                  <a:srgbClr val="3d7351"/>
                </a:solidFill>
                <a:latin typeface="微软雅黑"/>
                <a:ea typeface="微软雅黑"/>
              </a:rPr>
              <a:t>Phonics Time”/ɔ:/</a:t>
            </a:r>
            <a:endParaRPr b="0" lang="en-US" sz="3200" spc="-1" strike="noStrike">
              <a:solidFill>
                <a:srgbClr val="000000"/>
              </a:solidFill>
              <a:latin typeface="等线"/>
            </a:endParaRPr>
          </a:p>
        </p:txBody>
      </p:sp>
      <p:sp>
        <p:nvSpPr>
          <p:cNvPr id="243" name=" 2050"/>
          <p:cNvSpPr/>
          <p:nvPr/>
        </p:nvSpPr>
        <p:spPr>
          <a:xfrm>
            <a:off x="10058400" y="1200240"/>
            <a:ext cx="1309680" cy="1235160"/>
          </a:xfrm>
          <a:custGeom>
            <a:avLst/>
            <a:gdLst/>
            <a:ahLst/>
            <a:rect l="l" t="t" r="r" b="b"/>
            <a:pathLst>
              <a:path w="3841" h="3861">
                <a:moveTo>
                  <a:pt x="2021" y="3639"/>
                </a:moveTo>
                <a:cubicBezTo>
                  <a:pt x="1770" y="3639"/>
                  <a:pt x="1531" y="3588"/>
                  <a:pt x="1313" y="3496"/>
                </a:cubicBezTo>
                <a:cubicBezTo>
                  <a:pt x="830" y="3861"/>
                  <a:pt x="0" y="3855"/>
                  <a:pt x="0" y="3855"/>
                </a:cubicBezTo>
                <a:cubicBezTo>
                  <a:pt x="0" y="3855"/>
                  <a:pt x="417" y="3566"/>
                  <a:pt x="605" y="2961"/>
                </a:cubicBezTo>
                <a:cubicBezTo>
                  <a:pt x="352" y="2648"/>
                  <a:pt x="201" y="2252"/>
                  <a:pt x="201" y="1819"/>
                </a:cubicBezTo>
                <a:cubicBezTo>
                  <a:pt x="201" y="814"/>
                  <a:pt x="1016" y="0"/>
                  <a:pt x="2021" y="0"/>
                </a:cubicBezTo>
                <a:cubicBezTo>
                  <a:pt x="3026" y="0"/>
                  <a:pt x="3841" y="814"/>
                  <a:pt x="3841" y="1819"/>
                </a:cubicBezTo>
                <a:cubicBezTo>
                  <a:pt x="3841" y="2824"/>
                  <a:pt x="3026" y="3639"/>
                  <a:pt x="2021" y="3639"/>
                </a:cubicBezTo>
                <a:close/>
                <a:moveTo>
                  <a:pt x="1463" y="2671"/>
                </a:moveTo>
                <a:cubicBezTo>
                  <a:pt x="1463" y="2826"/>
                  <a:pt x="1568" y="2941"/>
                  <a:pt x="1723" y="2941"/>
                </a:cubicBezTo>
                <a:cubicBezTo>
                  <a:pt x="1917" y="2941"/>
                  <a:pt x="2052" y="2806"/>
                  <a:pt x="2052" y="2619"/>
                </a:cubicBezTo>
                <a:cubicBezTo>
                  <a:pt x="2052" y="2457"/>
                  <a:pt x="1940" y="2342"/>
                  <a:pt x="1782" y="2342"/>
                </a:cubicBezTo>
                <a:cubicBezTo>
                  <a:pt x="1595" y="2342"/>
                  <a:pt x="1463" y="2497"/>
                  <a:pt x="1463" y="2671"/>
                </a:cubicBezTo>
                <a:close/>
                <a:moveTo>
                  <a:pt x="2121" y="647"/>
                </a:moveTo>
                <a:cubicBezTo>
                  <a:pt x="1874" y="647"/>
                  <a:pt x="1687" y="716"/>
                  <a:pt x="1565" y="789"/>
                </a:cubicBezTo>
                <a:cubicBezTo>
                  <a:pt x="1627" y="1121"/>
                  <a:pt x="1627" y="1121"/>
                  <a:pt x="1627" y="1121"/>
                </a:cubicBezTo>
                <a:cubicBezTo>
                  <a:pt x="1720" y="1065"/>
                  <a:pt x="1838" y="1029"/>
                  <a:pt x="1986" y="1029"/>
                </a:cubicBezTo>
                <a:cubicBezTo>
                  <a:pt x="2134" y="1032"/>
                  <a:pt x="2177" y="1101"/>
                  <a:pt x="2177" y="1187"/>
                </a:cubicBezTo>
                <a:cubicBezTo>
                  <a:pt x="2177" y="1302"/>
                  <a:pt x="2042" y="1414"/>
                  <a:pt x="1914" y="1552"/>
                </a:cubicBezTo>
                <a:cubicBezTo>
                  <a:pt x="1729" y="1747"/>
                  <a:pt x="1641" y="1921"/>
                  <a:pt x="1614" y="2099"/>
                </a:cubicBezTo>
                <a:cubicBezTo>
                  <a:pt x="1611" y="2125"/>
                  <a:pt x="1608" y="2155"/>
                  <a:pt x="1604" y="2184"/>
                </a:cubicBezTo>
                <a:cubicBezTo>
                  <a:pt x="2065" y="2184"/>
                  <a:pt x="2065" y="2184"/>
                  <a:pt x="2065" y="2184"/>
                </a:cubicBezTo>
                <a:cubicBezTo>
                  <a:pt x="2072" y="2155"/>
                  <a:pt x="2075" y="2128"/>
                  <a:pt x="2081" y="2105"/>
                </a:cubicBezTo>
                <a:cubicBezTo>
                  <a:pt x="2111" y="1957"/>
                  <a:pt x="2177" y="1845"/>
                  <a:pt x="2305" y="1717"/>
                </a:cubicBezTo>
                <a:cubicBezTo>
                  <a:pt x="2490" y="1526"/>
                  <a:pt x="2664" y="1358"/>
                  <a:pt x="2664" y="1095"/>
                </a:cubicBezTo>
                <a:cubicBezTo>
                  <a:pt x="2664" y="825"/>
                  <a:pt x="2437" y="647"/>
                  <a:pt x="2121" y="647"/>
                </a:cubicBezTo>
                <a:close/>
              </a:path>
            </a:pathLst>
          </a:custGeom>
          <a:solidFill>
            <a:srgbClr val="5b9b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44" name="文本框 3"/>
          <p:cNvSpPr/>
          <p:nvPr/>
        </p:nvSpPr>
        <p:spPr>
          <a:xfrm>
            <a:off x="2925720" y="4479840"/>
            <a:ext cx="8670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ɔ:/ is usually read in the following combined letters: </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等线"/>
              </a:rPr>
              <a:t>aw or au ar al ore oor oar our ough augh</a:t>
            </a:r>
            <a:endParaRPr b="0" lang="en-US" sz="2400" spc="-1" strike="noStrike">
              <a:solidFill>
                <a:srgbClr val="000000"/>
              </a:solidFill>
              <a:latin typeface="等线"/>
            </a:endParaRPr>
          </a:p>
        </p:txBody>
      </p:sp>
      <p:sp>
        <p:nvSpPr>
          <p:cNvPr id="245" name=" 162"/>
          <p:cNvSpPr/>
          <p:nvPr/>
        </p:nvSpPr>
        <p:spPr>
          <a:xfrm>
            <a:off x="603360" y="4495680"/>
            <a:ext cx="1798560" cy="808200"/>
          </a:xfrm>
          <a:custGeom>
            <a:avLst/>
            <a:gdLst/>
            <a:ahLst/>
            <a:rect l="l" t="t" r="r" b="b"/>
            <a:pathLst>
              <a:path w="494328" h="324036">
                <a:moveTo>
                  <a:pt x="277525" y="292250"/>
                </a:moveTo>
                <a:lnTo>
                  <a:pt x="309311" y="292250"/>
                </a:lnTo>
                <a:lnTo>
                  <a:pt x="309311" y="324036"/>
                </a:lnTo>
                <a:lnTo>
                  <a:pt x="277525" y="324036"/>
                </a:lnTo>
                <a:close/>
                <a:moveTo>
                  <a:pt x="323779" y="243541"/>
                </a:moveTo>
                <a:lnTo>
                  <a:pt x="355565" y="243541"/>
                </a:lnTo>
                <a:lnTo>
                  <a:pt x="355565" y="275328"/>
                </a:lnTo>
                <a:lnTo>
                  <a:pt x="323779" y="275328"/>
                </a:lnTo>
                <a:close/>
                <a:moveTo>
                  <a:pt x="277525" y="243541"/>
                </a:moveTo>
                <a:lnTo>
                  <a:pt x="309311" y="243541"/>
                </a:lnTo>
                <a:lnTo>
                  <a:pt x="309311" y="275328"/>
                </a:lnTo>
                <a:lnTo>
                  <a:pt x="277525" y="275328"/>
                </a:lnTo>
                <a:close/>
                <a:moveTo>
                  <a:pt x="370033" y="194833"/>
                </a:moveTo>
                <a:lnTo>
                  <a:pt x="401820" y="194833"/>
                </a:lnTo>
                <a:lnTo>
                  <a:pt x="401820" y="226620"/>
                </a:lnTo>
                <a:lnTo>
                  <a:pt x="370033" y="226620"/>
                </a:lnTo>
                <a:close/>
                <a:moveTo>
                  <a:pt x="323779" y="194833"/>
                </a:moveTo>
                <a:lnTo>
                  <a:pt x="355565" y="194833"/>
                </a:lnTo>
                <a:lnTo>
                  <a:pt x="355565" y="226620"/>
                </a:lnTo>
                <a:lnTo>
                  <a:pt x="323779" y="226620"/>
                </a:lnTo>
                <a:close/>
                <a:moveTo>
                  <a:pt x="277525" y="194833"/>
                </a:moveTo>
                <a:lnTo>
                  <a:pt x="309311" y="194833"/>
                </a:lnTo>
                <a:lnTo>
                  <a:pt x="309311" y="226620"/>
                </a:lnTo>
                <a:lnTo>
                  <a:pt x="277525" y="226620"/>
                </a:lnTo>
                <a:close/>
                <a:moveTo>
                  <a:pt x="231271" y="194833"/>
                </a:moveTo>
                <a:lnTo>
                  <a:pt x="263057" y="194833"/>
                </a:lnTo>
                <a:lnTo>
                  <a:pt x="263057" y="226620"/>
                </a:lnTo>
                <a:lnTo>
                  <a:pt x="231271" y="226620"/>
                </a:lnTo>
                <a:close/>
                <a:moveTo>
                  <a:pt x="185016" y="194833"/>
                </a:moveTo>
                <a:lnTo>
                  <a:pt x="216803" y="194833"/>
                </a:lnTo>
                <a:lnTo>
                  <a:pt x="216803" y="226620"/>
                </a:lnTo>
                <a:lnTo>
                  <a:pt x="185016" y="226620"/>
                </a:lnTo>
                <a:close/>
                <a:moveTo>
                  <a:pt x="138762" y="194833"/>
                </a:moveTo>
                <a:lnTo>
                  <a:pt x="170549" y="194833"/>
                </a:lnTo>
                <a:lnTo>
                  <a:pt x="170549" y="226620"/>
                </a:lnTo>
                <a:lnTo>
                  <a:pt x="138762" y="226620"/>
                </a:lnTo>
                <a:close/>
                <a:moveTo>
                  <a:pt x="92508" y="194833"/>
                </a:moveTo>
                <a:lnTo>
                  <a:pt x="124294" y="194833"/>
                </a:lnTo>
                <a:lnTo>
                  <a:pt x="124294" y="226620"/>
                </a:lnTo>
                <a:lnTo>
                  <a:pt x="92508" y="226620"/>
                </a:lnTo>
                <a:close/>
                <a:moveTo>
                  <a:pt x="46254" y="194833"/>
                </a:moveTo>
                <a:lnTo>
                  <a:pt x="78040" y="194833"/>
                </a:lnTo>
                <a:lnTo>
                  <a:pt x="78040" y="226620"/>
                </a:lnTo>
                <a:lnTo>
                  <a:pt x="46254" y="226620"/>
                </a:lnTo>
                <a:close/>
                <a:moveTo>
                  <a:pt x="0" y="194833"/>
                </a:moveTo>
                <a:lnTo>
                  <a:pt x="31787" y="194833"/>
                </a:lnTo>
                <a:lnTo>
                  <a:pt x="31787" y="226620"/>
                </a:lnTo>
                <a:lnTo>
                  <a:pt x="0" y="226620"/>
                </a:lnTo>
                <a:close/>
                <a:moveTo>
                  <a:pt x="416287" y="170479"/>
                </a:moveTo>
                <a:lnTo>
                  <a:pt x="448074" y="170479"/>
                </a:lnTo>
                <a:lnTo>
                  <a:pt x="448074" y="202266"/>
                </a:lnTo>
                <a:lnTo>
                  <a:pt x="416287" y="202266"/>
                </a:lnTo>
                <a:close/>
                <a:moveTo>
                  <a:pt x="462542" y="146125"/>
                </a:moveTo>
                <a:lnTo>
                  <a:pt x="494328" y="146125"/>
                </a:lnTo>
                <a:lnTo>
                  <a:pt x="494328" y="177911"/>
                </a:lnTo>
                <a:lnTo>
                  <a:pt x="462542" y="177911"/>
                </a:lnTo>
                <a:close/>
                <a:moveTo>
                  <a:pt x="370033" y="146125"/>
                </a:moveTo>
                <a:lnTo>
                  <a:pt x="401820" y="146125"/>
                </a:lnTo>
                <a:lnTo>
                  <a:pt x="401820" y="177911"/>
                </a:lnTo>
                <a:lnTo>
                  <a:pt x="370033" y="177911"/>
                </a:lnTo>
                <a:close/>
                <a:moveTo>
                  <a:pt x="323779" y="146125"/>
                </a:moveTo>
                <a:lnTo>
                  <a:pt x="355565" y="146125"/>
                </a:lnTo>
                <a:lnTo>
                  <a:pt x="355565" y="177911"/>
                </a:lnTo>
                <a:lnTo>
                  <a:pt x="323779" y="177911"/>
                </a:lnTo>
                <a:close/>
                <a:moveTo>
                  <a:pt x="277525" y="146125"/>
                </a:moveTo>
                <a:lnTo>
                  <a:pt x="309311" y="146125"/>
                </a:lnTo>
                <a:lnTo>
                  <a:pt x="309311" y="177911"/>
                </a:lnTo>
                <a:lnTo>
                  <a:pt x="277525" y="177911"/>
                </a:lnTo>
                <a:close/>
                <a:moveTo>
                  <a:pt x="231271" y="146125"/>
                </a:moveTo>
                <a:lnTo>
                  <a:pt x="263057" y="146125"/>
                </a:lnTo>
                <a:lnTo>
                  <a:pt x="263057" y="177911"/>
                </a:lnTo>
                <a:lnTo>
                  <a:pt x="231271" y="177911"/>
                </a:lnTo>
                <a:close/>
                <a:moveTo>
                  <a:pt x="185016" y="146125"/>
                </a:moveTo>
                <a:lnTo>
                  <a:pt x="216803" y="146125"/>
                </a:lnTo>
                <a:lnTo>
                  <a:pt x="216803" y="177911"/>
                </a:lnTo>
                <a:lnTo>
                  <a:pt x="185016" y="177911"/>
                </a:lnTo>
                <a:close/>
                <a:moveTo>
                  <a:pt x="138762" y="146125"/>
                </a:moveTo>
                <a:lnTo>
                  <a:pt x="170549" y="146125"/>
                </a:lnTo>
                <a:lnTo>
                  <a:pt x="170549" y="177911"/>
                </a:lnTo>
                <a:lnTo>
                  <a:pt x="138762" y="177911"/>
                </a:lnTo>
                <a:close/>
                <a:moveTo>
                  <a:pt x="92508" y="146125"/>
                </a:moveTo>
                <a:lnTo>
                  <a:pt x="124294" y="146125"/>
                </a:lnTo>
                <a:lnTo>
                  <a:pt x="124294" y="177911"/>
                </a:lnTo>
                <a:lnTo>
                  <a:pt x="92508" y="177911"/>
                </a:lnTo>
                <a:close/>
                <a:moveTo>
                  <a:pt x="46254" y="146125"/>
                </a:moveTo>
                <a:lnTo>
                  <a:pt x="78040" y="146125"/>
                </a:lnTo>
                <a:lnTo>
                  <a:pt x="78040" y="177911"/>
                </a:lnTo>
                <a:lnTo>
                  <a:pt x="46254" y="177911"/>
                </a:lnTo>
                <a:close/>
                <a:moveTo>
                  <a:pt x="0" y="146125"/>
                </a:moveTo>
                <a:lnTo>
                  <a:pt x="31787" y="146125"/>
                </a:lnTo>
                <a:lnTo>
                  <a:pt x="31787" y="177911"/>
                </a:lnTo>
                <a:lnTo>
                  <a:pt x="0" y="177911"/>
                </a:lnTo>
                <a:close/>
                <a:moveTo>
                  <a:pt x="416287" y="121771"/>
                </a:moveTo>
                <a:lnTo>
                  <a:pt x="448074" y="121771"/>
                </a:lnTo>
                <a:lnTo>
                  <a:pt x="448074" y="153557"/>
                </a:lnTo>
                <a:lnTo>
                  <a:pt x="416287" y="153557"/>
                </a:lnTo>
                <a:close/>
                <a:moveTo>
                  <a:pt x="370033" y="97417"/>
                </a:moveTo>
                <a:lnTo>
                  <a:pt x="401820" y="97417"/>
                </a:lnTo>
                <a:lnTo>
                  <a:pt x="401820" y="129203"/>
                </a:lnTo>
                <a:lnTo>
                  <a:pt x="370033" y="129203"/>
                </a:lnTo>
                <a:close/>
                <a:moveTo>
                  <a:pt x="323779" y="97417"/>
                </a:moveTo>
                <a:lnTo>
                  <a:pt x="355565" y="97417"/>
                </a:lnTo>
                <a:lnTo>
                  <a:pt x="355565" y="129203"/>
                </a:lnTo>
                <a:lnTo>
                  <a:pt x="323779" y="129203"/>
                </a:lnTo>
                <a:close/>
                <a:moveTo>
                  <a:pt x="277525" y="97417"/>
                </a:moveTo>
                <a:lnTo>
                  <a:pt x="309311" y="97417"/>
                </a:lnTo>
                <a:lnTo>
                  <a:pt x="309311" y="129203"/>
                </a:lnTo>
                <a:lnTo>
                  <a:pt x="277525" y="129203"/>
                </a:lnTo>
                <a:close/>
                <a:moveTo>
                  <a:pt x="231271" y="97417"/>
                </a:moveTo>
                <a:lnTo>
                  <a:pt x="263057" y="97417"/>
                </a:lnTo>
                <a:lnTo>
                  <a:pt x="263057" y="129203"/>
                </a:lnTo>
                <a:lnTo>
                  <a:pt x="231271" y="129203"/>
                </a:lnTo>
                <a:close/>
                <a:moveTo>
                  <a:pt x="185016" y="97417"/>
                </a:moveTo>
                <a:lnTo>
                  <a:pt x="216803" y="97417"/>
                </a:lnTo>
                <a:lnTo>
                  <a:pt x="216803" y="129203"/>
                </a:lnTo>
                <a:lnTo>
                  <a:pt x="185016" y="129203"/>
                </a:lnTo>
                <a:close/>
                <a:moveTo>
                  <a:pt x="138762" y="97417"/>
                </a:moveTo>
                <a:lnTo>
                  <a:pt x="170549" y="97417"/>
                </a:lnTo>
                <a:lnTo>
                  <a:pt x="170549" y="129203"/>
                </a:lnTo>
                <a:lnTo>
                  <a:pt x="138762" y="129203"/>
                </a:lnTo>
                <a:close/>
                <a:moveTo>
                  <a:pt x="92508" y="97417"/>
                </a:moveTo>
                <a:lnTo>
                  <a:pt x="124294" y="97417"/>
                </a:lnTo>
                <a:lnTo>
                  <a:pt x="124294" y="129203"/>
                </a:lnTo>
                <a:lnTo>
                  <a:pt x="92508" y="129203"/>
                </a:lnTo>
                <a:close/>
                <a:moveTo>
                  <a:pt x="46254" y="97417"/>
                </a:moveTo>
                <a:lnTo>
                  <a:pt x="78040" y="97417"/>
                </a:lnTo>
                <a:lnTo>
                  <a:pt x="78040" y="129203"/>
                </a:lnTo>
                <a:lnTo>
                  <a:pt x="46254" y="129203"/>
                </a:lnTo>
                <a:close/>
                <a:moveTo>
                  <a:pt x="0" y="97417"/>
                </a:moveTo>
                <a:lnTo>
                  <a:pt x="31787" y="97417"/>
                </a:lnTo>
                <a:lnTo>
                  <a:pt x="31787" y="129203"/>
                </a:lnTo>
                <a:lnTo>
                  <a:pt x="0" y="129203"/>
                </a:lnTo>
                <a:close/>
                <a:moveTo>
                  <a:pt x="323779" y="48708"/>
                </a:moveTo>
                <a:lnTo>
                  <a:pt x="355565" y="48708"/>
                </a:lnTo>
                <a:lnTo>
                  <a:pt x="355565" y="80495"/>
                </a:lnTo>
                <a:lnTo>
                  <a:pt x="323779" y="80495"/>
                </a:lnTo>
                <a:close/>
                <a:moveTo>
                  <a:pt x="277525" y="48708"/>
                </a:moveTo>
                <a:lnTo>
                  <a:pt x="309311" y="48708"/>
                </a:lnTo>
                <a:lnTo>
                  <a:pt x="309311" y="80495"/>
                </a:lnTo>
                <a:lnTo>
                  <a:pt x="277525" y="80495"/>
                </a:lnTo>
                <a:close/>
                <a:moveTo>
                  <a:pt x="277525" y="0"/>
                </a:moveTo>
                <a:lnTo>
                  <a:pt x="309311" y="0"/>
                </a:lnTo>
                <a:lnTo>
                  <a:pt x="309311" y="31787"/>
                </a:lnTo>
                <a:lnTo>
                  <a:pt x="277525" y="31787"/>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46" name="文本框 4"/>
          <p:cNvSpPr/>
          <p:nvPr/>
        </p:nvSpPr>
        <p:spPr>
          <a:xfrm>
            <a:off x="495360" y="5697360"/>
            <a:ext cx="963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等线"/>
              </a:rPr>
              <a:t>How to pronounce the following words?</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等线"/>
              </a:rPr>
              <a:t>halt     stall     dwarf     cawed     nought     storey</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等线"/>
            </a:endParaRPr>
          </a:p>
        </p:txBody>
      </p:sp>
    </p:spTree>
  </p:cSld>
  <p:transition>
    <p:push dir="u"/>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dur="indefinite" nodeType="clickEffect" fill="hold" presetClass="entr" presetID="2" presetSubtype="4">
                                  <p:stCondLst>
                                    <p:cond delay="0"/>
                                  </p:stCondLst>
                                  <p:childTnLst>
                                    <p:set>
                                      <p:cBhvr>
                                        <p:cTn id="454" dur="1" fill="hold">
                                          <p:stCondLst>
                                            <p:cond delay="0"/>
                                          </p:stCondLst>
                                        </p:cTn>
                                        <p:tgtEl>
                                          <p:spTgt spid="239">
                                            <p:txEl>
                                              <p:pRg st="0" end="0"/>
                                            </p:txEl>
                                          </p:spTgt>
                                        </p:tgtEl>
                                        <p:attrNameLst>
                                          <p:attrName>style.visibility</p:attrName>
                                        </p:attrNameLst>
                                      </p:cBhvr>
                                      <p:to>
                                        <p:strVal val="visible"/>
                                      </p:to>
                                    </p:set>
                                    <p:anim calcmode="lin" valueType="num">
                                      <p:cBhvr additive="repl">
                                        <p:cTn id="455"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239">
                                            <p:txEl>
                                              <p:pRg st="0" end="0"/>
                                            </p:txEl>
                                          </p:spTgt>
                                        </p:tgtEl>
                                        <p:attrNameLst>
                                          <p:attrName>ppt_y</p:attrName>
                                        </p:attrNameLst>
                                      </p:cBhvr>
                                      <p:tavLst>
                                        <p:tav tm="0">
                                          <p:val>
                                            <p:strVal val="1+#ppt_h/2"/>
                                          </p:val>
                                        </p:tav>
                                        <p:tav tm="100000">
                                          <p:val>
                                            <p:strVal val="#ppt_y"/>
                                          </p:val>
                                        </p:tav>
                                      </p:tavLst>
                                    </p:anim>
                                  </p:childTnLst>
                                </p:cTn>
                              </p:par>
                              <p:par>
                                <p:cTn id="457" dur="indefinite" nodeType="withEffect" fill="hold" presetClass="entr" presetID="2" presetSubtype="4">
                                  <p:stCondLst>
                                    <p:cond delay="0"/>
                                  </p:stCondLst>
                                  <p:childTnLst>
                                    <p:set>
                                      <p:cBhvr>
                                        <p:cTn id="458" dur="1" fill="hold">
                                          <p:stCondLst>
                                            <p:cond delay="0"/>
                                          </p:stCondLst>
                                        </p:cTn>
                                        <p:tgtEl>
                                          <p:spTgt spid="239">
                                            <p:txEl>
                                              <p:pRg st="1" end="1"/>
                                            </p:txEl>
                                          </p:spTgt>
                                        </p:tgtEl>
                                        <p:attrNameLst>
                                          <p:attrName>style.visibility</p:attrName>
                                        </p:attrNameLst>
                                      </p:cBhvr>
                                      <p:to>
                                        <p:strVal val="visible"/>
                                      </p:to>
                                    </p:set>
                                    <p:anim calcmode="lin" valueType="num">
                                      <p:cBhvr additive="repl">
                                        <p:cTn id="459" dur="5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460" dur="500" fill="hold"/>
                                        <p:tgtEl>
                                          <p:spTgt spid="239">
                                            <p:txEl>
                                              <p:pRg st="1" end="1"/>
                                            </p:txEl>
                                          </p:spTgt>
                                        </p:tgtEl>
                                        <p:attrNameLst>
                                          <p:attrName>ppt_y</p:attrName>
                                        </p:attrNameLst>
                                      </p:cBhvr>
                                      <p:tavLst>
                                        <p:tav tm="0">
                                          <p:val>
                                            <p:strVal val="1+#ppt_h/2"/>
                                          </p:val>
                                        </p:tav>
                                        <p:tav tm="100000">
                                          <p:val>
                                            <p:strVal val="#ppt_y"/>
                                          </p:val>
                                        </p:tav>
                                      </p:tavLst>
                                    </p:anim>
                                  </p:childTnLst>
                                </p:cTn>
                              </p:par>
                              <p:par>
                                <p:cTn id="461" dur="indefinite" nodeType="withEffect" fill="hold" presetClass="entr" presetID="2" presetSubtype="4">
                                  <p:stCondLst>
                                    <p:cond delay="0"/>
                                  </p:stCondLst>
                                  <p:childTnLst>
                                    <p:set>
                                      <p:cBhvr>
                                        <p:cTn id="462" dur="1" fill="hold">
                                          <p:stCondLst>
                                            <p:cond delay="0"/>
                                          </p:stCondLst>
                                        </p:cTn>
                                        <p:tgtEl>
                                          <p:spTgt spid="239">
                                            <p:txEl>
                                              <p:pRg st="2" end="2"/>
                                            </p:txEl>
                                          </p:spTgt>
                                        </p:tgtEl>
                                        <p:attrNameLst>
                                          <p:attrName>style.visibility</p:attrName>
                                        </p:attrNameLst>
                                      </p:cBhvr>
                                      <p:to>
                                        <p:strVal val="visible"/>
                                      </p:to>
                                    </p:set>
                                    <p:anim calcmode="lin" valueType="num">
                                      <p:cBhvr additive="repl">
                                        <p:cTn id="463"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464" dur="500" fill="hold"/>
                                        <p:tgtEl>
                                          <p:spTgt spid="239">
                                            <p:txEl>
                                              <p:pRg st="2" end="2"/>
                                            </p:txEl>
                                          </p:spTgt>
                                        </p:tgtEl>
                                        <p:attrNameLst>
                                          <p:attrName>ppt_y</p:attrName>
                                        </p:attrNameLst>
                                      </p:cBhvr>
                                      <p:tavLst>
                                        <p:tav tm="0">
                                          <p:val>
                                            <p:strVal val="1+#ppt_h/2"/>
                                          </p:val>
                                        </p:tav>
                                        <p:tav tm="100000">
                                          <p:val>
                                            <p:strVal val="#ppt_y"/>
                                          </p:val>
                                        </p:tav>
                                      </p:tavLst>
                                    </p:anim>
                                  </p:childTnLst>
                                </p:cTn>
                              </p:par>
                              <p:par>
                                <p:cTn id="465" dur="indefinite" nodeType="withEffect" fill="hold" presetClass="entr" presetID="2" presetSubtype="4">
                                  <p:stCondLst>
                                    <p:cond delay="0"/>
                                  </p:stCondLst>
                                  <p:childTnLst>
                                    <p:set>
                                      <p:cBhvr>
                                        <p:cTn id="466" dur="1" fill="hold">
                                          <p:stCondLst>
                                            <p:cond delay="0"/>
                                          </p:stCondLst>
                                        </p:cTn>
                                        <p:tgtEl>
                                          <p:spTgt spid="239">
                                            <p:txEl>
                                              <p:pRg st="3" end="3"/>
                                            </p:txEl>
                                          </p:spTgt>
                                        </p:tgtEl>
                                        <p:attrNameLst>
                                          <p:attrName>style.visibility</p:attrName>
                                        </p:attrNameLst>
                                      </p:cBhvr>
                                      <p:to>
                                        <p:strVal val="visible"/>
                                      </p:to>
                                    </p:set>
                                    <p:anim calcmode="lin" valueType="num">
                                      <p:cBhvr additive="repl">
                                        <p:cTn id="467" dur="5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repl">
                                        <p:cTn id="468" dur="500" fill="hold"/>
                                        <p:tgtEl>
                                          <p:spTgt spid="239">
                                            <p:txEl>
                                              <p:pRg st="3" end="3"/>
                                            </p:txEl>
                                          </p:spTgt>
                                        </p:tgtEl>
                                        <p:attrNameLst>
                                          <p:attrName>ppt_y</p:attrName>
                                        </p:attrNameLst>
                                      </p:cBhvr>
                                      <p:tavLst>
                                        <p:tav tm="0">
                                          <p:val>
                                            <p:strVal val="1+#ppt_h/2"/>
                                          </p:val>
                                        </p:tav>
                                        <p:tav tm="100000">
                                          <p:val>
                                            <p:strVal val="#ppt_y"/>
                                          </p:val>
                                        </p:tav>
                                      </p:tavLst>
                                    </p:anim>
                                  </p:childTnLst>
                                </p:cTn>
                              </p:par>
                              <p:par>
                                <p:cTn id="469" dur="indefinite" nodeType="withEffect" fill="hold" presetClass="entr" presetID="2" presetSubtype="4">
                                  <p:stCondLst>
                                    <p:cond delay="0"/>
                                  </p:stCondLst>
                                  <p:childTnLst>
                                    <p:set>
                                      <p:cBhvr>
                                        <p:cTn id="470" dur="1" fill="hold">
                                          <p:stCondLst>
                                            <p:cond delay="0"/>
                                          </p:stCondLst>
                                        </p:cTn>
                                        <p:tgtEl>
                                          <p:spTgt spid="239">
                                            <p:txEl>
                                              <p:pRg st="4" end="4"/>
                                            </p:txEl>
                                          </p:spTgt>
                                        </p:tgtEl>
                                        <p:attrNameLst>
                                          <p:attrName>style.visibility</p:attrName>
                                        </p:attrNameLst>
                                      </p:cBhvr>
                                      <p:to>
                                        <p:strVal val="visible"/>
                                      </p:to>
                                    </p:set>
                                    <p:anim calcmode="lin" valueType="num">
                                      <p:cBhvr additive="repl">
                                        <p:cTn id="471" dur="5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repl">
                                        <p:cTn id="472" dur="500" fill="hold"/>
                                        <p:tgtEl>
                                          <p:spTgt spid="239">
                                            <p:txEl>
                                              <p:pRg st="4" end="4"/>
                                            </p:txEl>
                                          </p:spTgt>
                                        </p:tgtEl>
                                        <p:attrNameLst>
                                          <p:attrName>ppt_y</p:attrName>
                                        </p:attrNameLst>
                                      </p:cBhvr>
                                      <p:tavLst>
                                        <p:tav tm="0">
                                          <p:val>
                                            <p:strVal val="1+#ppt_h/2"/>
                                          </p:val>
                                        </p:tav>
                                        <p:tav tm="100000">
                                          <p:val>
                                            <p:strVal val="#ppt_y"/>
                                          </p:val>
                                        </p:tav>
                                      </p:tavLst>
                                    </p:anim>
                                  </p:childTnLst>
                                </p:cTn>
                              </p:par>
                              <p:par>
                                <p:cTn id="473" dur="indefinite" nodeType="withEffect" fill="hold" presetClass="entr" presetID="2" presetSubtype="4">
                                  <p:stCondLst>
                                    <p:cond delay="0"/>
                                  </p:stCondLst>
                                  <p:childTnLst>
                                    <p:set>
                                      <p:cBhvr>
                                        <p:cTn id="474" dur="1" fill="hold">
                                          <p:stCondLst>
                                            <p:cond delay="0"/>
                                          </p:stCondLst>
                                        </p:cTn>
                                        <p:tgtEl>
                                          <p:spTgt spid="239">
                                            <p:txEl>
                                              <p:pRg st="5" end="5"/>
                                            </p:txEl>
                                          </p:spTgt>
                                        </p:tgtEl>
                                        <p:attrNameLst>
                                          <p:attrName>style.visibility</p:attrName>
                                        </p:attrNameLst>
                                      </p:cBhvr>
                                      <p:to>
                                        <p:strVal val="visible"/>
                                      </p:to>
                                    </p:set>
                                    <p:anim calcmode="lin" valueType="num">
                                      <p:cBhvr additive="repl">
                                        <p:cTn id="475" dur="5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repl">
                                        <p:cTn id="476" dur="500" fill="hold"/>
                                        <p:tgtEl>
                                          <p:spTgt spid="2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2" presetSubtype="4">
                                  <p:stCondLst>
                                    <p:cond delay="0"/>
                                  </p:stCondLst>
                                  <p:childTnLst>
                                    <p:set>
                                      <p:cBhvr>
                                        <p:cTn id="480" dur="1" fill="hold">
                                          <p:stCondLst>
                                            <p:cond delay="0"/>
                                          </p:stCondLst>
                                        </p:cTn>
                                        <p:tgtEl>
                                          <p:spTgt spid="243"/>
                                        </p:tgtEl>
                                        <p:attrNameLst>
                                          <p:attrName>style.visibility</p:attrName>
                                        </p:attrNameLst>
                                      </p:cBhvr>
                                      <p:to>
                                        <p:strVal val="visible"/>
                                      </p:to>
                                    </p:set>
                                    <p:anim calcmode="lin" valueType="num">
                                      <p:cBhvr additive="repl">
                                        <p:cTn id="481" dur="500" fill="hold"/>
                                        <p:tgtEl>
                                          <p:spTgt spid="243"/>
                                        </p:tgtEl>
                                        <p:attrNameLst>
                                          <p:attrName>ppt_x</p:attrName>
                                        </p:attrNameLst>
                                      </p:cBhvr>
                                      <p:tavLst>
                                        <p:tav tm="0">
                                          <p:val>
                                            <p:strVal val="#ppt_x"/>
                                          </p:val>
                                        </p:tav>
                                        <p:tav tm="100000">
                                          <p:val>
                                            <p:strVal val="#ppt_x"/>
                                          </p:val>
                                        </p:tav>
                                      </p:tavLst>
                                    </p:anim>
                                    <p:anim calcmode="lin" valueType="num">
                                      <p:cBhvr additive="repl">
                                        <p:cTn id="482"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2" presetSubtype="4">
                                  <p:stCondLst>
                                    <p:cond delay="0"/>
                                  </p:stCondLst>
                                  <p:childTnLst>
                                    <p:set>
                                      <p:cBhvr>
                                        <p:cTn id="486" dur="1" fill="hold">
                                          <p:stCondLst>
                                            <p:cond delay="0"/>
                                          </p:stCondLst>
                                        </p:cTn>
                                        <p:tgtEl>
                                          <p:spTgt spid="245"/>
                                        </p:tgtEl>
                                        <p:attrNameLst>
                                          <p:attrName>style.visibility</p:attrName>
                                        </p:attrNameLst>
                                      </p:cBhvr>
                                      <p:to>
                                        <p:strVal val="visible"/>
                                      </p:to>
                                    </p:set>
                                    <p:anim calcmode="lin" valueType="num">
                                      <p:cBhvr additive="repl">
                                        <p:cTn id="487" dur="500" fill="hold"/>
                                        <p:tgtEl>
                                          <p:spTgt spid="245"/>
                                        </p:tgtEl>
                                        <p:attrNameLst>
                                          <p:attrName>ppt_x</p:attrName>
                                        </p:attrNameLst>
                                      </p:cBhvr>
                                      <p:tavLst>
                                        <p:tav tm="0">
                                          <p:val>
                                            <p:strVal val="#ppt_x"/>
                                          </p:val>
                                        </p:tav>
                                        <p:tav tm="100000">
                                          <p:val>
                                            <p:strVal val="#ppt_x"/>
                                          </p:val>
                                        </p:tav>
                                      </p:tavLst>
                                    </p:anim>
                                    <p:anim calcmode="lin" valueType="num">
                                      <p:cBhvr additive="repl">
                                        <p:cTn id="488"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dur="indefinite" nodeType="clickEffect" fill="hold" presetClass="entr" presetID="2" presetSubtype="4">
                                  <p:stCondLst>
                                    <p:cond delay="0"/>
                                  </p:stCondLst>
                                  <p:childTnLst>
                                    <p:set>
                                      <p:cBhvr>
                                        <p:cTn id="492" dur="1" fill="hold">
                                          <p:stCondLst>
                                            <p:cond delay="0"/>
                                          </p:stCondLst>
                                        </p:cTn>
                                        <p:tgtEl>
                                          <p:spTgt spid="244">
                                            <p:txEl>
                                              <p:pRg st="0" end="0"/>
                                            </p:txEl>
                                          </p:spTgt>
                                        </p:tgtEl>
                                        <p:attrNameLst>
                                          <p:attrName>style.visibility</p:attrName>
                                        </p:attrNameLst>
                                      </p:cBhvr>
                                      <p:to>
                                        <p:strVal val="visible"/>
                                      </p:to>
                                    </p:set>
                                    <p:anim calcmode="lin" valueType="num">
                                      <p:cBhvr additive="repl">
                                        <p:cTn id="493"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repl">
                                        <p:cTn id="494" dur="500" fill="hold"/>
                                        <p:tgtEl>
                                          <p:spTgt spid="244">
                                            <p:txEl>
                                              <p:pRg st="0" end="0"/>
                                            </p:txEl>
                                          </p:spTgt>
                                        </p:tgtEl>
                                        <p:attrNameLst>
                                          <p:attrName>ppt_y</p:attrName>
                                        </p:attrNameLst>
                                      </p:cBhvr>
                                      <p:tavLst>
                                        <p:tav tm="0">
                                          <p:val>
                                            <p:strVal val="1+#ppt_h/2"/>
                                          </p:val>
                                        </p:tav>
                                        <p:tav tm="100000">
                                          <p:val>
                                            <p:strVal val="#ppt_y"/>
                                          </p:val>
                                        </p:tav>
                                      </p:tavLst>
                                    </p:anim>
                                  </p:childTnLst>
                                </p:cTn>
                              </p:par>
                              <p:par>
                                <p:cTn id="495" dur="indefinite" nodeType="withEffect" fill="hold" presetClass="entr" presetID="2" presetSubtype="4">
                                  <p:stCondLst>
                                    <p:cond delay="0"/>
                                  </p:stCondLst>
                                  <p:childTnLst>
                                    <p:set>
                                      <p:cBhvr>
                                        <p:cTn id="496" dur="1" fill="hold">
                                          <p:stCondLst>
                                            <p:cond delay="0"/>
                                          </p:stCondLst>
                                        </p:cTn>
                                        <p:tgtEl>
                                          <p:spTgt spid="244">
                                            <p:txEl>
                                              <p:pRg st="1" end="1"/>
                                            </p:txEl>
                                          </p:spTgt>
                                        </p:tgtEl>
                                        <p:attrNameLst>
                                          <p:attrName>style.visibility</p:attrName>
                                        </p:attrNameLst>
                                      </p:cBhvr>
                                      <p:to>
                                        <p:strVal val="visible"/>
                                      </p:to>
                                    </p:set>
                                    <p:anim calcmode="lin" valueType="num">
                                      <p:cBhvr additive="repl">
                                        <p:cTn id="497" dur="5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repl">
                                        <p:cTn id="498" dur="5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dur="indefinite" nodeType="clickEffect" fill="hold" presetClass="entr" presetID="2" presetSubtype="4">
                                  <p:stCondLst>
                                    <p:cond delay="0"/>
                                  </p:stCondLst>
                                  <p:childTnLst>
                                    <p:set>
                                      <p:cBhvr>
                                        <p:cTn id="502" dur="1" fill="hold">
                                          <p:stCondLst>
                                            <p:cond delay="0"/>
                                          </p:stCondLst>
                                        </p:cTn>
                                        <p:tgtEl>
                                          <p:spTgt spid="246">
                                            <p:txEl>
                                              <p:pRg st="0" end="0"/>
                                            </p:txEl>
                                          </p:spTgt>
                                        </p:tgtEl>
                                        <p:attrNameLst>
                                          <p:attrName>style.visibility</p:attrName>
                                        </p:attrNameLst>
                                      </p:cBhvr>
                                      <p:to>
                                        <p:strVal val="visible"/>
                                      </p:to>
                                    </p:set>
                                    <p:anim calcmode="lin" valueType="num">
                                      <p:cBhvr additive="repl">
                                        <p:cTn id="503"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repl">
                                        <p:cTn id="504" dur="500" fill="hold"/>
                                        <p:tgtEl>
                                          <p:spTgt spid="246">
                                            <p:txEl>
                                              <p:pRg st="0" end="0"/>
                                            </p:txEl>
                                          </p:spTgt>
                                        </p:tgtEl>
                                        <p:attrNameLst>
                                          <p:attrName>ppt_y</p:attrName>
                                        </p:attrNameLst>
                                      </p:cBhvr>
                                      <p:tavLst>
                                        <p:tav tm="0">
                                          <p:val>
                                            <p:strVal val="1+#ppt_h/2"/>
                                          </p:val>
                                        </p:tav>
                                        <p:tav tm="100000">
                                          <p:val>
                                            <p:strVal val="#ppt_y"/>
                                          </p:val>
                                        </p:tav>
                                      </p:tavLst>
                                    </p:anim>
                                  </p:childTnLst>
                                </p:cTn>
                              </p:par>
                              <p:par>
                                <p:cTn id="505" dur="indefinite" nodeType="withEffect" fill="hold" presetClass="entr" presetID="2" presetSubtype="4">
                                  <p:stCondLst>
                                    <p:cond delay="0"/>
                                  </p:stCondLst>
                                  <p:childTnLst>
                                    <p:set>
                                      <p:cBhvr>
                                        <p:cTn id="506" dur="1" fill="hold">
                                          <p:stCondLst>
                                            <p:cond delay="0"/>
                                          </p:stCondLst>
                                        </p:cTn>
                                        <p:tgtEl>
                                          <p:spTgt spid="246">
                                            <p:txEl>
                                              <p:pRg st="1" end="1"/>
                                            </p:txEl>
                                          </p:spTgt>
                                        </p:tgtEl>
                                        <p:attrNameLst>
                                          <p:attrName>style.visibility</p:attrName>
                                        </p:attrNameLst>
                                      </p:cBhvr>
                                      <p:to>
                                        <p:strVal val="visible"/>
                                      </p:to>
                                    </p:set>
                                    <p:anim calcmode="lin" valueType="num">
                                      <p:cBhvr additive="repl">
                                        <p:cTn id="507" dur="5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repl">
                                        <p:cTn id="508" dur="500" fill="hold"/>
                                        <p:tgtEl>
                                          <p:spTgt spid="2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五边形 1"/>
          <p:cNvSpPr/>
          <p:nvPr/>
        </p:nvSpPr>
        <p:spPr>
          <a:xfrm>
            <a:off x="0" y="1743120"/>
            <a:ext cx="1828800" cy="914400"/>
          </a:xfrm>
          <a:custGeom>
            <a:avLst/>
            <a:gdLst>
              <a:gd name="textAreaLeft" fmla="*/ 0 w 1828800"/>
              <a:gd name="textAreaRight" fmla="*/ 1829160 w 182880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eb453"/>
          </a:solidFill>
          <a:ln w="12600">
            <a:solidFill>
              <a:srgbClr val="8ab3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0" name="燕尾形 2"/>
          <p:cNvSpPr/>
          <p:nvPr/>
        </p:nvSpPr>
        <p:spPr>
          <a:xfrm>
            <a:off x="1679400" y="1760400"/>
            <a:ext cx="8488440" cy="897120"/>
          </a:xfrm>
          <a:custGeom>
            <a:avLst/>
            <a:gdLst>
              <a:gd name="textAreaLeft" fmla="*/ 0 w 8488440"/>
              <a:gd name="textAreaRight" fmla="*/ 8488440 w 8488440"/>
              <a:gd name="textAreaTop" fmla="*/ 0 h 897120"/>
              <a:gd name="textAreaBottom" fmla="*/ 897480 h 897120"/>
            </a:gdLst>
            <a:ahLst/>
            <a:rect l="textAreaLeft" t="textAreaTop" r="textAreaRight" b="textAreaBottom"/>
            <a:pathLst>
              <a:path w="21600" h="21600">
                <a:moveTo>
                  <a:pt x="0" y="0"/>
                </a:moveTo>
                <a:lnTo>
                  <a:pt x="20459" y="0"/>
                </a:lnTo>
                <a:lnTo>
                  <a:pt x="21600" y="10800"/>
                </a:lnTo>
                <a:lnTo>
                  <a:pt x="20459" y="21600"/>
                </a:lnTo>
                <a:lnTo>
                  <a:pt x="0" y="21600"/>
                </a:lnTo>
                <a:lnTo>
                  <a:pt x="1141" y="10800"/>
                </a:lnTo>
                <a:close/>
              </a:path>
            </a:pathLst>
          </a:custGeom>
          <a:noFill/>
          <a:ln w="12600">
            <a:solidFill>
              <a:srgbClr val="8eb45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1" name="五边形 112"/>
          <p:cNvSpPr/>
          <p:nvPr/>
        </p:nvSpPr>
        <p:spPr>
          <a:xfrm rot="10800000">
            <a:off x="10363320" y="2900520"/>
            <a:ext cx="1828800" cy="914400"/>
          </a:xfrm>
          <a:custGeom>
            <a:avLst/>
            <a:gdLst>
              <a:gd name="textAreaLeft" fmla="*/ 0 w 1828800"/>
              <a:gd name="textAreaRight" fmla="*/ 1829160 w 182880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c7e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2" name="燕尾形 113"/>
          <p:cNvSpPr/>
          <p:nvPr/>
        </p:nvSpPr>
        <p:spPr>
          <a:xfrm rot="10800000">
            <a:off x="2128320" y="2917440"/>
            <a:ext cx="8488440" cy="897120"/>
          </a:xfrm>
          <a:custGeom>
            <a:avLst/>
            <a:gdLst>
              <a:gd name="textAreaLeft" fmla="*/ 0 w 8488440"/>
              <a:gd name="textAreaRight" fmla="*/ 8488440 w 8488440"/>
              <a:gd name="textAreaTop" fmla="*/ 0 h 897120"/>
              <a:gd name="textAreaBottom" fmla="*/ 897480 h 897120"/>
            </a:gdLst>
            <a:ahLst/>
            <a:rect l="textAreaLeft" t="textAreaTop" r="textAreaRight" b="textAreaBottom"/>
            <a:pathLst>
              <a:path w="21600" h="21600">
                <a:moveTo>
                  <a:pt x="0" y="0"/>
                </a:moveTo>
                <a:lnTo>
                  <a:pt x="20459" y="0"/>
                </a:lnTo>
                <a:lnTo>
                  <a:pt x="21600" y="10800"/>
                </a:lnTo>
                <a:lnTo>
                  <a:pt x="20459" y="21600"/>
                </a:lnTo>
                <a:lnTo>
                  <a:pt x="0" y="21600"/>
                </a:lnTo>
                <a:lnTo>
                  <a:pt x="1141" y="10800"/>
                </a:lnTo>
                <a:close/>
              </a:path>
            </a:pathLst>
          </a:custGeom>
          <a:no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3" name="五边形 114"/>
          <p:cNvSpPr/>
          <p:nvPr/>
        </p:nvSpPr>
        <p:spPr>
          <a:xfrm>
            <a:off x="0" y="3998880"/>
            <a:ext cx="1828800" cy="914400"/>
          </a:xfrm>
          <a:custGeom>
            <a:avLst/>
            <a:gdLst>
              <a:gd name="textAreaLeft" fmla="*/ 0 w 1828800"/>
              <a:gd name="textAreaRight" fmla="*/ 1829160 w 182880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eb453"/>
          </a:solidFill>
          <a:ln w="12600">
            <a:solidFill>
              <a:srgbClr val="8ab3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4" name="燕尾形 115"/>
          <p:cNvSpPr/>
          <p:nvPr/>
        </p:nvSpPr>
        <p:spPr>
          <a:xfrm>
            <a:off x="1679400" y="4016520"/>
            <a:ext cx="8488440" cy="896760"/>
          </a:xfrm>
          <a:custGeom>
            <a:avLst/>
            <a:gdLst>
              <a:gd name="textAreaLeft" fmla="*/ 0 w 8488440"/>
              <a:gd name="textAreaRight" fmla="*/ 8488440 w 8488440"/>
              <a:gd name="textAreaTop" fmla="*/ 0 h 896760"/>
              <a:gd name="textAreaBottom" fmla="*/ 897120 h 896760"/>
            </a:gdLst>
            <a:ahLst/>
            <a:rect l="textAreaLeft" t="textAreaTop" r="textAreaRight" b="textAreaBottom"/>
            <a:pathLst>
              <a:path w="21600" h="21600">
                <a:moveTo>
                  <a:pt x="0" y="0"/>
                </a:moveTo>
                <a:lnTo>
                  <a:pt x="20459" y="0"/>
                </a:lnTo>
                <a:lnTo>
                  <a:pt x="21600" y="10800"/>
                </a:lnTo>
                <a:lnTo>
                  <a:pt x="20459" y="21600"/>
                </a:lnTo>
                <a:lnTo>
                  <a:pt x="0" y="21600"/>
                </a:lnTo>
                <a:lnTo>
                  <a:pt x="1141" y="10800"/>
                </a:lnTo>
                <a:close/>
              </a:path>
            </a:pathLst>
          </a:custGeom>
          <a:noFill/>
          <a:ln w="12600">
            <a:solidFill>
              <a:srgbClr val="8eb45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5" name="五边形 116"/>
          <p:cNvSpPr/>
          <p:nvPr/>
        </p:nvSpPr>
        <p:spPr>
          <a:xfrm rot="10800000">
            <a:off x="10363320" y="5157720"/>
            <a:ext cx="1828800" cy="914400"/>
          </a:xfrm>
          <a:custGeom>
            <a:avLst/>
            <a:gdLst>
              <a:gd name="textAreaLeft" fmla="*/ 0 w 1828800"/>
              <a:gd name="textAreaRight" fmla="*/ 1829160 w 182880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c7e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6" name="燕尾形 117"/>
          <p:cNvSpPr/>
          <p:nvPr/>
        </p:nvSpPr>
        <p:spPr>
          <a:xfrm rot="10800000">
            <a:off x="2128320" y="5174640"/>
            <a:ext cx="8488440" cy="896760"/>
          </a:xfrm>
          <a:custGeom>
            <a:avLst/>
            <a:gdLst>
              <a:gd name="textAreaLeft" fmla="*/ 0 w 8488440"/>
              <a:gd name="textAreaRight" fmla="*/ 8488440 w 8488440"/>
              <a:gd name="textAreaTop" fmla="*/ 0 h 896760"/>
              <a:gd name="textAreaBottom" fmla="*/ 897120 h 896760"/>
            </a:gdLst>
            <a:ahLst/>
            <a:rect l="textAreaLeft" t="textAreaTop" r="textAreaRight" b="textAreaBottom"/>
            <a:pathLst>
              <a:path w="21600" h="21600">
                <a:moveTo>
                  <a:pt x="0" y="0"/>
                </a:moveTo>
                <a:lnTo>
                  <a:pt x="20459" y="0"/>
                </a:lnTo>
                <a:lnTo>
                  <a:pt x="21600" y="10800"/>
                </a:lnTo>
                <a:lnTo>
                  <a:pt x="20459" y="21600"/>
                </a:lnTo>
                <a:lnTo>
                  <a:pt x="0" y="21600"/>
                </a:lnTo>
                <a:lnTo>
                  <a:pt x="1141" y="10800"/>
                </a:lnTo>
                <a:close/>
              </a:path>
            </a:pathLst>
          </a:custGeom>
          <a:no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7" name="文本框 118"/>
          <p:cNvSpPr/>
          <p:nvPr/>
        </p:nvSpPr>
        <p:spPr>
          <a:xfrm>
            <a:off x="1989000" y="2281320"/>
            <a:ext cx="828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Review the classification of phonemes, listen to </a:t>
            </a:r>
            <a:r>
              <a:rPr b="0" i="1" lang="en-US" sz="1600" spc="-1" strike="noStrike">
                <a:solidFill>
                  <a:srgbClr val="404040"/>
                </a:solidFill>
                <a:latin typeface="微软雅黑"/>
                <a:ea typeface="微软雅黑"/>
              </a:rPr>
              <a:t>Edelweiss.</a:t>
            </a:r>
            <a:endParaRPr b="0" lang="en-US" sz="1600" spc="-1" strike="noStrike">
              <a:solidFill>
                <a:srgbClr val="000000"/>
              </a:solidFill>
              <a:latin typeface="等线"/>
            </a:endParaRPr>
          </a:p>
        </p:txBody>
      </p:sp>
      <p:sp>
        <p:nvSpPr>
          <p:cNvPr id="58" name="文本框 119"/>
          <p:cNvSpPr/>
          <p:nvPr/>
        </p:nvSpPr>
        <p:spPr>
          <a:xfrm>
            <a:off x="2050920" y="1879560"/>
            <a:ext cx="192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微软雅黑"/>
                <a:ea typeface="微软雅黑"/>
              </a:rPr>
              <a:t>Warming-up</a:t>
            </a:r>
            <a:endParaRPr b="0" lang="en-US" sz="2000" spc="-1" strike="noStrike">
              <a:solidFill>
                <a:srgbClr val="000000"/>
              </a:solidFill>
              <a:latin typeface="等线"/>
            </a:endParaRPr>
          </a:p>
        </p:txBody>
      </p:sp>
      <p:sp>
        <p:nvSpPr>
          <p:cNvPr id="59" name="文本框 120"/>
          <p:cNvSpPr/>
          <p:nvPr/>
        </p:nvSpPr>
        <p:spPr>
          <a:xfrm>
            <a:off x="2075040" y="4532400"/>
            <a:ext cx="828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05050"/>
                </a:solidFill>
                <a:latin typeface="微软雅黑"/>
                <a:ea typeface="微软雅黑"/>
              </a:rPr>
              <a:t>Summarize the phonics rules of back vowels and pactice the rules.</a:t>
            </a:r>
            <a:endParaRPr b="0" lang="en-US" sz="1600" spc="-1" strike="noStrike">
              <a:solidFill>
                <a:srgbClr val="000000"/>
              </a:solidFill>
              <a:latin typeface="等线"/>
            </a:endParaRPr>
          </a:p>
        </p:txBody>
      </p:sp>
      <p:sp>
        <p:nvSpPr>
          <p:cNvPr id="60" name="文本框 121"/>
          <p:cNvSpPr/>
          <p:nvPr/>
        </p:nvSpPr>
        <p:spPr>
          <a:xfrm>
            <a:off x="2050920" y="4114800"/>
            <a:ext cx="307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5050"/>
                </a:solidFill>
                <a:latin typeface="微软雅黑"/>
                <a:ea typeface="微软雅黑"/>
              </a:rPr>
              <a:t>“</a:t>
            </a:r>
            <a:r>
              <a:rPr b="1" lang="en-US" sz="2000" spc="-1" strike="noStrike">
                <a:solidFill>
                  <a:srgbClr val="505050"/>
                </a:solidFill>
                <a:latin typeface="微软雅黑"/>
                <a:ea typeface="微软雅黑"/>
              </a:rPr>
              <a:t>Phonics Time”</a:t>
            </a:r>
            <a:endParaRPr b="0" lang="en-US" sz="2000" spc="-1" strike="noStrike">
              <a:solidFill>
                <a:srgbClr val="000000"/>
              </a:solidFill>
              <a:latin typeface="等线"/>
            </a:endParaRPr>
          </a:p>
        </p:txBody>
      </p:sp>
      <p:sp>
        <p:nvSpPr>
          <p:cNvPr id="61" name="文本框 122"/>
          <p:cNvSpPr/>
          <p:nvPr/>
        </p:nvSpPr>
        <p:spPr>
          <a:xfrm>
            <a:off x="2925720" y="3462480"/>
            <a:ext cx="828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05050"/>
                </a:solidFill>
                <a:latin typeface="微软雅黑"/>
                <a:ea typeface="微软雅黑"/>
              </a:rPr>
              <a:t>Pronunciation mechamism of each back vowel, distinguish the similar ones.</a:t>
            </a:r>
            <a:endParaRPr b="0" lang="en-US" sz="1600" spc="-1" strike="noStrike">
              <a:solidFill>
                <a:srgbClr val="000000"/>
              </a:solidFill>
              <a:latin typeface="等线"/>
            </a:endParaRPr>
          </a:p>
        </p:txBody>
      </p:sp>
      <p:sp>
        <p:nvSpPr>
          <p:cNvPr id="62" name="文本框 124"/>
          <p:cNvSpPr/>
          <p:nvPr/>
        </p:nvSpPr>
        <p:spPr>
          <a:xfrm>
            <a:off x="4967280" y="2970360"/>
            <a:ext cx="539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5050"/>
                </a:solidFill>
                <a:latin typeface="微软雅黑"/>
                <a:ea typeface="微软雅黑"/>
              </a:rPr>
              <a:t>Pronunciation Features of Back Vowels </a:t>
            </a:r>
            <a:endParaRPr b="0" lang="en-US" sz="2000" spc="-1" strike="noStrike">
              <a:solidFill>
                <a:srgbClr val="000000"/>
              </a:solidFill>
              <a:latin typeface="等线"/>
            </a:endParaRPr>
          </a:p>
        </p:txBody>
      </p:sp>
      <p:sp>
        <p:nvSpPr>
          <p:cNvPr id="63" name="文本框 125"/>
          <p:cNvSpPr/>
          <p:nvPr/>
        </p:nvSpPr>
        <p:spPr>
          <a:xfrm>
            <a:off x="7408800" y="5272200"/>
            <a:ext cx="34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5050"/>
                </a:solidFill>
                <a:latin typeface="微软雅黑"/>
                <a:ea typeface="微软雅黑"/>
              </a:rPr>
              <a:t>Games &amp; Activities</a:t>
            </a:r>
            <a:endParaRPr b="0" lang="en-US" sz="2000" spc="-1" strike="noStrike">
              <a:solidFill>
                <a:srgbClr val="000000"/>
              </a:solidFill>
              <a:latin typeface="等线"/>
            </a:endParaRPr>
          </a:p>
        </p:txBody>
      </p:sp>
      <p:sp>
        <p:nvSpPr>
          <p:cNvPr id="64" name="AutoShape 115"/>
          <p:cNvSpPr/>
          <p:nvPr/>
        </p:nvSpPr>
        <p:spPr>
          <a:xfrm>
            <a:off x="739800" y="1917720"/>
            <a:ext cx="565200" cy="620640"/>
          </a:xfrm>
          <a:custGeom>
            <a:avLst/>
            <a:gdLst/>
            <a:ahLst/>
            <a:rect l="l" t="t" r="r" b="b"/>
            <a:pathLst>
              <a:path w="21599" h="21599">
                <a:moveTo>
                  <a:pt x="21357" y="18801"/>
                </a:moveTo>
                <a:cubicBezTo>
                  <a:pt x="21518" y="18965"/>
                  <a:pt x="21599" y="19177"/>
                  <a:pt x="21599" y="19436"/>
                </a:cubicBezTo>
                <a:cubicBezTo>
                  <a:pt x="21599" y="19580"/>
                  <a:pt x="21518" y="19775"/>
                  <a:pt x="21357" y="20018"/>
                </a:cubicBezTo>
                <a:cubicBezTo>
                  <a:pt x="21193" y="20261"/>
                  <a:pt x="20989" y="20504"/>
                  <a:pt x="20746" y="20741"/>
                </a:cubicBezTo>
                <a:cubicBezTo>
                  <a:pt x="20503" y="20978"/>
                  <a:pt x="20260" y="21184"/>
                  <a:pt x="20023" y="21348"/>
                </a:cubicBezTo>
                <a:cubicBezTo>
                  <a:pt x="19783" y="21518"/>
                  <a:pt x="19593" y="21599"/>
                  <a:pt x="19447" y="21599"/>
                </a:cubicBezTo>
                <a:cubicBezTo>
                  <a:pt x="19189" y="21599"/>
                  <a:pt x="18975" y="21515"/>
                  <a:pt x="18811" y="21343"/>
                </a:cubicBezTo>
                <a:lnTo>
                  <a:pt x="13957" y="16502"/>
                </a:lnTo>
                <a:cubicBezTo>
                  <a:pt x="13217" y="16980"/>
                  <a:pt x="12428" y="17350"/>
                  <a:pt x="11589" y="17604"/>
                </a:cubicBezTo>
                <a:cubicBezTo>
                  <a:pt x="10750" y="17864"/>
                  <a:pt x="9891" y="17991"/>
                  <a:pt x="9007" y="17991"/>
                </a:cubicBezTo>
                <a:cubicBezTo>
                  <a:pt x="7769" y="17991"/>
                  <a:pt x="6608" y="17759"/>
                  <a:pt x="5517" y="17290"/>
                </a:cubicBezTo>
                <a:cubicBezTo>
                  <a:pt x="4427" y="16822"/>
                  <a:pt x="3469" y="16175"/>
                  <a:pt x="2644" y="15353"/>
                </a:cubicBezTo>
                <a:cubicBezTo>
                  <a:pt x="1816" y="14534"/>
                  <a:pt x="1172" y="13580"/>
                  <a:pt x="700" y="12487"/>
                </a:cubicBezTo>
                <a:cubicBezTo>
                  <a:pt x="231" y="11400"/>
                  <a:pt x="0" y="10236"/>
                  <a:pt x="0" y="8999"/>
                </a:cubicBezTo>
                <a:cubicBezTo>
                  <a:pt x="0" y="7768"/>
                  <a:pt x="231" y="6602"/>
                  <a:pt x="700" y="5515"/>
                </a:cubicBezTo>
                <a:cubicBezTo>
                  <a:pt x="1169" y="4422"/>
                  <a:pt x="1816" y="3467"/>
                  <a:pt x="2644" y="2645"/>
                </a:cubicBezTo>
                <a:cubicBezTo>
                  <a:pt x="3469" y="1827"/>
                  <a:pt x="4424" y="1180"/>
                  <a:pt x="5512" y="708"/>
                </a:cubicBezTo>
                <a:cubicBezTo>
                  <a:pt x="6600" y="237"/>
                  <a:pt x="7764" y="0"/>
                  <a:pt x="9007" y="0"/>
                </a:cubicBezTo>
                <a:cubicBezTo>
                  <a:pt x="10244" y="0"/>
                  <a:pt x="11403" y="237"/>
                  <a:pt x="12488" y="708"/>
                </a:cubicBezTo>
                <a:cubicBezTo>
                  <a:pt x="13573" y="1180"/>
                  <a:pt x="14530" y="1827"/>
                  <a:pt x="15358" y="2645"/>
                </a:cubicBezTo>
                <a:cubicBezTo>
                  <a:pt x="16183" y="3467"/>
                  <a:pt x="16830" y="4422"/>
                  <a:pt x="17299" y="5515"/>
                </a:cubicBezTo>
                <a:cubicBezTo>
                  <a:pt x="17768" y="6602"/>
                  <a:pt x="18003" y="7768"/>
                  <a:pt x="18003" y="8999"/>
                </a:cubicBezTo>
                <a:cubicBezTo>
                  <a:pt x="18003" y="9886"/>
                  <a:pt x="17873" y="10747"/>
                  <a:pt x="17616" y="11589"/>
                </a:cubicBezTo>
                <a:cubicBezTo>
                  <a:pt x="17359" y="12433"/>
                  <a:pt x="16991" y="13218"/>
                  <a:pt x="16514" y="13947"/>
                </a:cubicBezTo>
                <a:lnTo>
                  <a:pt x="21357" y="18801"/>
                </a:lnTo>
                <a:close/>
                <a:moveTo>
                  <a:pt x="3596" y="8999"/>
                </a:moveTo>
                <a:cubicBezTo>
                  <a:pt x="3596" y="9759"/>
                  <a:pt x="3740" y="10465"/>
                  <a:pt x="4028" y="11117"/>
                </a:cubicBezTo>
                <a:cubicBezTo>
                  <a:pt x="4317" y="11770"/>
                  <a:pt x="4707" y="12337"/>
                  <a:pt x="5193" y="12820"/>
                </a:cubicBezTo>
                <a:cubicBezTo>
                  <a:pt x="5679" y="13300"/>
                  <a:pt x="6252" y="13684"/>
                  <a:pt x="6908" y="13969"/>
                </a:cubicBezTo>
                <a:cubicBezTo>
                  <a:pt x="7566" y="14252"/>
                  <a:pt x="8264" y="14393"/>
                  <a:pt x="9004" y="14393"/>
                </a:cubicBezTo>
                <a:cubicBezTo>
                  <a:pt x="9744" y="14393"/>
                  <a:pt x="10439" y="14252"/>
                  <a:pt x="11092" y="13969"/>
                </a:cubicBezTo>
                <a:cubicBezTo>
                  <a:pt x="11745" y="13684"/>
                  <a:pt x="12318" y="13300"/>
                  <a:pt x="12801" y="12820"/>
                </a:cubicBezTo>
                <a:cubicBezTo>
                  <a:pt x="13290" y="12337"/>
                  <a:pt x="13677" y="11770"/>
                  <a:pt x="13965" y="11117"/>
                </a:cubicBezTo>
                <a:cubicBezTo>
                  <a:pt x="14254" y="10465"/>
                  <a:pt x="14398" y="9759"/>
                  <a:pt x="14398" y="8999"/>
                </a:cubicBezTo>
                <a:cubicBezTo>
                  <a:pt x="14398" y="8259"/>
                  <a:pt x="14254" y="7565"/>
                  <a:pt x="13965" y="6912"/>
                </a:cubicBezTo>
                <a:cubicBezTo>
                  <a:pt x="13674" y="6257"/>
                  <a:pt x="13290" y="5684"/>
                  <a:pt x="12801" y="5192"/>
                </a:cubicBezTo>
                <a:cubicBezTo>
                  <a:pt x="12315" y="4704"/>
                  <a:pt x="11745" y="4317"/>
                  <a:pt x="11092" y="4032"/>
                </a:cubicBezTo>
                <a:cubicBezTo>
                  <a:pt x="10439" y="3749"/>
                  <a:pt x="9741" y="3605"/>
                  <a:pt x="9004" y="3605"/>
                </a:cubicBezTo>
                <a:cubicBezTo>
                  <a:pt x="8267" y="3605"/>
                  <a:pt x="7566" y="3749"/>
                  <a:pt x="6908" y="4032"/>
                </a:cubicBezTo>
                <a:cubicBezTo>
                  <a:pt x="6252" y="4317"/>
                  <a:pt x="5676" y="4704"/>
                  <a:pt x="5193" y="5192"/>
                </a:cubicBezTo>
                <a:cubicBezTo>
                  <a:pt x="4707" y="5684"/>
                  <a:pt x="4317" y="6257"/>
                  <a:pt x="4028" y="6912"/>
                </a:cubicBezTo>
                <a:cubicBezTo>
                  <a:pt x="3740" y="7565"/>
                  <a:pt x="3596" y="8256"/>
                  <a:pt x="3596" y="8999"/>
                </a:cubicBezTo>
                <a:moveTo>
                  <a:pt x="9007" y="5591"/>
                </a:moveTo>
                <a:cubicBezTo>
                  <a:pt x="9185" y="5591"/>
                  <a:pt x="9343" y="5656"/>
                  <a:pt x="9473" y="5785"/>
                </a:cubicBezTo>
                <a:cubicBezTo>
                  <a:pt x="9603" y="5918"/>
                  <a:pt x="9668" y="6082"/>
                  <a:pt x="9668" y="6279"/>
                </a:cubicBezTo>
                <a:cubicBezTo>
                  <a:pt x="9668" y="6460"/>
                  <a:pt x="9603" y="6616"/>
                  <a:pt x="9473" y="6745"/>
                </a:cubicBezTo>
                <a:cubicBezTo>
                  <a:pt x="9343" y="6878"/>
                  <a:pt x="9185" y="6943"/>
                  <a:pt x="9007" y="6943"/>
                </a:cubicBezTo>
                <a:cubicBezTo>
                  <a:pt x="8439" y="6943"/>
                  <a:pt x="7953" y="7144"/>
                  <a:pt x="7552" y="7536"/>
                </a:cubicBezTo>
                <a:cubicBezTo>
                  <a:pt x="7151" y="7934"/>
                  <a:pt x="6950" y="8423"/>
                  <a:pt x="6950" y="8996"/>
                </a:cubicBezTo>
                <a:cubicBezTo>
                  <a:pt x="6950" y="9180"/>
                  <a:pt x="6885" y="9332"/>
                  <a:pt x="6755" y="9465"/>
                </a:cubicBezTo>
                <a:cubicBezTo>
                  <a:pt x="6622" y="9595"/>
                  <a:pt x="6467" y="9657"/>
                  <a:pt x="6289" y="9657"/>
                </a:cubicBezTo>
                <a:cubicBezTo>
                  <a:pt x="6080" y="9657"/>
                  <a:pt x="5913" y="9595"/>
                  <a:pt x="5786" y="9465"/>
                </a:cubicBezTo>
                <a:cubicBezTo>
                  <a:pt x="5659" y="9332"/>
                  <a:pt x="5599" y="9180"/>
                  <a:pt x="5599" y="8996"/>
                </a:cubicBezTo>
                <a:cubicBezTo>
                  <a:pt x="5599" y="8539"/>
                  <a:pt x="5684" y="8104"/>
                  <a:pt x="5862" y="7686"/>
                </a:cubicBezTo>
                <a:cubicBezTo>
                  <a:pt x="6037" y="7271"/>
                  <a:pt x="6280" y="6907"/>
                  <a:pt x="6597" y="6590"/>
                </a:cubicBezTo>
                <a:cubicBezTo>
                  <a:pt x="6905" y="6277"/>
                  <a:pt x="7264" y="6028"/>
                  <a:pt x="7676" y="5856"/>
                </a:cubicBezTo>
                <a:cubicBezTo>
                  <a:pt x="8086" y="5681"/>
                  <a:pt x="8529" y="5591"/>
                  <a:pt x="9007" y="5591"/>
                </a:cubicBezTo>
              </a:path>
            </a:pathLst>
          </a:custGeom>
          <a:solidFill>
            <a:srgbClr val="f9f9f9"/>
          </a:solidFill>
          <a:ln w="0">
            <a:noFill/>
          </a:ln>
        </p:spPr>
        <p:style>
          <a:lnRef idx="0"/>
          <a:fillRef idx="0"/>
          <a:effectRef idx="0"/>
          <a:fontRef idx="minor"/>
        </p:style>
        <p:txBody>
          <a:bodyPr lIns="101520" rIns="101520" tIns="101520" bIns="10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5" name="AutoShape 29"/>
          <p:cNvSpPr/>
          <p:nvPr/>
        </p:nvSpPr>
        <p:spPr>
          <a:xfrm>
            <a:off x="804960" y="4229280"/>
            <a:ext cx="566640" cy="568080"/>
          </a:xfrm>
          <a:custGeom>
            <a:avLst/>
            <a:gdLst/>
            <a:ahLst/>
            <a:rect l="l" t="t" r="r" b="b"/>
            <a:pathLst>
              <a:path w="21599" h="21599">
                <a:moveTo>
                  <a:pt x="3598" y="2167"/>
                </a:moveTo>
                <a:cubicBezTo>
                  <a:pt x="3598" y="2549"/>
                  <a:pt x="3517" y="2902"/>
                  <a:pt x="3358" y="3213"/>
                </a:cubicBezTo>
                <a:cubicBezTo>
                  <a:pt x="3197" y="3525"/>
                  <a:pt x="2981" y="3792"/>
                  <a:pt x="2707" y="4006"/>
                </a:cubicBezTo>
                <a:lnTo>
                  <a:pt x="2707" y="21050"/>
                </a:lnTo>
                <a:cubicBezTo>
                  <a:pt x="2707" y="21203"/>
                  <a:pt x="2663" y="21329"/>
                  <a:pt x="2580" y="21438"/>
                </a:cubicBezTo>
                <a:cubicBezTo>
                  <a:pt x="2492" y="21547"/>
                  <a:pt x="2386" y="21599"/>
                  <a:pt x="2262" y="21599"/>
                </a:cubicBezTo>
                <a:lnTo>
                  <a:pt x="1348" y="21599"/>
                </a:lnTo>
                <a:cubicBezTo>
                  <a:pt x="1221" y="21599"/>
                  <a:pt x="1118" y="21544"/>
                  <a:pt x="1038" y="21438"/>
                </a:cubicBezTo>
                <a:cubicBezTo>
                  <a:pt x="954" y="21329"/>
                  <a:pt x="913" y="21203"/>
                  <a:pt x="913" y="21050"/>
                </a:cubicBezTo>
                <a:lnTo>
                  <a:pt x="913" y="4006"/>
                </a:lnTo>
                <a:cubicBezTo>
                  <a:pt x="641" y="3792"/>
                  <a:pt x="421" y="3525"/>
                  <a:pt x="252" y="3213"/>
                </a:cubicBezTo>
                <a:cubicBezTo>
                  <a:pt x="83" y="2902"/>
                  <a:pt x="0" y="2549"/>
                  <a:pt x="0" y="2167"/>
                </a:cubicBezTo>
                <a:cubicBezTo>
                  <a:pt x="0" y="1574"/>
                  <a:pt x="176" y="1069"/>
                  <a:pt x="528" y="640"/>
                </a:cubicBezTo>
                <a:cubicBezTo>
                  <a:pt x="878" y="211"/>
                  <a:pt x="1304" y="0"/>
                  <a:pt x="1804" y="0"/>
                </a:cubicBezTo>
                <a:cubicBezTo>
                  <a:pt x="2296" y="0"/>
                  <a:pt x="2719" y="211"/>
                  <a:pt x="3069" y="640"/>
                </a:cubicBezTo>
                <a:cubicBezTo>
                  <a:pt x="3422" y="1069"/>
                  <a:pt x="3598" y="1571"/>
                  <a:pt x="3598" y="2167"/>
                </a:cubicBezTo>
                <a:moveTo>
                  <a:pt x="20838" y="2476"/>
                </a:moveTo>
                <a:cubicBezTo>
                  <a:pt x="21063" y="2323"/>
                  <a:pt x="21247" y="2297"/>
                  <a:pt x="21389" y="2391"/>
                </a:cubicBezTo>
                <a:cubicBezTo>
                  <a:pt x="21529" y="2485"/>
                  <a:pt x="21599" y="2684"/>
                  <a:pt x="21599" y="2996"/>
                </a:cubicBezTo>
                <a:lnTo>
                  <a:pt x="21599" y="13515"/>
                </a:lnTo>
                <a:cubicBezTo>
                  <a:pt x="21599" y="13803"/>
                  <a:pt x="21526" y="14106"/>
                  <a:pt x="21382" y="14420"/>
                </a:cubicBezTo>
                <a:cubicBezTo>
                  <a:pt x="21237" y="14737"/>
                  <a:pt x="21056" y="14966"/>
                  <a:pt x="20838" y="15119"/>
                </a:cubicBezTo>
                <a:cubicBezTo>
                  <a:pt x="19954" y="15757"/>
                  <a:pt x="19146" y="16165"/>
                  <a:pt x="18412" y="16350"/>
                </a:cubicBezTo>
                <a:cubicBezTo>
                  <a:pt x="17678" y="16529"/>
                  <a:pt x="17036" y="16606"/>
                  <a:pt x="16490" y="16567"/>
                </a:cubicBezTo>
                <a:cubicBezTo>
                  <a:pt x="15849" y="16526"/>
                  <a:pt x="15281" y="16371"/>
                  <a:pt x="14791" y="16103"/>
                </a:cubicBezTo>
                <a:cubicBezTo>
                  <a:pt x="14392" y="15851"/>
                  <a:pt x="14003" y="15607"/>
                  <a:pt x="13623" y="15378"/>
                </a:cubicBezTo>
                <a:cubicBezTo>
                  <a:pt x="13244" y="15146"/>
                  <a:pt x="12857" y="14946"/>
                  <a:pt x="12458" y="14773"/>
                </a:cubicBezTo>
                <a:cubicBezTo>
                  <a:pt x="12059" y="14599"/>
                  <a:pt x="11640" y="14461"/>
                  <a:pt x="11197" y="14358"/>
                </a:cubicBezTo>
                <a:cubicBezTo>
                  <a:pt x="10757" y="14256"/>
                  <a:pt x="10269" y="14203"/>
                  <a:pt x="9738" y="14203"/>
                </a:cubicBezTo>
                <a:cubicBezTo>
                  <a:pt x="9310" y="14220"/>
                  <a:pt x="8825" y="14306"/>
                  <a:pt x="8286" y="14455"/>
                </a:cubicBezTo>
                <a:cubicBezTo>
                  <a:pt x="7824" y="14588"/>
                  <a:pt x="7266" y="14799"/>
                  <a:pt x="6605" y="15090"/>
                </a:cubicBezTo>
                <a:cubicBezTo>
                  <a:pt x="5944" y="15381"/>
                  <a:pt x="5207" y="15792"/>
                  <a:pt x="4394" y="16327"/>
                </a:cubicBezTo>
                <a:cubicBezTo>
                  <a:pt x="4169" y="16476"/>
                  <a:pt x="3978" y="16494"/>
                  <a:pt x="3826" y="16382"/>
                </a:cubicBezTo>
                <a:cubicBezTo>
                  <a:pt x="3674" y="16268"/>
                  <a:pt x="3598" y="16059"/>
                  <a:pt x="3598" y="15751"/>
                </a:cubicBezTo>
                <a:lnTo>
                  <a:pt x="3598" y="5273"/>
                </a:lnTo>
                <a:cubicBezTo>
                  <a:pt x="3598" y="4964"/>
                  <a:pt x="3674" y="4653"/>
                  <a:pt x="3826" y="4347"/>
                </a:cubicBezTo>
                <a:cubicBezTo>
                  <a:pt x="3978" y="4036"/>
                  <a:pt x="4169" y="3807"/>
                  <a:pt x="4394" y="3654"/>
                </a:cubicBezTo>
                <a:cubicBezTo>
                  <a:pt x="5207" y="3143"/>
                  <a:pt x="5941" y="2737"/>
                  <a:pt x="6597" y="2447"/>
                </a:cubicBezTo>
                <a:cubicBezTo>
                  <a:pt x="7253" y="2156"/>
                  <a:pt x="7816" y="1944"/>
                  <a:pt x="8286" y="1812"/>
                </a:cubicBezTo>
                <a:cubicBezTo>
                  <a:pt x="8832" y="1665"/>
                  <a:pt x="9317" y="1580"/>
                  <a:pt x="9738" y="1559"/>
                </a:cubicBezTo>
                <a:cubicBezTo>
                  <a:pt x="10269" y="1559"/>
                  <a:pt x="10757" y="1612"/>
                  <a:pt x="11197" y="1715"/>
                </a:cubicBezTo>
                <a:cubicBezTo>
                  <a:pt x="11640" y="1818"/>
                  <a:pt x="12059" y="1956"/>
                  <a:pt x="12458" y="2135"/>
                </a:cubicBezTo>
                <a:cubicBezTo>
                  <a:pt x="12857" y="2306"/>
                  <a:pt x="13242" y="2508"/>
                  <a:pt x="13619" y="2737"/>
                </a:cubicBezTo>
                <a:cubicBezTo>
                  <a:pt x="13993" y="2967"/>
                  <a:pt x="14385" y="3207"/>
                  <a:pt x="14791" y="3463"/>
                </a:cubicBezTo>
                <a:cubicBezTo>
                  <a:pt x="15281" y="3736"/>
                  <a:pt x="15849" y="3889"/>
                  <a:pt x="16490" y="3924"/>
                </a:cubicBezTo>
                <a:cubicBezTo>
                  <a:pt x="17036" y="3965"/>
                  <a:pt x="17678" y="3889"/>
                  <a:pt x="18412" y="3707"/>
                </a:cubicBezTo>
                <a:cubicBezTo>
                  <a:pt x="19146" y="3522"/>
                  <a:pt x="19957" y="3113"/>
                  <a:pt x="20838" y="2476"/>
                </a:cubicBezTo>
              </a:path>
            </a:pathLst>
          </a:custGeom>
          <a:solidFill>
            <a:srgbClr val="f7f7f7"/>
          </a:solidFill>
          <a:ln w="0">
            <a:noFill/>
          </a:ln>
        </p:spPr>
        <p:style>
          <a:lnRef idx="0"/>
          <a:fillRef idx="0"/>
          <a:effectRef idx="0"/>
          <a:fontRef idx="minor"/>
        </p:style>
        <p:txBody>
          <a:bodyPr lIns="101520" rIns="101520" tIns="101520" bIns="10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66" name="Group 2" descr=""/>
          <p:cNvPicPr/>
          <p:nvPr/>
        </p:nvPicPr>
        <p:blipFill>
          <a:blip r:embed="rId1"/>
          <a:stretch/>
        </p:blipFill>
        <p:spPr>
          <a:xfrm>
            <a:off x="11111040" y="2970360"/>
            <a:ext cx="603000" cy="591840"/>
          </a:xfrm>
          <a:prstGeom prst="rect">
            <a:avLst/>
          </a:prstGeom>
          <a:ln w="0">
            <a:noFill/>
          </a:ln>
        </p:spPr>
      </p:pic>
      <p:pic>
        <p:nvPicPr>
          <p:cNvPr id="67" name="Group 587" descr=""/>
          <p:cNvPicPr/>
          <p:nvPr/>
        </p:nvPicPr>
        <p:blipFill>
          <a:blip r:embed="rId2"/>
          <a:stretch/>
        </p:blipFill>
        <p:spPr>
          <a:xfrm>
            <a:off x="11123640" y="5343480"/>
            <a:ext cx="635040" cy="566640"/>
          </a:xfrm>
          <a:prstGeom prst="rect">
            <a:avLst/>
          </a:prstGeom>
          <a:ln w="0">
            <a:noFill/>
          </a:ln>
        </p:spPr>
      </p:pic>
      <p:grpSp>
        <p:nvGrpSpPr>
          <p:cNvPr id="68" name="组合 4"/>
          <p:cNvGrpSpPr/>
          <p:nvPr/>
        </p:nvGrpSpPr>
        <p:grpSpPr>
          <a:xfrm>
            <a:off x="9205920" y="1936800"/>
            <a:ext cx="554040" cy="957960"/>
            <a:chOff x="9205920" y="1936800"/>
            <a:chExt cx="554040" cy="957960"/>
          </a:xfrm>
        </p:grpSpPr>
        <p:sp>
          <p:nvSpPr>
            <p:cNvPr id="69" name="椭圆 3"/>
            <p:cNvSpPr/>
            <p:nvPr/>
          </p:nvSpPr>
          <p:spPr>
            <a:xfrm>
              <a:off x="9205920" y="1936800"/>
              <a:ext cx="554040" cy="555480"/>
            </a:xfrm>
            <a:prstGeom prst="ellipse">
              <a:avLst/>
            </a:prstGeom>
            <a:noFill/>
            <a:ln w="12600">
              <a:solidFill>
                <a:srgbClr val="505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0" name="文本框 142"/>
            <p:cNvSpPr/>
            <p:nvPr/>
          </p:nvSpPr>
          <p:spPr>
            <a:xfrm>
              <a:off x="9229320" y="1947600"/>
              <a:ext cx="530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Impact"/>
                  <a:ea typeface="微软雅黑"/>
                </a:rPr>
                <a:t>01</a:t>
              </a:r>
              <a:endParaRPr b="0" lang="en-US" sz="2800" spc="-1" strike="noStrike">
                <a:solidFill>
                  <a:srgbClr val="000000"/>
                </a:solidFill>
                <a:latin typeface="等线"/>
              </a:endParaRPr>
            </a:p>
          </p:txBody>
        </p:sp>
      </p:grpSp>
      <p:grpSp>
        <p:nvGrpSpPr>
          <p:cNvPr id="71" name="组合 143"/>
          <p:cNvGrpSpPr/>
          <p:nvPr/>
        </p:nvGrpSpPr>
        <p:grpSpPr>
          <a:xfrm>
            <a:off x="2376360" y="3111480"/>
            <a:ext cx="635040" cy="555480"/>
            <a:chOff x="2376360" y="3111480"/>
            <a:chExt cx="635040" cy="555480"/>
          </a:xfrm>
        </p:grpSpPr>
        <p:sp>
          <p:nvSpPr>
            <p:cNvPr id="72" name="椭圆 144"/>
            <p:cNvSpPr/>
            <p:nvPr/>
          </p:nvSpPr>
          <p:spPr>
            <a:xfrm>
              <a:off x="2376360" y="3111480"/>
              <a:ext cx="555840" cy="555480"/>
            </a:xfrm>
            <a:prstGeom prst="ellipse">
              <a:avLst/>
            </a:prstGeom>
            <a:noFill/>
            <a:ln w="12600">
              <a:solidFill>
                <a:srgbClr val="505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3" name="文本框 145"/>
            <p:cNvSpPr/>
            <p:nvPr/>
          </p:nvSpPr>
          <p:spPr>
            <a:xfrm>
              <a:off x="2399760" y="3122280"/>
              <a:ext cx="6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Impact"/>
                  <a:ea typeface="微软雅黑"/>
                </a:rPr>
                <a:t>02</a:t>
              </a:r>
              <a:endParaRPr b="0" lang="en-US" sz="2800" spc="-1" strike="noStrike">
                <a:solidFill>
                  <a:srgbClr val="000000"/>
                </a:solidFill>
                <a:latin typeface="等线"/>
              </a:endParaRPr>
            </a:p>
          </p:txBody>
        </p:sp>
      </p:grpSp>
      <p:grpSp>
        <p:nvGrpSpPr>
          <p:cNvPr id="74" name="组合 146"/>
          <p:cNvGrpSpPr/>
          <p:nvPr/>
        </p:nvGrpSpPr>
        <p:grpSpPr>
          <a:xfrm>
            <a:off x="2411280" y="5384880"/>
            <a:ext cx="621000" cy="554040"/>
            <a:chOff x="2411280" y="5384880"/>
            <a:chExt cx="621000" cy="554040"/>
          </a:xfrm>
        </p:grpSpPr>
        <p:sp>
          <p:nvSpPr>
            <p:cNvPr id="75" name="椭圆 147"/>
            <p:cNvSpPr/>
            <p:nvPr/>
          </p:nvSpPr>
          <p:spPr>
            <a:xfrm>
              <a:off x="2417400" y="5384880"/>
              <a:ext cx="556200" cy="554040"/>
            </a:xfrm>
            <a:prstGeom prst="ellipse">
              <a:avLst/>
            </a:prstGeom>
            <a:noFill/>
            <a:ln w="12600">
              <a:solidFill>
                <a:srgbClr val="505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6" name="文本框 148"/>
            <p:cNvSpPr/>
            <p:nvPr/>
          </p:nvSpPr>
          <p:spPr>
            <a:xfrm>
              <a:off x="2411280" y="5412240"/>
              <a:ext cx="62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Impact"/>
                  <a:ea typeface="微软雅黑"/>
                </a:rPr>
                <a:t>04</a:t>
              </a:r>
              <a:endParaRPr b="0" lang="en-US" sz="2800" spc="-1" strike="noStrike">
                <a:solidFill>
                  <a:srgbClr val="000000"/>
                </a:solidFill>
                <a:latin typeface="等线"/>
              </a:endParaRPr>
            </a:p>
          </p:txBody>
        </p:sp>
      </p:grpSp>
      <p:grpSp>
        <p:nvGrpSpPr>
          <p:cNvPr id="77" name="组合 149"/>
          <p:cNvGrpSpPr/>
          <p:nvPr/>
        </p:nvGrpSpPr>
        <p:grpSpPr>
          <a:xfrm>
            <a:off x="9205920" y="4189320"/>
            <a:ext cx="777960" cy="555840"/>
            <a:chOff x="9205920" y="4189320"/>
            <a:chExt cx="777960" cy="555840"/>
          </a:xfrm>
        </p:grpSpPr>
        <p:sp>
          <p:nvSpPr>
            <p:cNvPr id="78" name="椭圆 150"/>
            <p:cNvSpPr/>
            <p:nvPr/>
          </p:nvSpPr>
          <p:spPr>
            <a:xfrm>
              <a:off x="9205920" y="4189320"/>
              <a:ext cx="555840" cy="555840"/>
            </a:xfrm>
            <a:prstGeom prst="ellipse">
              <a:avLst/>
            </a:prstGeom>
            <a:noFill/>
            <a:ln w="12600">
              <a:solidFill>
                <a:srgbClr val="505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9" name="文本框 151"/>
            <p:cNvSpPr/>
            <p:nvPr/>
          </p:nvSpPr>
          <p:spPr>
            <a:xfrm>
              <a:off x="9229320" y="4200120"/>
              <a:ext cx="75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Impact"/>
                  <a:ea typeface="微软雅黑"/>
                </a:rPr>
                <a:t>03</a:t>
              </a:r>
              <a:endParaRPr b="0" lang="en-US" sz="2800" spc="-1" strike="noStrike">
                <a:solidFill>
                  <a:srgbClr val="000000"/>
                </a:solidFill>
                <a:latin typeface="等线"/>
              </a:endParaRPr>
            </a:p>
          </p:txBody>
        </p:sp>
      </p:grpSp>
      <p:sp>
        <p:nvSpPr>
          <p:cNvPr id="80" name="矩形 51"/>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81" name="组合 52" descr=""/>
          <p:cNvPicPr/>
          <p:nvPr/>
        </p:nvPicPr>
        <p:blipFill>
          <a:blip r:embed="rId3"/>
          <a:stretch/>
        </p:blipFill>
        <p:spPr>
          <a:xfrm>
            <a:off x="237960" y="206280"/>
            <a:ext cx="578160" cy="576360"/>
          </a:xfrm>
          <a:prstGeom prst="rect">
            <a:avLst/>
          </a:prstGeom>
          <a:ln w="0">
            <a:noFill/>
          </a:ln>
        </p:spPr>
      </p:pic>
      <p:sp>
        <p:nvSpPr>
          <p:cNvPr id="82" name="文本框 25"/>
          <p:cNvSpPr/>
          <p:nvPr/>
        </p:nvSpPr>
        <p:spPr>
          <a:xfrm>
            <a:off x="903600" y="212760"/>
            <a:ext cx="202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Contents</a:t>
            </a:r>
            <a:endParaRPr b="0" lang="en-US" sz="3200" spc="-1" strike="noStrike">
              <a:solidFill>
                <a:srgbClr val="000000"/>
              </a:solidFill>
              <a:latin typeface="等线"/>
            </a:endParaRPr>
          </a:p>
        </p:txBody>
      </p:sp>
      <p:sp>
        <p:nvSpPr>
          <p:cNvPr id="83" name="文本框 4"/>
          <p:cNvSpPr/>
          <p:nvPr/>
        </p:nvSpPr>
        <p:spPr>
          <a:xfrm>
            <a:off x="3106800" y="5600880"/>
            <a:ext cx="828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05050"/>
                </a:solidFill>
                <a:latin typeface="微软雅黑"/>
                <a:ea typeface="微软雅黑"/>
              </a:rPr>
              <a:t>Read aloud the poems, tongue twisters and dialogues.</a:t>
            </a:r>
            <a:endParaRPr b="0" lang="en-US" sz="1600" spc="-1" strike="noStrike">
              <a:solidFill>
                <a:srgbClr val="000000"/>
              </a:solidFill>
              <a:latin typeface="等线"/>
            </a:endParaRPr>
          </a:p>
        </p:txBody>
      </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2">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1000"/>
                                        <p:tgtEl>
                                          <p:spTgt spid="57"/>
                                        </p:tgtEl>
                                      </p:cBhvr>
                                    </p:animEffect>
                                    <p:anim calcmode="lin" valueType="num">
                                      <p:cBhvr additive="repl">
                                        <p:cTn id="8" dur="1000" fill="hold"/>
                                        <p:tgtEl>
                                          <p:spTgt spid="57"/>
                                        </p:tgtEl>
                                        <p:attrNameLst>
                                          <p:attrName>ppt_x</p:attrName>
                                        </p:attrNameLst>
                                      </p:cBhvr>
                                      <p:tavLst>
                                        <p:tav tm="0">
                                          <p:val>
                                            <p:strVal val="#ppt_x"/>
                                          </p:val>
                                        </p:tav>
                                        <p:tav tm="100000">
                                          <p:val>
                                            <p:strVal val="#ppt_x"/>
                                          </p:val>
                                        </p:tav>
                                      </p:tavLst>
                                    </p:anim>
                                    <p:anim calcmode="lin" valueType="num">
                                      <p:cBhvr additive="repl">
                                        <p:cTn id="9" dur="1000" fill="hold"/>
                                        <p:tgtEl>
                                          <p:spTgt spid="57"/>
                                        </p:tgtEl>
                                        <p:attrNameLst>
                                          <p:attrName>ppt_y</p:attrName>
                                        </p:attrNameLst>
                                      </p:cBhvr>
                                      <p:tavLst>
                                        <p:tav tm="0">
                                          <p:val>
                                            <p:strVal val="#ppt_y+.1"/>
                                          </p:val>
                                        </p:tav>
                                        <p:tav tm="100000">
                                          <p:val>
                                            <p:strVal val="#ppt_y"/>
                                          </p:val>
                                        </p:tav>
                                      </p:tavLst>
                                    </p:anim>
                                  </p:childTnLst>
                                </p:cTn>
                              </p:par>
                              <p:par>
                                <p:cTn id="10" dur="indefinite" nodeType="withEffect" fill="hold" presetClass="entr" presetID="42">
                                  <p:stCondLst>
                                    <p:cond delay="0"/>
                                  </p:stCondLst>
                                  <p:childTnLst>
                                    <p:set>
                                      <p:cBhvr>
                                        <p:cTn id="11" dur="1" fill="hold">
                                          <p:stCondLst>
                                            <p:cond delay="0"/>
                                          </p:stCondLst>
                                        </p:cTn>
                                        <p:tgtEl>
                                          <p:spTgt spid="59"/>
                                        </p:tgtEl>
                                        <p:attrNameLst>
                                          <p:attrName>style.visibility</p:attrName>
                                        </p:attrNameLst>
                                      </p:cBhvr>
                                      <p:to>
                                        <p:strVal val="visible"/>
                                      </p:to>
                                    </p:set>
                                    <p:animEffect filter="fade" transition="in">
                                      <p:cBhvr additive="repl">
                                        <p:cTn id="12" dur="1000"/>
                                        <p:tgtEl>
                                          <p:spTgt spid="59"/>
                                        </p:tgtEl>
                                      </p:cBhvr>
                                    </p:animEffect>
                                    <p:anim calcmode="lin" valueType="num">
                                      <p:cBhvr additive="repl">
                                        <p:cTn id="13" dur="1000" fill="hold"/>
                                        <p:tgtEl>
                                          <p:spTgt spid="59"/>
                                        </p:tgtEl>
                                        <p:attrNameLst>
                                          <p:attrName>ppt_x</p:attrName>
                                        </p:attrNameLst>
                                      </p:cBhvr>
                                      <p:tavLst>
                                        <p:tav tm="0">
                                          <p:val>
                                            <p:strVal val="#ppt_x"/>
                                          </p:val>
                                        </p:tav>
                                        <p:tav tm="100000">
                                          <p:val>
                                            <p:strVal val="#ppt_x"/>
                                          </p:val>
                                        </p:tav>
                                      </p:tavLst>
                                    </p:anim>
                                    <p:anim calcmode="lin" valueType="num">
                                      <p:cBhvr additive="repl">
                                        <p:cTn id="14" dur="1000" fill="hold"/>
                                        <p:tgtEl>
                                          <p:spTgt spid="59"/>
                                        </p:tgtEl>
                                        <p:attrNameLst>
                                          <p:attrName>ppt_y</p:attrName>
                                        </p:attrNameLst>
                                      </p:cBhvr>
                                      <p:tavLst>
                                        <p:tav tm="0">
                                          <p:val>
                                            <p:strVal val="#ppt_y+.1"/>
                                          </p:val>
                                        </p:tav>
                                        <p:tav tm="100000">
                                          <p:val>
                                            <p:strVal val="#ppt_y"/>
                                          </p:val>
                                        </p:tav>
                                      </p:tavLst>
                                    </p:anim>
                                  </p:childTnLst>
                                </p:cTn>
                              </p:par>
                              <p:par>
                                <p:cTn id="15" dur="indefinite" nodeType="withEffect" fill="hold" presetClass="entr" presetID="42">
                                  <p:stCondLst>
                                    <p:cond delay="0"/>
                                  </p:stCondLst>
                                  <p:childTnLst>
                                    <p:set>
                                      <p:cBhvr>
                                        <p:cTn id="16" dur="1" fill="hold">
                                          <p:stCondLst>
                                            <p:cond delay="0"/>
                                          </p:stCondLst>
                                        </p:cTn>
                                        <p:tgtEl>
                                          <p:spTgt spid="61"/>
                                        </p:tgtEl>
                                        <p:attrNameLst>
                                          <p:attrName>style.visibility</p:attrName>
                                        </p:attrNameLst>
                                      </p:cBhvr>
                                      <p:to>
                                        <p:strVal val="visible"/>
                                      </p:to>
                                    </p:set>
                                    <p:animEffect filter="fade" transition="in">
                                      <p:cBhvr additive="repl">
                                        <p:cTn id="17" dur="1000"/>
                                        <p:tgtEl>
                                          <p:spTgt spid="61"/>
                                        </p:tgtEl>
                                      </p:cBhvr>
                                    </p:animEffect>
                                    <p:anim calcmode="lin" valueType="num">
                                      <p:cBhvr additive="repl">
                                        <p:cTn id="18" dur="1000" fill="hold"/>
                                        <p:tgtEl>
                                          <p:spTgt spid="61"/>
                                        </p:tgtEl>
                                        <p:attrNameLst>
                                          <p:attrName>ppt_x</p:attrName>
                                        </p:attrNameLst>
                                      </p:cBhvr>
                                      <p:tavLst>
                                        <p:tav tm="0">
                                          <p:val>
                                            <p:strVal val="#ppt_x"/>
                                          </p:val>
                                        </p:tav>
                                        <p:tav tm="100000">
                                          <p:val>
                                            <p:strVal val="#ppt_x"/>
                                          </p:val>
                                        </p:tav>
                                      </p:tavLst>
                                    </p:anim>
                                    <p:anim calcmode="lin" valueType="num">
                                      <p:cBhvr additive="repl">
                                        <p:cTn id="19" dur="1000" fill="hold"/>
                                        <p:tgtEl>
                                          <p:spTgt spid="61"/>
                                        </p:tgtEl>
                                        <p:attrNameLst>
                                          <p:attrName>ppt_y</p:attrName>
                                        </p:attrNameLst>
                                      </p:cBhvr>
                                      <p:tavLst>
                                        <p:tav tm="0">
                                          <p:val>
                                            <p:strVal val="#ppt_y+.1"/>
                                          </p:val>
                                        </p:tav>
                                        <p:tav tm="100000">
                                          <p:val>
                                            <p:strVal val="#ppt_y"/>
                                          </p:val>
                                        </p:tav>
                                      </p:tavLst>
                                    </p:anim>
                                  </p:childTnLst>
                                </p:cTn>
                              </p:par>
                              <p:par>
                                <p:cTn id="20" dur="indefinite" nodeType="withEffect" fill="hold" presetClass="entr" presetID="42">
                                  <p:stCondLst>
                                    <p:cond delay="0"/>
                                  </p:stCondLst>
                                  <p:childTnLst>
                                    <p:set>
                                      <p:cBhvr>
                                        <p:cTn id="21" dur="1" fill="hold">
                                          <p:stCondLst>
                                            <p:cond delay="0"/>
                                          </p:stCondLst>
                                        </p:cTn>
                                        <p:tgtEl>
                                          <p:spTgt spid="83"/>
                                        </p:tgtEl>
                                        <p:attrNameLst>
                                          <p:attrName>style.visibility</p:attrName>
                                        </p:attrNameLst>
                                      </p:cBhvr>
                                      <p:to>
                                        <p:strVal val="visible"/>
                                      </p:to>
                                    </p:set>
                                    <p:animEffect filter="fade" transition="in">
                                      <p:cBhvr additive="repl">
                                        <p:cTn id="22" dur="1000"/>
                                        <p:tgtEl>
                                          <p:spTgt spid="83"/>
                                        </p:tgtEl>
                                      </p:cBhvr>
                                    </p:animEffect>
                                    <p:anim calcmode="lin" valueType="num">
                                      <p:cBhvr additive="repl">
                                        <p:cTn id="23" dur="1000" fill="hold"/>
                                        <p:tgtEl>
                                          <p:spTgt spid="83"/>
                                        </p:tgtEl>
                                        <p:attrNameLst>
                                          <p:attrName>ppt_x</p:attrName>
                                        </p:attrNameLst>
                                      </p:cBhvr>
                                      <p:tavLst>
                                        <p:tav tm="0">
                                          <p:val>
                                            <p:strVal val="#ppt_x"/>
                                          </p:val>
                                        </p:tav>
                                        <p:tav tm="100000">
                                          <p:val>
                                            <p:strVal val="#ppt_x"/>
                                          </p:val>
                                        </p:tav>
                                      </p:tavLst>
                                    </p:anim>
                                    <p:anim calcmode="lin" valueType="num">
                                      <p:cBhvr additive="repl">
                                        <p:cTn id="24"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809280" y="1077840"/>
            <a:ext cx="10544040" cy="4702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p</a:t>
            </a:r>
            <a:r>
              <a:rPr b="0" lang="en-US" sz="2800" spc="-1" strike="noStrike">
                <a:solidFill>
                  <a:srgbClr val="44546a"/>
                </a:solidFill>
                <a:latin typeface="等线"/>
              </a:rPr>
              <a:t>u</a:t>
            </a:r>
            <a:r>
              <a:rPr b="0" lang="en-US" sz="2800" spc="-1" strike="noStrike">
                <a:solidFill>
                  <a:srgbClr val="000000"/>
                </a:solidFill>
                <a:latin typeface="等线"/>
              </a:rPr>
              <a:t>t    f</a:t>
            </a:r>
            <a:r>
              <a:rPr b="0" lang="en-US" sz="2800" spc="-1" strike="noStrike">
                <a:solidFill>
                  <a:srgbClr val="44546a"/>
                </a:solidFill>
                <a:latin typeface="等线"/>
              </a:rPr>
              <a:t>u</a:t>
            </a:r>
            <a:r>
              <a:rPr b="0" lang="en-US" sz="2800" spc="-1" strike="noStrike">
                <a:solidFill>
                  <a:srgbClr val="000000"/>
                </a:solidFill>
                <a:latin typeface="等线"/>
              </a:rPr>
              <a:t>ll        s</a:t>
            </a:r>
            <a:r>
              <a:rPr b="0" lang="en-US" sz="2800" spc="-1" strike="noStrike">
                <a:solidFill>
                  <a:srgbClr val="44546a"/>
                </a:solidFill>
                <a:latin typeface="等线"/>
              </a:rPr>
              <a:t>u</a:t>
            </a:r>
            <a:r>
              <a:rPr b="0" lang="en-US" sz="2800" spc="-1" strike="noStrike">
                <a:solidFill>
                  <a:srgbClr val="000000"/>
                </a:solidFill>
                <a:latin typeface="等线"/>
              </a:rPr>
              <a:t>gar    b</a:t>
            </a:r>
            <a:r>
              <a:rPr b="0" lang="en-US" sz="2800" spc="-1" strike="noStrike">
                <a:solidFill>
                  <a:srgbClr val="44546a"/>
                </a:solidFill>
                <a:latin typeface="等线"/>
              </a:rPr>
              <a:t>u</a:t>
            </a:r>
            <a:r>
              <a:rPr b="0" lang="en-US" sz="2800" spc="-1" strike="noStrike">
                <a:solidFill>
                  <a:srgbClr val="000000"/>
                </a:solidFill>
                <a:latin typeface="等线"/>
              </a:rPr>
              <a:t>ll    p</a:t>
            </a:r>
            <a:r>
              <a:rPr b="0" lang="en-US" sz="2800" spc="-1" strike="noStrike">
                <a:solidFill>
                  <a:srgbClr val="44546a"/>
                </a:solidFill>
                <a:latin typeface="等线"/>
              </a:rPr>
              <a:t>u</a:t>
            </a:r>
            <a:r>
              <a:rPr b="0" lang="en-US" sz="2800" spc="-1" strike="noStrike">
                <a:solidFill>
                  <a:srgbClr val="000000"/>
                </a:solidFill>
                <a:latin typeface="等线"/>
              </a:rPr>
              <a:t>sh    </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w</a:t>
            </a:r>
            <a:r>
              <a:rPr b="0" lang="en-US" sz="2800" spc="-1" strike="noStrike">
                <a:solidFill>
                  <a:srgbClr val="44546a"/>
                </a:solidFill>
                <a:latin typeface="等线"/>
              </a:rPr>
              <a:t>o</a:t>
            </a:r>
            <a:r>
              <a:rPr b="0" lang="en-US" sz="2800" spc="-1" strike="noStrike">
                <a:solidFill>
                  <a:srgbClr val="000000"/>
                </a:solidFill>
                <a:latin typeface="等线"/>
              </a:rPr>
              <a:t>lf   w</a:t>
            </a:r>
            <a:r>
              <a:rPr b="0" lang="en-US" sz="2800" spc="-1" strike="noStrike">
                <a:solidFill>
                  <a:srgbClr val="44546a"/>
                </a:solidFill>
                <a:latin typeface="等线"/>
              </a:rPr>
              <a:t>o</a:t>
            </a:r>
            <a:r>
              <a:rPr b="0" lang="en-US" sz="2800" spc="-1" strike="noStrike">
                <a:solidFill>
                  <a:srgbClr val="000000"/>
                </a:solidFill>
                <a:latin typeface="等线"/>
              </a:rPr>
              <a:t>man  b</a:t>
            </a:r>
            <a:r>
              <a:rPr b="0" lang="en-US" sz="2800" spc="-1" strike="noStrike">
                <a:solidFill>
                  <a:srgbClr val="44546a"/>
                </a:solidFill>
                <a:latin typeface="等线"/>
              </a:rPr>
              <a:t>o</a:t>
            </a:r>
            <a:r>
              <a:rPr b="0" lang="en-US" sz="2800" spc="-1" strike="noStrike">
                <a:solidFill>
                  <a:srgbClr val="000000"/>
                </a:solidFill>
                <a:latin typeface="等线"/>
              </a:rPr>
              <a:t>som   t</a:t>
            </a:r>
            <a:r>
              <a:rPr b="0" lang="en-US" sz="2800" spc="-1" strike="noStrike">
                <a:solidFill>
                  <a:srgbClr val="44546a"/>
                </a:solidFill>
                <a:latin typeface="等线"/>
              </a:rPr>
              <a:t>o</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g</a:t>
            </a:r>
            <a:r>
              <a:rPr b="0" lang="en-US" sz="2800" spc="-1" strike="noStrike">
                <a:solidFill>
                  <a:srgbClr val="44546a"/>
                </a:solidFill>
                <a:latin typeface="等线"/>
              </a:rPr>
              <a:t>oo</a:t>
            </a:r>
            <a:r>
              <a:rPr b="0" lang="en-US" sz="2800" spc="-1" strike="noStrike">
                <a:solidFill>
                  <a:srgbClr val="000000"/>
                </a:solidFill>
                <a:latin typeface="等线"/>
              </a:rPr>
              <a:t>d  st</a:t>
            </a:r>
            <a:r>
              <a:rPr b="0" lang="en-US" sz="2800" spc="-1" strike="noStrike">
                <a:solidFill>
                  <a:srgbClr val="44546a"/>
                </a:solidFill>
                <a:latin typeface="等线"/>
              </a:rPr>
              <a:t>oo</a:t>
            </a:r>
            <a:r>
              <a:rPr b="0" lang="en-US" sz="2800" spc="-1" strike="noStrike">
                <a:solidFill>
                  <a:srgbClr val="000000"/>
                </a:solidFill>
                <a:latin typeface="等线"/>
              </a:rPr>
              <a:t>d    w</a:t>
            </a:r>
            <a:r>
              <a:rPr b="0" lang="en-US" sz="2800" spc="-1" strike="noStrike">
                <a:solidFill>
                  <a:srgbClr val="44546a"/>
                </a:solidFill>
                <a:latin typeface="等线"/>
              </a:rPr>
              <a:t>oo</a:t>
            </a:r>
            <a:r>
              <a:rPr b="0" lang="en-US" sz="2800" spc="-1" strike="noStrike">
                <a:solidFill>
                  <a:srgbClr val="000000"/>
                </a:solidFill>
                <a:latin typeface="等线"/>
              </a:rPr>
              <a:t>d     f</a:t>
            </a:r>
            <a:r>
              <a:rPr b="0" lang="en-US" sz="2800" spc="-1" strike="noStrike">
                <a:solidFill>
                  <a:srgbClr val="44546a"/>
                </a:solidFill>
                <a:latin typeface="等线"/>
              </a:rPr>
              <a:t>oo</a:t>
            </a:r>
            <a:r>
              <a:rPr b="0" lang="en-US" sz="2800" spc="-1" strike="noStrike">
                <a:solidFill>
                  <a:srgbClr val="000000"/>
                </a:solidFill>
                <a:latin typeface="等线"/>
              </a:rPr>
              <a:t>t   s</a:t>
            </a:r>
            <a:r>
              <a:rPr b="0" lang="en-US" sz="2800" spc="-1" strike="noStrike">
                <a:solidFill>
                  <a:srgbClr val="44546a"/>
                </a:solidFill>
                <a:latin typeface="等线"/>
              </a:rPr>
              <a:t>oo</a:t>
            </a:r>
            <a:r>
              <a:rPr b="0" lang="en-US" sz="2800" spc="-1" strike="noStrike">
                <a:solidFill>
                  <a:srgbClr val="000000"/>
                </a:solidFill>
                <a:latin typeface="等线"/>
              </a:rPr>
              <a:t>t </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b</a:t>
            </a:r>
            <a:r>
              <a:rPr b="0" lang="en-US" sz="2800" spc="-1" strike="noStrike">
                <a:solidFill>
                  <a:srgbClr val="44546a"/>
                </a:solidFill>
                <a:latin typeface="等线"/>
              </a:rPr>
              <a:t>oo</a:t>
            </a:r>
            <a:r>
              <a:rPr b="0" lang="en-US" sz="2800" spc="-1" strike="noStrike">
                <a:solidFill>
                  <a:srgbClr val="000000"/>
                </a:solidFill>
                <a:latin typeface="等线"/>
              </a:rPr>
              <a:t>k  c</a:t>
            </a:r>
            <a:r>
              <a:rPr b="0" lang="en-US" sz="2800" spc="-1" strike="noStrike">
                <a:solidFill>
                  <a:srgbClr val="44546a"/>
                </a:solidFill>
                <a:latin typeface="等线"/>
              </a:rPr>
              <a:t>oo</a:t>
            </a:r>
            <a:r>
              <a:rPr b="0" lang="en-US" sz="2800" spc="-1" strike="noStrike">
                <a:solidFill>
                  <a:srgbClr val="000000"/>
                </a:solidFill>
                <a:latin typeface="等线"/>
              </a:rPr>
              <a:t>k     l</a:t>
            </a:r>
            <a:r>
              <a:rPr b="0" lang="en-US" sz="2800" spc="-1" strike="noStrike">
                <a:solidFill>
                  <a:srgbClr val="44546a"/>
                </a:solidFill>
                <a:latin typeface="等线"/>
              </a:rPr>
              <a:t>oo</a:t>
            </a:r>
            <a:r>
              <a:rPr b="0" lang="en-US" sz="2800" spc="-1" strike="noStrike">
                <a:solidFill>
                  <a:srgbClr val="000000"/>
                </a:solidFill>
                <a:latin typeface="等线"/>
              </a:rPr>
              <a:t>k     t</a:t>
            </a:r>
            <a:r>
              <a:rPr b="0" lang="en-US" sz="2800" spc="-1" strike="noStrike">
                <a:solidFill>
                  <a:srgbClr val="44546a"/>
                </a:solidFill>
                <a:latin typeface="等线"/>
              </a:rPr>
              <a:t>oo</a:t>
            </a:r>
            <a:r>
              <a:rPr b="0" lang="en-US" sz="2800" spc="-1" strike="noStrike">
                <a:solidFill>
                  <a:srgbClr val="000000"/>
                </a:solidFill>
                <a:latin typeface="等线"/>
              </a:rPr>
              <a:t>k     sh</a:t>
            </a:r>
            <a:r>
              <a:rPr b="0" lang="en-US" sz="2800" spc="-1" strike="noStrike">
                <a:solidFill>
                  <a:srgbClr val="44546a"/>
                </a:solidFill>
                <a:latin typeface="等线"/>
              </a:rPr>
              <a:t>oo</a:t>
            </a:r>
            <a:r>
              <a:rPr b="0" lang="en-US" sz="2800" spc="-1" strike="noStrike">
                <a:solidFill>
                  <a:srgbClr val="000000"/>
                </a:solidFill>
                <a:latin typeface="等线"/>
              </a:rPr>
              <a:t>k</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a:t>
            </a:r>
            <a:r>
              <a:rPr b="0" lang="en-US" sz="2800" spc="-1" strike="noStrike">
                <a:solidFill>
                  <a:srgbClr val="44546a"/>
                </a:solidFill>
                <a:latin typeface="等线"/>
              </a:rPr>
              <a:t>ou</a:t>
            </a:r>
            <a:r>
              <a:rPr b="0" lang="en-US" sz="2800" spc="-1" strike="noStrike">
                <a:solidFill>
                  <a:srgbClr val="000000"/>
                </a:solidFill>
                <a:latin typeface="等线"/>
              </a:rPr>
              <a:t>ld  sh</a:t>
            </a:r>
            <a:r>
              <a:rPr b="0" lang="en-US" sz="2800" spc="-1" strike="noStrike">
                <a:solidFill>
                  <a:srgbClr val="44546a"/>
                </a:solidFill>
                <a:latin typeface="等线"/>
              </a:rPr>
              <a:t>ou</a:t>
            </a:r>
            <a:r>
              <a:rPr b="0" lang="en-US" sz="2800" spc="-1" strike="noStrike">
                <a:solidFill>
                  <a:srgbClr val="000000"/>
                </a:solidFill>
                <a:latin typeface="等线"/>
              </a:rPr>
              <a:t>ld  w</a:t>
            </a:r>
            <a:r>
              <a:rPr b="0" lang="en-US" sz="2800" spc="-1" strike="noStrike">
                <a:solidFill>
                  <a:srgbClr val="44546a"/>
                </a:solidFill>
                <a:latin typeface="等线"/>
              </a:rPr>
              <a:t>ou</a:t>
            </a:r>
            <a:r>
              <a:rPr b="0" lang="en-US" sz="2800" spc="-1" strike="noStrike">
                <a:solidFill>
                  <a:srgbClr val="000000"/>
                </a:solidFill>
                <a:latin typeface="等线"/>
              </a:rPr>
              <a:t>ld</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48" name="矩形 94"/>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49" name="组合 95" descr=""/>
          <p:cNvPicPr/>
          <p:nvPr/>
        </p:nvPicPr>
        <p:blipFill>
          <a:blip r:embed="rId1"/>
          <a:stretch/>
        </p:blipFill>
        <p:spPr>
          <a:xfrm>
            <a:off x="237960" y="206280"/>
            <a:ext cx="578160" cy="576360"/>
          </a:xfrm>
          <a:prstGeom prst="rect">
            <a:avLst/>
          </a:prstGeom>
          <a:ln w="0">
            <a:noFill/>
          </a:ln>
        </p:spPr>
      </p:pic>
      <p:sp>
        <p:nvSpPr>
          <p:cNvPr id="250" name="文本框 25"/>
          <p:cNvSpPr/>
          <p:nvPr/>
        </p:nvSpPr>
        <p:spPr>
          <a:xfrm>
            <a:off x="1168920" y="212760"/>
            <a:ext cx="3823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a:t>
            </a:r>
            <a:r>
              <a:rPr b="1" lang="en-US" sz="3200" spc="-1" strike="noStrike">
                <a:solidFill>
                  <a:srgbClr val="3d7351"/>
                </a:solidFill>
                <a:latin typeface="微软雅黑"/>
                <a:ea typeface="微软雅黑"/>
              </a:rPr>
              <a:t>Phonics Time”/ʊ/</a:t>
            </a:r>
            <a:endParaRPr b="0" lang="en-US" sz="3200" spc="-1" strike="noStrike">
              <a:solidFill>
                <a:srgbClr val="000000"/>
              </a:solidFill>
              <a:latin typeface="等线"/>
            </a:endParaRPr>
          </a:p>
        </p:txBody>
      </p:sp>
      <p:sp>
        <p:nvSpPr>
          <p:cNvPr id="251" name=" 2050"/>
          <p:cNvSpPr/>
          <p:nvPr/>
        </p:nvSpPr>
        <p:spPr>
          <a:xfrm>
            <a:off x="10058400" y="1200240"/>
            <a:ext cx="1309680" cy="1235160"/>
          </a:xfrm>
          <a:custGeom>
            <a:avLst/>
            <a:gdLst/>
            <a:ahLst/>
            <a:rect l="l" t="t" r="r" b="b"/>
            <a:pathLst>
              <a:path w="3841" h="3861">
                <a:moveTo>
                  <a:pt x="2021" y="3639"/>
                </a:moveTo>
                <a:cubicBezTo>
                  <a:pt x="1770" y="3639"/>
                  <a:pt x="1531" y="3588"/>
                  <a:pt x="1313" y="3496"/>
                </a:cubicBezTo>
                <a:cubicBezTo>
                  <a:pt x="830" y="3861"/>
                  <a:pt x="0" y="3855"/>
                  <a:pt x="0" y="3855"/>
                </a:cubicBezTo>
                <a:cubicBezTo>
                  <a:pt x="0" y="3855"/>
                  <a:pt x="417" y="3566"/>
                  <a:pt x="605" y="2961"/>
                </a:cubicBezTo>
                <a:cubicBezTo>
                  <a:pt x="352" y="2648"/>
                  <a:pt x="201" y="2252"/>
                  <a:pt x="201" y="1819"/>
                </a:cubicBezTo>
                <a:cubicBezTo>
                  <a:pt x="201" y="814"/>
                  <a:pt x="1016" y="0"/>
                  <a:pt x="2021" y="0"/>
                </a:cubicBezTo>
                <a:cubicBezTo>
                  <a:pt x="3026" y="0"/>
                  <a:pt x="3841" y="814"/>
                  <a:pt x="3841" y="1819"/>
                </a:cubicBezTo>
                <a:cubicBezTo>
                  <a:pt x="3841" y="2824"/>
                  <a:pt x="3026" y="3639"/>
                  <a:pt x="2021" y="3639"/>
                </a:cubicBezTo>
                <a:close/>
                <a:moveTo>
                  <a:pt x="1463" y="2671"/>
                </a:moveTo>
                <a:cubicBezTo>
                  <a:pt x="1463" y="2826"/>
                  <a:pt x="1568" y="2941"/>
                  <a:pt x="1723" y="2941"/>
                </a:cubicBezTo>
                <a:cubicBezTo>
                  <a:pt x="1917" y="2941"/>
                  <a:pt x="2052" y="2806"/>
                  <a:pt x="2052" y="2619"/>
                </a:cubicBezTo>
                <a:cubicBezTo>
                  <a:pt x="2052" y="2457"/>
                  <a:pt x="1940" y="2342"/>
                  <a:pt x="1782" y="2342"/>
                </a:cubicBezTo>
                <a:cubicBezTo>
                  <a:pt x="1595" y="2342"/>
                  <a:pt x="1463" y="2497"/>
                  <a:pt x="1463" y="2671"/>
                </a:cubicBezTo>
                <a:close/>
                <a:moveTo>
                  <a:pt x="2121" y="647"/>
                </a:moveTo>
                <a:cubicBezTo>
                  <a:pt x="1874" y="647"/>
                  <a:pt x="1687" y="716"/>
                  <a:pt x="1565" y="789"/>
                </a:cubicBezTo>
                <a:cubicBezTo>
                  <a:pt x="1627" y="1121"/>
                  <a:pt x="1627" y="1121"/>
                  <a:pt x="1627" y="1121"/>
                </a:cubicBezTo>
                <a:cubicBezTo>
                  <a:pt x="1720" y="1065"/>
                  <a:pt x="1838" y="1029"/>
                  <a:pt x="1986" y="1029"/>
                </a:cubicBezTo>
                <a:cubicBezTo>
                  <a:pt x="2134" y="1032"/>
                  <a:pt x="2177" y="1101"/>
                  <a:pt x="2177" y="1187"/>
                </a:cubicBezTo>
                <a:cubicBezTo>
                  <a:pt x="2177" y="1302"/>
                  <a:pt x="2042" y="1414"/>
                  <a:pt x="1914" y="1552"/>
                </a:cubicBezTo>
                <a:cubicBezTo>
                  <a:pt x="1729" y="1747"/>
                  <a:pt x="1641" y="1921"/>
                  <a:pt x="1614" y="2099"/>
                </a:cubicBezTo>
                <a:cubicBezTo>
                  <a:pt x="1611" y="2125"/>
                  <a:pt x="1608" y="2155"/>
                  <a:pt x="1604" y="2184"/>
                </a:cubicBezTo>
                <a:cubicBezTo>
                  <a:pt x="2065" y="2184"/>
                  <a:pt x="2065" y="2184"/>
                  <a:pt x="2065" y="2184"/>
                </a:cubicBezTo>
                <a:cubicBezTo>
                  <a:pt x="2072" y="2155"/>
                  <a:pt x="2075" y="2128"/>
                  <a:pt x="2081" y="2105"/>
                </a:cubicBezTo>
                <a:cubicBezTo>
                  <a:pt x="2111" y="1957"/>
                  <a:pt x="2177" y="1845"/>
                  <a:pt x="2305" y="1717"/>
                </a:cubicBezTo>
                <a:cubicBezTo>
                  <a:pt x="2490" y="1526"/>
                  <a:pt x="2664" y="1358"/>
                  <a:pt x="2664" y="1095"/>
                </a:cubicBezTo>
                <a:cubicBezTo>
                  <a:pt x="2664" y="825"/>
                  <a:pt x="2437" y="647"/>
                  <a:pt x="2121" y="647"/>
                </a:cubicBezTo>
                <a:close/>
              </a:path>
            </a:pathLst>
          </a:custGeom>
          <a:solidFill>
            <a:srgbClr val="5b9b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52" name="文本框 3"/>
          <p:cNvSpPr/>
          <p:nvPr/>
        </p:nvSpPr>
        <p:spPr>
          <a:xfrm>
            <a:off x="2697120" y="4130640"/>
            <a:ext cx="867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等线"/>
              </a:rPr>
              <a:t>/ʊ/</a:t>
            </a:r>
            <a:r>
              <a:rPr b="0" lang="en-US" sz="2400" spc="-1" strike="noStrike">
                <a:solidFill>
                  <a:srgbClr val="000000"/>
                </a:solidFill>
                <a:latin typeface="等线"/>
              </a:rPr>
              <a:t> is usually read in the following letters or combined letters: </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等线"/>
              </a:rPr>
              <a:t>u o oo</a:t>
            </a:r>
            <a:r>
              <a:rPr b="0" lang="en-US" sz="2400" spc="-1" strike="noStrike">
                <a:solidFill>
                  <a:srgbClr val="000000"/>
                </a:solidFill>
                <a:latin typeface="等线"/>
              </a:rPr>
              <a:t>(before t,d,k in the words) </a:t>
            </a:r>
            <a:r>
              <a:rPr b="0" lang="en-US" sz="2400" spc="-1" strike="noStrike">
                <a:solidFill>
                  <a:srgbClr val="44546a"/>
                </a:solidFill>
                <a:latin typeface="等线"/>
              </a:rPr>
              <a:t>ou</a:t>
            </a:r>
            <a:endParaRPr b="0" lang="en-US" sz="2400" spc="-1" strike="noStrike">
              <a:solidFill>
                <a:srgbClr val="000000"/>
              </a:solidFill>
              <a:latin typeface="等线"/>
            </a:endParaRPr>
          </a:p>
        </p:txBody>
      </p:sp>
      <p:sp>
        <p:nvSpPr>
          <p:cNvPr id="253" name=" 162"/>
          <p:cNvSpPr/>
          <p:nvPr/>
        </p:nvSpPr>
        <p:spPr>
          <a:xfrm>
            <a:off x="495360" y="4130640"/>
            <a:ext cx="1798560" cy="806400"/>
          </a:xfrm>
          <a:custGeom>
            <a:avLst/>
            <a:gdLst/>
            <a:ahLst/>
            <a:rect l="l" t="t" r="r" b="b"/>
            <a:pathLst>
              <a:path w="494328" h="324036">
                <a:moveTo>
                  <a:pt x="277525" y="292250"/>
                </a:moveTo>
                <a:lnTo>
                  <a:pt x="309311" y="292250"/>
                </a:lnTo>
                <a:lnTo>
                  <a:pt x="309311" y="324036"/>
                </a:lnTo>
                <a:lnTo>
                  <a:pt x="277525" y="324036"/>
                </a:lnTo>
                <a:close/>
                <a:moveTo>
                  <a:pt x="323779" y="243541"/>
                </a:moveTo>
                <a:lnTo>
                  <a:pt x="355565" y="243541"/>
                </a:lnTo>
                <a:lnTo>
                  <a:pt x="355565" y="275328"/>
                </a:lnTo>
                <a:lnTo>
                  <a:pt x="323779" y="275328"/>
                </a:lnTo>
                <a:close/>
                <a:moveTo>
                  <a:pt x="277525" y="243541"/>
                </a:moveTo>
                <a:lnTo>
                  <a:pt x="309311" y="243541"/>
                </a:lnTo>
                <a:lnTo>
                  <a:pt x="309311" y="275328"/>
                </a:lnTo>
                <a:lnTo>
                  <a:pt x="277525" y="275328"/>
                </a:lnTo>
                <a:close/>
                <a:moveTo>
                  <a:pt x="370033" y="194833"/>
                </a:moveTo>
                <a:lnTo>
                  <a:pt x="401820" y="194833"/>
                </a:lnTo>
                <a:lnTo>
                  <a:pt x="401820" y="226620"/>
                </a:lnTo>
                <a:lnTo>
                  <a:pt x="370033" y="226620"/>
                </a:lnTo>
                <a:close/>
                <a:moveTo>
                  <a:pt x="323779" y="194833"/>
                </a:moveTo>
                <a:lnTo>
                  <a:pt x="355565" y="194833"/>
                </a:lnTo>
                <a:lnTo>
                  <a:pt x="355565" y="226620"/>
                </a:lnTo>
                <a:lnTo>
                  <a:pt x="323779" y="226620"/>
                </a:lnTo>
                <a:close/>
                <a:moveTo>
                  <a:pt x="277525" y="194833"/>
                </a:moveTo>
                <a:lnTo>
                  <a:pt x="309311" y="194833"/>
                </a:lnTo>
                <a:lnTo>
                  <a:pt x="309311" y="226620"/>
                </a:lnTo>
                <a:lnTo>
                  <a:pt x="277525" y="226620"/>
                </a:lnTo>
                <a:close/>
                <a:moveTo>
                  <a:pt x="231271" y="194833"/>
                </a:moveTo>
                <a:lnTo>
                  <a:pt x="263057" y="194833"/>
                </a:lnTo>
                <a:lnTo>
                  <a:pt x="263057" y="226620"/>
                </a:lnTo>
                <a:lnTo>
                  <a:pt x="231271" y="226620"/>
                </a:lnTo>
                <a:close/>
                <a:moveTo>
                  <a:pt x="185016" y="194833"/>
                </a:moveTo>
                <a:lnTo>
                  <a:pt x="216803" y="194833"/>
                </a:lnTo>
                <a:lnTo>
                  <a:pt x="216803" y="226620"/>
                </a:lnTo>
                <a:lnTo>
                  <a:pt x="185016" y="226620"/>
                </a:lnTo>
                <a:close/>
                <a:moveTo>
                  <a:pt x="138762" y="194833"/>
                </a:moveTo>
                <a:lnTo>
                  <a:pt x="170549" y="194833"/>
                </a:lnTo>
                <a:lnTo>
                  <a:pt x="170549" y="226620"/>
                </a:lnTo>
                <a:lnTo>
                  <a:pt x="138762" y="226620"/>
                </a:lnTo>
                <a:close/>
                <a:moveTo>
                  <a:pt x="92508" y="194833"/>
                </a:moveTo>
                <a:lnTo>
                  <a:pt x="124294" y="194833"/>
                </a:lnTo>
                <a:lnTo>
                  <a:pt x="124294" y="226620"/>
                </a:lnTo>
                <a:lnTo>
                  <a:pt x="92508" y="226620"/>
                </a:lnTo>
                <a:close/>
                <a:moveTo>
                  <a:pt x="46254" y="194833"/>
                </a:moveTo>
                <a:lnTo>
                  <a:pt x="78040" y="194833"/>
                </a:lnTo>
                <a:lnTo>
                  <a:pt x="78040" y="226620"/>
                </a:lnTo>
                <a:lnTo>
                  <a:pt x="46254" y="226620"/>
                </a:lnTo>
                <a:close/>
                <a:moveTo>
                  <a:pt x="0" y="194833"/>
                </a:moveTo>
                <a:lnTo>
                  <a:pt x="31787" y="194833"/>
                </a:lnTo>
                <a:lnTo>
                  <a:pt x="31787" y="226620"/>
                </a:lnTo>
                <a:lnTo>
                  <a:pt x="0" y="226620"/>
                </a:lnTo>
                <a:close/>
                <a:moveTo>
                  <a:pt x="416287" y="170479"/>
                </a:moveTo>
                <a:lnTo>
                  <a:pt x="448074" y="170479"/>
                </a:lnTo>
                <a:lnTo>
                  <a:pt x="448074" y="202266"/>
                </a:lnTo>
                <a:lnTo>
                  <a:pt x="416287" y="202266"/>
                </a:lnTo>
                <a:close/>
                <a:moveTo>
                  <a:pt x="462542" y="146125"/>
                </a:moveTo>
                <a:lnTo>
                  <a:pt x="494328" y="146125"/>
                </a:lnTo>
                <a:lnTo>
                  <a:pt x="494328" y="177911"/>
                </a:lnTo>
                <a:lnTo>
                  <a:pt x="462542" y="177911"/>
                </a:lnTo>
                <a:close/>
                <a:moveTo>
                  <a:pt x="370033" y="146125"/>
                </a:moveTo>
                <a:lnTo>
                  <a:pt x="401820" y="146125"/>
                </a:lnTo>
                <a:lnTo>
                  <a:pt x="401820" y="177911"/>
                </a:lnTo>
                <a:lnTo>
                  <a:pt x="370033" y="177911"/>
                </a:lnTo>
                <a:close/>
                <a:moveTo>
                  <a:pt x="323779" y="146125"/>
                </a:moveTo>
                <a:lnTo>
                  <a:pt x="355565" y="146125"/>
                </a:lnTo>
                <a:lnTo>
                  <a:pt x="355565" y="177911"/>
                </a:lnTo>
                <a:lnTo>
                  <a:pt x="323779" y="177911"/>
                </a:lnTo>
                <a:close/>
                <a:moveTo>
                  <a:pt x="277525" y="146125"/>
                </a:moveTo>
                <a:lnTo>
                  <a:pt x="309311" y="146125"/>
                </a:lnTo>
                <a:lnTo>
                  <a:pt x="309311" y="177911"/>
                </a:lnTo>
                <a:lnTo>
                  <a:pt x="277525" y="177911"/>
                </a:lnTo>
                <a:close/>
                <a:moveTo>
                  <a:pt x="231271" y="146125"/>
                </a:moveTo>
                <a:lnTo>
                  <a:pt x="263057" y="146125"/>
                </a:lnTo>
                <a:lnTo>
                  <a:pt x="263057" y="177911"/>
                </a:lnTo>
                <a:lnTo>
                  <a:pt x="231271" y="177911"/>
                </a:lnTo>
                <a:close/>
                <a:moveTo>
                  <a:pt x="185016" y="146125"/>
                </a:moveTo>
                <a:lnTo>
                  <a:pt x="216803" y="146125"/>
                </a:lnTo>
                <a:lnTo>
                  <a:pt x="216803" y="177911"/>
                </a:lnTo>
                <a:lnTo>
                  <a:pt x="185016" y="177911"/>
                </a:lnTo>
                <a:close/>
                <a:moveTo>
                  <a:pt x="138762" y="146125"/>
                </a:moveTo>
                <a:lnTo>
                  <a:pt x="170549" y="146125"/>
                </a:lnTo>
                <a:lnTo>
                  <a:pt x="170549" y="177911"/>
                </a:lnTo>
                <a:lnTo>
                  <a:pt x="138762" y="177911"/>
                </a:lnTo>
                <a:close/>
                <a:moveTo>
                  <a:pt x="92508" y="146125"/>
                </a:moveTo>
                <a:lnTo>
                  <a:pt x="124294" y="146125"/>
                </a:lnTo>
                <a:lnTo>
                  <a:pt x="124294" y="177911"/>
                </a:lnTo>
                <a:lnTo>
                  <a:pt x="92508" y="177911"/>
                </a:lnTo>
                <a:close/>
                <a:moveTo>
                  <a:pt x="46254" y="146125"/>
                </a:moveTo>
                <a:lnTo>
                  <a:pt x="78040" y="146125"/>
                </a:lnTo>
                <a:lnTo>
                  <a:pt x="78040" y="177911"/>
                </a:lnTo>
                <a:lnTo>
                  <a:pt x="46254" y="177911"/>
                </a:lnTo>
                <a:close/>
                <a:moveTo>
                  <a:pt x="0" y="146125"/>
                </a:moveTo>
                <a:lnTo>
                  <a:pt x="31787" y="146125"/>
                </a:lnTo>
                <a:lnTo>
                  <a:pt x="31787" y="177911"/>
                </a:lnTo>
                <a:lnTo>
                  <a:pt x="0" y="177911"/>
                </a:lnTo>
                <a:close/>
                <a:moveTo>
                  <a:pt x="416287" y="121771"/>
                </a:moveTo>
                <a:lnTo>
                  <a:pt x="448074" y="121771"/>
                </a:lnTo>
                <a:lnTo>
                  <a:pt x="448074" y="153557"/>
                </a:lnTo>
                <a:lnTo>
                  <a:pt x="416287" y="153557"/>
                </a:lnTo>
                <a:close/>
                <a:moveTo>
                  <a:pt x="370033" y="97417"/>
                </a:moveTo>
                <a:lnTo>
                  <a:pt x="401820" y="97417"/>
                </a:lnTo>
                <a:lnTo>
                  <a:pt x="401820" y="129203"/>
                </a:lnTo>
                <a:lnTo>
                  <a:pt x="370033" y="129203"/>
                </a:lnTo>
                <a:close/>
                <a:moveTo>
                  <a:pt x="323779" y="97417"/>
                </a:moveTo>
                <a:lnTo>
                  <a:pt x="355565" y="97417"/>
                </a:lnTo>
                <a:lnTo>
                  <a:pt x="355565" y="129203"/>
                </a:lnTo>
                <a:lnTo>
                  <a:pt x="323779" y="129203"/>
                </a:lnTo>
                <a:close/>
                <a:moveTo>
                  <a:pt x="277525" y="97417"/>
                </a:moveTo>
                <a:lnTo>
                  <a:pt x="309311" y="97417"/>
                </a:lnTo>
                <a:lnTo>
                  <a:pt x="309311" y="129203"/>
                </a:lnTo>
                <a:lnTo>
                  <a:pt x="277525" y="129203"/>
                </a:lnTo>
                <a:close/>
                <a:moveTo>
                  <a:pt x="231271" y="97417"/>
                </a:moveTo>
                <a:lnTo>
                  <a:pt x="263057" y="97417"/>
                </a:lnTo>
                <a:lnTo>
                  <a:pt x="263057" y="129203"/>
                </a:lnTo>
                <a:lnTo>
                  <a:pt x="231271" y="129203"/>
                </a:lnTo>
                <a:close/>
                <a:moveTo>
                  <a:pt x="185016" y="97417"/>
                </a:moveTo>
                <a:lnTo>
                  <a:pt x="216803" y="97417"/>
                </a:lnTo>
                <a:lnTo>
                  <a:pt x="216803" y="129203"/>
                </a:lnTo>
                <a:lnTo>
                  <a:pt x="185016" y="129203"/>
                </a:lnTo>
                <a:close/>
                <a:moveTo>
                  <a:pt x="138762" y="97417"/>
                </a:moveTo>
                <a:lnTo>
                  <a:pt x="170549" y="97417"/>
                </a:lnTo>
                <a:lnTo>
                  <a:pt x="170549" y="129203"/>
                </a:lnTo>
                <a:lnTo>
                  <a:pt x="138762" y="129203"/>
                </a:lnTo>
                <a:close/>
                <a:moveTo>
                  <a:pt x="92508" y="97417"/>
                </a:moveTo>
                <a:lnTo>
                  <a:pt x="124294" y="97417"/>
                </a:lnTo>
                <a:lnTo>
                  <a:pt x="124294" y="129203"/>
                </a:lnTo>
                <a:lnTo>
                  <a:pt x="92508" y="129203"/>
                </a:lnTo>
                <a:close/>
                <a:moveTo>
                  <a:pt x="46254" y="97417"/>
                </a:moveTo>
                <a:lnTo>
                  <a:pt x="78040" y="97417"/>
                </a:lnTo>
                <a:lnTo>
                  <a:pt x="78040" y="129203"/>
                </a:lnTo>
                <a:lnTo>
                  <a:pt x="46254" y="129203"/>
                </a:lnTo>
                <a:close/>
                <a:moveTo>
                  <a:pt x="0" y="97417"/>
                </a:moveTo>
                <a:lnTo>
                  <a:pt x="31787" y="97417"/>
                </a:lnTo>
                <a:lnTo>
                  <a:pt x="31787" y="129203"/>
                </a:lnTo>
                <a:lnTo>
                  <a:pt x="0" y="129203"/>
                </a:lnTo>
                <a:close/>
                <a:moveTo>
                  <a:pt x="323779" y="48708"/>
                </a:moveTo>
                <a:lnTo>
                  <a:pt x="355565" y="48708"/>
                </a:lnTo>
                <a:lnTo>
                  <a:pt x="355565" y="80495"/>
                </a:lnTo>
                <a:lnTo>
                  <a:pt x="323779" y="80495"/>
                </a:lnTo>
                <a:close/>
                <a:moveTo>
                  <a:pt x="277525" y="48708"/>
                </a:moveTo>
                <a:lnTo>
                  <a:pt x="309311" y="48708"/>
                </a:lnTo>
                <a:lnTo>
                  <a:pt x="309311" y="80495"/>
                </a:lnTo>
                <a:lnTo>
                  <a:pt x="277525" y="80495"/>
                </a:lnTo>
                <a:close/>
                <a:moveTo>
                  <a:pt x="277525" y="0"/>
                </a:moveTo>
                <a:lnTo>
                  <a:pt x="309311" y="0"/>
                </a:lnTo>
                <a:lnTo>
                  <a:pt x="309311" y="31787"/>
                </a:lnTo>
                <a:lnTo>
                  <a:pt x="277525" y="31787"/>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54" name="文本框 4"/>
          <p:cNvSpPr/>
          <p:nvPr/>
        </p:nvSpPr>
        <p:spPr>
          <a:xfrm>
            <a:off x="809640" y="5394240"/>
            <a:ext cx="963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等线"/>
              </a:rPr>
              <a:t>How to pronounce the following words?</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等线"/>
              </a:rPr>
              <a:t>bosom     wool     hook     butcher     pudding     bouquet</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等线"/>
            </a:endParaRPr>
          </a:p>
        </p:txBody>
      </p:sp>
    </p:spTree>
  </p:cSld>
  <p:transition>
    <p:push dir="u"/>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dur="indefinite" nodeType="clickEffect" fill="hold" presetClass="entr" presetID="2" presetSubtype="4">
                                  <p:stCondLst>
                                    <p:cond delay="0"/>
                                  </p:stCondLst>
                                  <p:childTnLst>
                                    <p:set>
                                      <p:cBhvr>
                                        <p:cTn id="514" dur="1" fill="hold">
                                          <p:stCondLst>
                                            <p:cond delay="0"/>
                                          </p:stCondLst>
                                        </p:cTn>
                                        <p:tgtEl>
                                          <p:spTgt spid="247">
                                            <p:txEl>
                                              <p:pRg st="0" end="0"/>
                                            </p:txEl>
                                          </p:spTgt>
                                        </p:tgtEl>
                                        <p:attrNameLst>
                                          <p:attrName>style.visibility</p:attrName>
                                        </p:attrNameLst>
                                      </p:cBhvr>
                                      <p:to>
                                        <p:strVal val="visible"/>
                                      </p:to>
                                    </p:set>
                                    <p:anim calcmode="lin" valueType="num">
                                      <p:cBhvr additive="repl">
                                        <p:cTn id="515"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516" dur="500" fill="hold"/>
                                        <p:tgtEl>
                                          <p:spTgt spid="247">
                                            <p:txEl>
                                              <p:pRg st="0" end="0"/>
                                            </p:txEl>
                                          </p:spTgt>
                                        </p:tgtEl>
                                        <p:attrNameLst>
                                          <p:attrName>ppt_y</p:attrName>
                                        </p:attrNameLst>
                                      </p:cBhvr>
                                      <p:tavLst>
                                        <p:tav tm="0">
                                          <p:val>
                                            <p:strVal val="1+#ppt_h/2"/>
                                          </p:val>
                                        </p:tav>
                                        <p:tav tm="100000">
                                          <p:val>
                                            <p:strVal val="#ppt_y"/>
                                          </p:val>
                                        </p:tav>
                                      </p:tavLst>
                                    </p:anim>
                                  </p:childTnLst>
                                </p:cTn>
                              </p:par>
                              <p:par>
                                <p:cTn id="517" dur="indefinite" nodeType="withEffect" fill="hold" presetClass="entr" presetID="2" presetSubtype="4">
                                  <p:stCondLst>
                                    <p:cond delay="0"/>
                                  </p:stCondLst>
                                  <p:childTnLst>
                                    <p:set>
                                      <p:cBhvr>
                                        <p:cTn id="518" dur="1" fill="hold">
                                          <p:stCondLst>
                                            <p:cond delay="0"/>
                                          </p:stCondLst>
                                        </p:cTn>
                                        <p:tgtEl>
                                          <p:spTgt spid="247">
                                            <p:txEl>
                                              <p:pRg st="1" end="1"/>
                                            </p:txEl>
                                          </p:spTgt>
                                        </p:tgtEl>
                                        <p:attrNameLst>
                                          <p:attrName>style.visibility</p:attrName>
                                        </p:attrNameLst>
                                      </p:cBhvr>
                                      <p:to>
                                        <p:strVal val="visible"/>
                                      </p:to>
                                    </p:set>
                                    <p:anim calcmode="lin" valueType="num">
                                      <p:cBhvr additive="repl">
                                        <p:cTn id="519"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520" dur="500" fill="hold"/>
                                        <p:tgtEl>
                                          <p:spTgt spid="247">
                                            <p:txEl>
                                              <p:pRg st="1" end="1"/>
                                            </p:txEl>
                                          </p:spTgt>
                                        </p:tgtEl>
                                        <p:attrNameLst>
                                          <p:attrName>ppt_y</p:attrName>
                                        </p:attrNameLst>
                                      </p:cBhvr>
                                      <p:tavLst>
                                        <p:tav tm="0">
                                          <p:val>
                                            <p:strVal val="1+#ppt_h/2"/>
                                          </p:val>
                                        </p:tav>
                                        <p:tav tm="100000">
                                          <p:val>
                                            <p:strVal val="#ppt_y"/>
                                          </p:val>
                                        </p:tav>
                                      </p:tavLst>
                                    </p:anim>
                                  </p:childTnLst>
                                </p:cTn>
                              </p:par>
                              <p:par>
                                <p:cTn id="521" dur="indefinite" nodeType="withEffect" fill="hold" presetClass="entr" presetID="2" presetSubtype="4">
                                  <p:stCondLst>
                                    <p:cond delay="0"/>
                                  </p:stCondLst>
                                  <p:childTnLst>
                                    <p:set>
                                      <p:cBhvr>
                                        <p:cTn id="522" dur="1" fill="hold">
                                          <p:stCondLst>
                                            <p:cond delay="0"/>
                                          </p:stCondLst>
                                        </p:cTn>
                                        <p:tgtEl>
                                          <p:spTgt spid="247">
                                            <p:txEl>
                                              <p:pRg st="2" end="2"/>
                                            </p:txEl>
                                          </p:spTgt>
                                        </p:tgtEl>
                                        <p:attrNameLst>
                                          <p:attrName>style.visibility</p:attrName>
                                        </p:attrNameLst>
                                      </p:cBhvr>
                                      <p:to>
                                        <p:strVal val="visible"/>
                                      </p:to>
                                    </p:set>
                                    <p:anim calcmode="lin" valueType="num">
                                      <p:cBhvr additive="repl">
                                        <p:cTn id="52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524" dur="500" fill="hold"/>
                                        <p:tgtEl>
                                          <p:spTgt spid="247">
                                            <p:txEl>
                                              <p:pRg st="2" end="2"/>
                                            </p:txEl>
                                          </p:spTgt>
                                        </p:tgtEl>
                                        <p:attrNameLst>
                                          <p:attrName>ppt_y</p:attrName>
                                        </p:attrNameLst>
                                      </p:cBhvr>
                                      <p:tavLst>
                                        <p:tav tm="0">
                                          <p:val>
                                            <p:strVal val="1+#ppt_h/2"/>
                                          </p:val>
                                        </p:tav>
                                        <p:tav tm="100000">
                                          <p:val>
                                            <p:strVal val="#ppt_y"/>
                                          </p:val>
                                        </p:tav>
                                      </p:tavLst>
                                    </p:anim>
                                  </p:childTnLst>
                                </p:cTn>
                              </p:par>
                              <p:par>
                                <p:cTn id="525" dur="indefinite" nodeType="withEffect" fill="hold" presetClass="entr" presetID="2" presetSubtype="4">
                                  <p:stCondLst>
                                    <p:cond delay="0"/>
                                  </p:stCondLst>
                                  <p:childTnLst>
                                    <p:set>
                                      <p:cBhvr>
                                        <p:cTn id="526" dur="1" fill="hold">
                                          <p:stCondLst>
                                            <p:cond delay="0"/>
                                          </p:stCondLst>
                                        </p:cTn>
                                        <p:tgtEl>
                                          <p:spTgt spid="247">
                                            <p:txEl>
                                              <p:pRg st="3" end="3"/>
                                            </p:txEl>
                                          </p:spTgt>
                                        </p:tgtEl>
                                        <p:attrNameLst>
                                          <p:attrName>style.visibility</p:attrName>
                                        </p:attrNameLst>
                                      </p:cBhvr>
                                      <p:to>
                                        <p:strVal val="visible"/>
                                      </p:to>
                                    </p:set>
                                    <p:anim calcmode="lin" valueType="num">
                                      <p:cBhvr additive="repl">
                                        <p:cTn id="527"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528" dur="500" fill="hold"/>
                                        <p:tgtEl>
                                          <p:spTgt spid="247">
                                            <p:txEl>
                                              <p:pRg st="3" end="3"/>
                                            </p:txEl>
                                          </p:spTgt>
                                        </p:tgtEl>
                                        <p:attrNameLst>
                                          <p:attrName>ppt_y</p:attrName>
                                        </p:attrNameLst>
                                      </p:cBhvr>
                                      <p:tavLst>
                                        <p:tav tm="0">
                                          <p:val>
                                            <p:strVal val="1+#ppt_h/2"/>
                                          </p:val>
                                        </p:tav>
                                        <p:tav tm="100000">
                                          <p:val>
                                            <p:strVal val="#ppt_y"/>
                                          </p:val>
                                        </p:tav>
                                      </p:tavLst>
                                    </p:anim>
                                  </p:childTnLst>
                                </p:cTn>
                              </p:par>
                              <p:par>
                                <p:cTn id="529" dur="indefinite" nodeType="withEffect" fill="hold" presetClass="entr" presetID="2" presetSubtype="4">
                                  <p:stCondLst>
                                    <p:cond delay="0"/>
                                  </p:stCondLst>
                                  <p:childTnLst>
                                    <p:set>
                                      <p:cBhvr>
                                        <p:cTn id="530" dur="1" fill="hold">
                                          <p:stCondLst>
                                            <p:cond delay="0"/>
                                          </p:stCondLst>
                                        </p:cTn>
                                        <p:tgtEl>
                                          <p:spTgt spid="247">
                                            <p:txEl>
                                              <p:pRg st="4" end="4"/>
                                            </p:txEl>
                                          </p:spTgt>
                                        </p:tgtEl>
                                        <p:attrNameLst>
                                          <p:attrName>style.visibility</p:attrName>
                                        </p:attrNameLst>
                                      </p:cBhvr>
                                      <p:to>
                                        <p:strVal val="visible"/>
                                      </p:to>
                                    </p:set>
                                    <p:anim calcmode="lin" valueType="num">
                                      <p:cBhvr additive="repl">
                                        <p:cTn id="531"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532" dur="500" fill="hold"/>
                                        <p:tgtEl>
                                          <p:spTgt spid="2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2" presetSubtype="4">
                                  <p:stCondLst>
                                    <p:cond delay="0"/>
                                  </p:stCondLst>
                                  <p:childTnLst>
                                    <p:set>
                                      <p:cBhvr>
                                        <p:cTn id="536" dur="1" fill="hold">
                                          <p:stCondLst>
                                            <p:cond delay="0"/>
                                          </p:stCondLst>
                                        </p:cTn>
                                        <p:tgtEl>
                                          <p:spTgt spid="251"/>
                                        </p:tgtEl>
                                        <p:attrNameLst>
                                          <p:attrName>style.visibility</p:attrName>
                                        </p:attrNameLst>
                                      </p:cBhvr>
                                      <p:to>
                                        <p:strVal val="visible"/>
                                      </p:to>
                                    </p:set>
                                    <p:anim calcmode="lin" valueType="num">
                                      <p:cBhvr additive="repl">
                                        <p:cTn id="537" dur="500" fill="hold"/>
                                        <p:tgtEl>
                                          <p:spTgt spid="251"/>
                                        </p:tgtEl>
                                        <p:attrNameLst>
                                          <p:attrName>ppt_x</p:attrName>
                                        </p:attrNameLst>
                                      </p:cBhvr>
                                      <p:tavLst>
                                        <p:tav tm="0">
                                          <p:val>
                                            <p:strVal val="#ppt_x"/>
                                          </p:val>
                                        </p:tav>
                                        <p:tav tm="100000">
                                          <p:val>
                                            <p:strVal val="#ppt_x"/>
                                          </p:val>
                                        </p:tav>
                                      </p:tavLst>
                                    </p:anim>
                                    <p:anim calcmode="lin" valueType="num">
                                      <p:cBhvr additive="repl">
                                        <p:cTn id="538"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dur="indefinite" nodeType="clickEffect" fill="hold" presetClass="entr" presetID="2" presetSubtype="4">
                                  <p:stCondLst>
                                    <p:cond delay="0"/>
                                  </p:stCondLst>
                                  <p:childTnLst>
                                    <p:set>
                                      <p:cBhvr>
                                        <p:cTn id="542" dur="1" fill="hold">
                                          <p:stCondLst>
                                            <p:cond delay="0"/>
                                          </p:stCondLst>
                                        </p:cTn>
                                        <p:tgtEl>
                                          <p:spTgt spid="253"/>
                                        </p:tgtEl>
                                        <p:attrNameLst>
                                          <p:attrName>style.visibility</p:attrName>
                                        </p:attrNameLst>
                                      </p:cBhvr>
                                      <p:to>
                                        <p:strVal val="visible"/>
                                      </p:to>
                                    </p:set>
                                    <p:anim calcmode="lin" valueType="num">
                                      <p:cBhvr additive="repl">
                                        <p:cTn id="543" dur="500" fill="hold"/>
                                        <p:tgtEl>
                                          <p:spTgt spid="253"/>
                                        </p:tgtEl>
                                        <p:attrNameLst>
                                          <p:attrName>ppt_x</p:attrName>
                                        </p:attrNameLst>
                                      </p:cBhvr>
                                      <p:tavLst>
                                        <p:tav tm="0">
                                          <p:val>
                                            <p:strVal val="#ppt_x"/>
                                          </p:val>
                                        </p:tav>
                                        <p:tav tm="100000">
                                          <p:val>
                                            <p:strVal val="#ppt_x"/>
                                          </p:val>
                                        </p:tav>
                                      </p:tavLst>
                                    </p:anim>
                                    <p:anim calcmode="lin" valueType="num">
                                      <p:cBhvr additive="repl">
                                        <p:cTn id="544"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dur="indefinite" nodeType="clickEffect" fill="hold" presetClass="entr" presetID="2" presetSubtype="4">
                                  <p:stCondLst>
                                    <p:cond delay="0"/>
                                  </p:stCondLst>
                                  <p:childTnLst>
                                    <p:set>
                                      <p:cBhvr>
                                        <p:cTn id="548" dur="1" fill="hold">
                                          <p:stCondLst>
                                            <p:cond delay="0"/>
                                          </p:stCondLst>
                                        </p:cTn>
                                        <p:tgtEl>
                                          <p:spTgt spid="252">
                                            <p:txEl>
                                              <p:pRg st="0" end="0"/>
                                            </p:txEl>
                                          </p:spTgt>
                                        </p:tgtEl>
                                        <p:attrNameLst>
                                          <p:attrName>style.visibility</p:attrName>
                                        </p:attrNameLst>
                                      </p:cBhvr>
                                      <p:to>
                                        <p:strVal val="visible"/>
                                      </p:to>
                                    </p:set>
                                    <p:anim calcmode="lin" valueType="num">
                                      <p:cBhvr additive="repl">
                                        <p:cTn id="549"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repl">
                                        <p:cTn id="550" dur="500" fill="hold"/>
                                        <p:tgtEl>
                                          <p:spTgt spid="252">
                                            <p:txEl>
                                              <p:pRg st="0" end="0"/>
                                            </p:txEl>
                                          </p:spTgt>
                                        </p:tgtEl>
                                        <p:attrNameLst>
                                          <p:attrName>ppt_y</p:attrName>
                                        </p:attrNameLst>
                                      </p:cBhvr>
                                      <p:tavLst>
                                        <p:tav tm="0">
                                          <p:val>
                                            <p:strVal val="1+#ppt_h/2"/>
                                          </p:val>
                                        </p:tav>
                                        <p:tav tm="100000">
                                          <p:val>
                                            <p:strVal val="#ppt_y"/>
                                          </p:val>
                                        </p:tav>
                                      </p:tavLst>
                                    </p:anim>
                                  </p:childTnLst>
                                </p:cTn>
                              </p:par>
                              <p:par>
                                <p:cTn id="551" dur="indefinite" nodeType="withEffect" fill="hold" presetClass="entr" presetID="2" presetSubtype="4">
                                  <p:stCondLst>
                                    <p:cond delay="0"/>
                                  </p:stCondLst>
                                  <p:childTnLst>
                                    <p:set>
                                      <p:cBhvr>
                                        <p:cTn id="552" dur="1" fill="hold">
                                          <p:stCondLst>
                                            <p:cond delay="0"/>
                                          </p:stCondLst>
                                        </p:cTn>
                                        <p:tgtEl>
                                          <p:spTgt spid="252">
                                            <p:txEl>
                                              <p:pRg st="1" end="1"/>
                                            </p:txEl>
                                          </p:spTgt>
                                        </p:tgtEl>
                                        <p:attrNameLst>
                                          <p:attrName>style.visibility</p:attrName>
                                        </p:attrNameLst>
                                      </p:cBhvr>
                                      <p:to>
                                        <p:strVal val="visible"/>
                                      </p:to>
                                    </p:set>
                                    <p:anim calcmode="lin" valueType="num">
                                      <p:cBhvr additive="repl">
                                        <p:cTn id="553" dur="500" fill="hold"/>
                                        <p:tgtEl>
                                          <p:spTgt spid="252">
                                            <p:txEl>
                                              <p:pRg st="1" end="1"/>
                                            </p:txEl>
                                          </p:spTgt>
                                        </p:tgtEl>
                                        <p:attrNameLst>
                                          <p:attrName>ppt_x</p:attrName>
                                        </p:attrNameLst>
                                      </p:cBhvr>
                                      <p:tavLst>
                                        <p:tav tm="0">
                                          <p:val>
                                            <p:strVal val="#ppt_x"/>
                                          </p:val>
                                        </p:tav>
                                        <p:tav tm="100000">
                                          <p:val>
                                            <p:strVal val="#ppt_x"/>
                                          </p:val>
                                        </p:tav>
                                      </p:tavLst>
                                    </p:anim>
                                    <p:anim calcmode="lin" valueType="num">
                                      <p:cBhvr additive="repl">
                                        <p:cTn id="554" dur="500" fill="hold"/>
                                        <p:tgtEl>
                                          <p:spTgt spid="2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2" presetSubtype="4">
                                  <p:stCondLst>
                                    <p:cond delay="0"/>
                                  </p:stCondLst>
                                  <p:childTnLst>
                                    <p:set>
                                      <p:cBhvr>
                                        <p:cTn id="558" dur="1" fill="hold">
                                          <p:stCondLst>
                                            <p:cond delay="0"/>
                                          </p:stCondLst>
                                        </p:cTn>
                                        <p:tgtEl>
                                          <p:spTgt spid="254">
                                            <p:txEl>
                                              <p:pRg st="0" end="0"/>
                                            </p:txEl>
                                          </p:spTgt>
                                        </p:tgtEl>
                                        <p:attrNameLst>
                                          <p:attrName>style.visibility</p:attrName>
                                        </p:attrNameLst>
                                      </p:cBhvr>
                                      <p:to>
                                        <p:strVal val="visible"/>
                                      </p:to>
                                    </p:set>
                                    <p:anim calcmode="lin" valueType="num">
                                      <p:cBhvr additive="repl">
                                        <p:cTn id="559"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560" dur="500" fill="hold"/>
                                        <p:tgtEl>
                                          <p:spTgt spid="254">
                                            <p:txEl>
                                              <p:pRg st="0" end="0"/>
                                            </p:txEl>
                                          </p:spTgt>
                                        </p:tgtEl>
                                        <p:attrNameLst>
                                          <p:attrName>ppt_y</p:attrName>
                                        </p:attrNameLst>
                                      </p:cBhvr>
                                      <p:tavLst>
                                        <p:tav tm="0">
                                          <p:val>
                                            <p:strVal val="1+#ppt_h/2"/>
                                          </p:val>
                                        </p:tav>
                                        <p:tav tm="100000">
                                          <p:val>
                                            <p:strVal val="#ppt_y"/>
                                          </p:val>
                                        </p:tav>
                                      </p:tavLst>
                                    </p:anim>
                                  </p:childTnLst>
                                </p:cTn>
                              </p:par>
                              <p:par>
                                <p:cTn id="561" dur="indefinite" nodeType="withEffect" fill="hold" presetClass="entr" presetID="2" presetSubtype="4">
                                  <p:stCondLst>
                                    <p:cond delay="0"/>
                                  </p:stCondLst>
                                  <p:childTnLst>
                                    <p:set>
                                      <p:cBhvr>
                                        <p:cTn id="562" dur="1" fill="hold">
                                          <p:stCondLst>
                                            <p:cond delay="0"/>
                                          </p:stCondLst>
                                        </p:cTn>
                                        <p:tgtEl>
                                          <p:spTgt spid="254">
                                            <p:txEl>
                                              <p:pRg st="1" end="1"/>
                                            </p:txEl>
                                          </p:spTgt>
                                        </p:tgtEl>
                                        <p:attrNameLst>
                                          <p:attrName>style.visibility</p:attrName>
                                        </p:attrNameLst>
                                      </p:cBhvr>
                                      <p:to>
                                        <p:strVal val="visible"/>
                                      </p:to>
                                    </p:set>
                                    <p:anim calcmode="lin" valueType="num">
                                      <p:cBhvr additive="repl">
                                        <p:cTn id="563"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564" dur="500" fill="hold"/>
                                        <p:tgtEl>
                                          <p:spTgt spid="25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587160" y="1077840"/>
            <a:ext cx="10544040" cy="4702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d</a:t>
            </a:r>
            <a:r>
              <a:rPr b="0" lang="en-US" sz="2800" spc="-1" strike="noStrike">
                <a:solidFill>
                  <a:srgbClr val="44546a"/>
                </a:solidFill>
                <a:latin typeface="等线"/>
              </a:rPr>
              <a:t>o</a:t>
            </a:r>
            <a:r>
              <a:rPr b="0" lang="en-US" sz="2800" spc="-1" strike="noStrike">
                <a:solidFill>
                  <a:srgbClr val="000000"/>
                </a:solidFill>
                <a:latin typeface="等线"/>
              </a:rPr>
              <a:t>      wh</a:t>
            </a:r>
            <a:r>
              <a:rPr b="0" lang="en-US" sz="2800" spc="-1" strike="noStrike">
                <a:solidFill>
                  <a:srgbClr val="44546a"/>
                </a:solidFill>
                <a:latin typeface="等线"/>
              </a:rPr>
              <a:t>o</a:t>
            </a:r>
            <a:r>
              <a:rPr b="0" lang="en-US" sz="2800" spc="-1" strike="noStrike">
                <a:solidFill>
                  <a:srgbClr val="000000"/>
                </a:solidFill>
                <a:latin typeface="等线"/>
              </a:rPr>
              <a:t>    m</a:t>
            </a:r>
            <a:r>
              <a:rPr b="0" lang="en-US" sz="2800" spc="-1" strike="noStrike">
                <a:solidFill>
                  <a:srgbClr val="44546a"/>
                </a:solidFill>
                <a:latin typeface="等线"/>
              </a:rPr>
              <a:t>o</a:t>
            </a:r>
            <a:r>
              <a:rPr b="0" lang="en-US" sz="2800" spc="-1" strike="noStrike">
                <a:solidFill>
                  <a:srgbClr val="000000"/>
                </a:solidFill>
                <a:latin typeface="等线"/>
              </a:rPr>
              <a:t>ve    l</a:t>
            </a:r>
            <a:r>
              <a:rPr b="0" lang="en-US" sz="2800" spc="-1" strike="noStrike">
                <a:solidFill>
                  <a:srgbClr val="44546a"/>
                </a:solidFill>
                <a:latin typeface="等线"/>
              </a:rPr>
              <a:t>o</a:t>
            </a:r>
            <a:r>
              <a:rPr b="0" lang="en-US" sz="2800" spc="-1" strike="noStrike">
                <a:solidFill>
                  <a:srgbClr val="000000"/>
                </a:solidFill>
                <a:latin typeface="等线"/>
              </a:rPr>
              <a:t>se</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J</a:t>
            </a:r>
            <a:r>
              <a:rPr b="0" lang="en-US" sz="2800" spc="-1" strike="noStrike">
                <a:solidFill>
                  <a:srgbClr val="44546a"/>
                </a:solidFill>
                <a:latin typeface="等线"/>
              </a:rPr>
              <a:t>u</a:t>
            </a:r>
            <a:r>
              <a:rPr b="0" lang="en-US" sz="2800" spc="-1" strike="noStrike">
                <a:solidFill>
                  <a:srgbClr val="000000"/>
                </a:solidFill>
                <a:latin typeface="等线"/>
              </a:rPr>
              <a:t>ne  r</a:t>
            </a:r>
            <a:r>
              <a:rPr b="0" lang="en-US" sz="2800" spc="-1" strike="noStrike">
                <a:solidFill>
                  <a:srgbClr val="44546a"/>
                </a:solidFill>
                <a:latin typeface="等线"/>
              </a:rPr>
              <a:t>u</a:t>
            </a:r>
            <a:r>
              <a:rPr b="0" lang="en-US" sz="2800" spc="-1" strike="noStrike">
                <a:solidFill>
                  <a:srgbClr val="000000"/>
                </a:solidFill>
                <a:latin typeface="等线"/>
              </a:rPr>
              <a:t>de   S</a:t>
            </a:r>
            <a:r>
              <a:rPr b="0" lang="en-US" sz="2800" spc="-1" strike="noStrike">
                <a:solidFill>
                  <a:srgbClr val="44546a"/>
                </a:solidFill>
                <a:latin typeface="等线"/>
              </a:rPr>
              <a:t>u</a:t>
            </a:r>
            <a:r>
              <a:rPr b="0" lang="en-US" sz="2800" spc="-1" strike="noStrike">
                <a:solidFill>
                  <a:srgbClr val="000000"/>
                </a:solidFill>
                <a:latin typeface="等线"/>
              </a:rPr>
              <a:t>san</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t</a:t>
            </a:r>
            <a:r>
              <a:rPr b="0" lang="en-US" sz="2800" spc="-1" strike="noStrike">
                <a:solidFill>
                  <a:srgbClr val="44546a"/>
                </a:solidFill>
                <a:latin typeface="等线"/>
              </a:rPr>
              <a:t>oo </a:t>
            </a:r>
            <a:r>
              <a:rPr b="0" lang="en-US" sz="2800" spc="-1" strike="noStrike">
                <a:solidFill>
                  <a:srgbClr val="000000"/>
                </a:solidFill>
                <a:latin typeface="等线"/>
              </a:rPr>
              <a:t>   f</a:t>
            </a:r>
            <a:r>
              <a:rPr b="0" lang="en-US" sz="2800" spc="-1" strike="noStrike">
                <a:solidFill>
                  <a:srgbClr val="44546a"/>
                </a:solidFill>
                <a:latin typeface="等线"/>
              </a:rPr>
              <a:t>oo</a:t>
            </a:r>
            <a:r>
              <a:rPr b="0" lang="en-US" sz="2800" spc="-1" strike="noStrike">
                <a:solidFill>
                  <a:srgbClr val="000000"/>
                </a:solidFill>
                <a:latin typeface="等线"/>
              </a:rPr>
              <a:t>d    s</a:t>
            </a:r>
            <a:r>
              <a:rPr b="0" lang="en-US" sz="2800" spc="-1" strike="noStrike">
                <a:solidFill>
                  <a:srgbClr val="44546a"/>
                </a:solidFill>
                <a:latin typeface="等线"/>
              </a:rPr>
              <a:t>oo</a:t>
            </a:r>
            <a:r>
              <a:rPr b="0" lang="en-US" sz="2800" spc="-1" strike="noStrike">
                <a:solidFill>
                  <a:srgbClr val="000000"/>
                </a:solidFill>
                <a:latin typeface="等线"/>
              </a:rPr>
              <a:t>n     m</a:t>
            </a:r>
            <a:r>
              <a:rPr b="0" lang="en-US" sz="2800" spc="-1" strike="noStrike">
                <a:solidFill>
                  <a:srgbClr val="44546a"/>
                </a:solidFill>
                <a:latin typeface="等线"/>
              </a:rPr>
              <a:t>oo</a:t>
            </a:r>
            <a:r>
              <a:rPr b="0" lang="en-US" sz="2800" spc="-1" strike="noStrike">
                <a:solidFill>
                  <a:srgbClr val="000000"/>
                </a:solidFill>
                <a:latin typeface="等线"/>
              </a:rPr>
              <a:t>n       sp</a:t>
            </a:r>
            <a:r>
              <a:rPr b="0" lang="en-US" sz="2800" spc="-1" strike="noStrike">
                <a:solidFill>
                  <a:srgbClr val="44546a"/>
                </a:solidFill>
                <a:latin typeface="等线"/>
              </a:rPr>
              <a:t>oo</a:t>
            </a:r>
            <a:r>
              <a:rPr b="0" lang="en-US" sz="2800" spc="-1" strike="noStrike">
                <a:solidFill>
                  <a:srgbClr val="000000"/>
                </a:solidFill>
                <a:latin typeface="等线"/>
              </a:rPr>
              <a:t>n</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y</a:t>
            </a:r>
            <a:r>
              <a:rPr b="0" lang="en-US" sz="2800" spc="-1" strike="noStrike">
                <a:solidFill>
                  <a:srgbClr val="44546a"/>
                </a:solidFill>
                <a:latin typeface="等线"/>
              </a:rPr>
              <a:t>ou </a:t>
            </a:r>
            <a:r>
              <a:rPr b="0" lang="en-US" sz="2800" spc="-1" strike="noStrike">
                <a:solidFill>
                  <a:srgbClr val="000000"/>
                </a:solidFill>
                <a:latin typeface="等线"/>
              </a:rPr>
              <a:t>   gr</a:t>
            </a:r>
            <a:r>
              <a:rPr b="0" lang="en-US" sz="2800" spc="-1" strike="noStrike">
                <a:solidFill>
                  <a:srgbClr val="44546a"/>
                </a:solidFill>
                <a:latin typeface="等线"/>
              </a:rPr>
              <a:t>ou</a:t>
            </a:r>
            <a:r>
              <a:rPr b="0" lang="en-US" sz="2800" spc="-1" strike="noStrike">
                <a:solidFill>
                  <a:srgbClr val="000000"/>
                </a:solidFill>
                <a:latin typeface="等线"/>
              </a:rPr>
              <a:t>p   s</a:t>
            </a:r>
            <a:r>
              <a:rPr b="0" lang="en-US" sz="2800" spc="-1" strike="noStrike">
                <a:solidFill>
                  <a:srgbClr val="44546a"/>
                </a:solidFill>
                <a:latin typeface="等线"/>
              </a:rPr>
              <a:t>ou</a:t>
            </a:r>
            <a:r>
              <a:rPr b="0" lang="en-US" sz="2800" spc="-1" strike="noStrike">
                <a:solidFill>
                  <a:srgbClr val="000000"/>
                </a:solidFill>
                <a:latin typeface="等线"/>
              </a:rPr>
              <a:t>p    thr</a:t>
            </a:r>
            <a:r>
              <a:rPr b="0" lang="en-US" sz="2800" spc="-1" strike="noStrike">
                <a:solidFill>
                  <a:srgbClr val="44546a"/>
                </a:solidFill>
                <a:latin typeface="等线"/>
              </a:rPr>
              <a:t>ou</a:t>
            </a:r>
            <a:r>
              <a:rPr b="0" lang="en-US" sz="2800" spc="-1" strike="noStrike">
                <a:solidFill>
                  <a:srgbClr val="000000"/>
                </a:solidFill>
                <a:latin typeface="等线"/>
              </a:rPr>
              <a:t>gh</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gl</a:t>
            </a:r>
            <a:r>
              <a:rPr b="0" lang="en-US" sz="2800" spc="-1" strike="noStrike">
                <a:solidFill>
                  <a:srgbClr val="44546a"/>
                </a:solidFill>
                <a:latin typeface="等线"/>
              </a:rPr>
              <a:t>ue</a:t>
            </a:r>
            <a:r>
              <a:rPr b="0" lang="en-US" sz="2800" spc="-1" strike="noStrike">
                <a:solidFill>
                  <a:srgbClr val="000000"/>
                </a:solidFill>
                <a:latin typeface="等线"/>
              </a:rPr>
              <a:t>   tr</a:t>
            </a:r>
            <a:r>
              <a:rPr b="0" lang="en-US" sz="2800" spc="-1" strike="noStrike">
                <a:solidFill>
                  <a:srgbClr val="44546a"/>
                </a:solidFill>
                <a:latin typeface="等线"/>
              </a:rPr>
              <a:t>ue</a:t>
            </a:r>
            <a:r>
              <a:rPr b="0" lang="en-US" sz="2800" spc="-1" strike="noStrike">
                <a:solidFill>
                  <a:srgbClr val="000000"/>
                </a:solidFill>
                <a:latin typeface="等线"/>
              </a:rPr>
              <a:t>     bl</a:t>
            </a:r>
            <a:r>
              <a:rPr b="0" lang="en-US" sz="2800" spc="-1" strike="noStrike">
                <a:solidFill>
                  <a:srgbClr val="44546a"/>
                </a:solidFill>
                <a:latin typeface="等线"/>
              </a:rPr>
              <a:t>ue</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h</a:t>
            </a:r>
            <a:r>
              <a:rPr b="0" lang="en-US" sz="2800" spc="-1" strike="noStrike">
                <a:solidFill>
                  <a:srgbClr val="44546a"/>
                </a:solidFill>
                <a:latin typeface="等线"/>
              </a:rPr>
              <a:t>ew</a:t>
            </a:r>
            <a:r>
              <a:rPr b="0" lang="en-US" sz="2800" spc="-1" strike="noStrike">
                <a:solidFill>
                  <a:srgbClr val="000000"/>
                </a:solidFill>
                <a:latin typeface="等线"/>
              </a:rPr>
              <a:t>  j</a:t>
            </a:r>
            <a:r>
              <a:rPr b="0" lang="en-US" sz="2800" spc="-1" strike="noStrike">
                <a:solidFill>
                  <a:srgbClr val="44546a"/>
                </a:solidFill>
                <a:latin typeface="等线"/>
              </a:rPr>
              <a:t>ui</a:t>
            </a:r>
            <a:r>
              <a:rPr b="0" lang="en-US" sz="2800" spc="-1" strike="noStrike">
                <a:solidFill>
                  <a:srgbClr val="000000"/>
                </a:solidFill>
                <a:latin typeface="等线"/>
              </a:rPr>
              <a:t>ce    sh</a:t>
            </a:r>
            <a:r>
              <a:rPr b="0" lang="en-US" sz="2800" spc="-1" strike="noStrike">
                <a:solidFill>
                  <a:srgbClr val="44546a"/>
                </a:solidFill>
                <a:latin typeface="等线"/>
              </a:rPr>
              <a:t>oe</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56" name="矩形 94"/>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57" name="组合 95" descr=""/>
          <p:cNvPicPr/>
          <p:nvPr/>
        </p:nvPicPr>
        <p:blipFill>
          <a:blip r:embed="rId1"/>
          <a:stretch/>
        </p:blipFill>
        <p:spPr>
          <a:xfrm>
            <a:off x="237960" y="206280"/>
            <a:ext cx="578160" cy="576360"/>
          </a:xfrm>
          <a:prstGeom prst="rect">
            <a:avLst/>
          </a:prstGeom>
          <a:ln w="0">
            <a:noFill/>
          </a:ln>
        </p:spPr>
      </p:pic>
      <p:sp>
        <p:nvSpPr>
          <p:cNvPr id="258" name="文本框 25"/>
          <p:cNvSpPr/>
          <p:nvPr/>
        </p:nvSpPr>
        <p:spPr>
          <a:xfrm>
            <a:off x="1172880" y="212760"/>
            <a:ext cx="394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a:t>
            </a:r>
            <a:r>
              <a:rPr b="1" lang="en-US" sz="3200" spc="-1" strike="noStrike">
                <a:solidFill>
                  <a:srgbClr val="3d7351"/>
                </a:solidFill>
                <a:latin typeface="微软雅黑"/>
                <a:ea typeface="微软雅黑"/>
              </a:rPr>
              <a:t>Phonics Time”/u:/</a:t>
            </a:r>
            <a:endParaRPr b="0" lang="en-US" sz="3200" spc="-1" strike="noStrike">
              <a:solidFill>
                <a:srgbClr val="000000"/>
              </a:solidFill>
              <a:latin typeface="等线"/>
            </a:endParaRPr>
          </a:p>
        </p:txBody>
      </p:sp>
      <p:sp>
        <p:nvSpPr>
          <p:cNvPr id="259" name=" 2050"/>
          <p:cNvSpPr/>
          <p:nvPr/>
        </p:nvSpPr>
        <p:spPr>
          <a:xfrm>
            <a:off x="10058400" y="1200240"/>
            <a:ext cx="1309680" cy="1235160"/>
          </a:xfrm>
          <a:custGeom>
            <a:avLst/>
            <a:gdLst/>
            <a:ahLst/>
            <a:rect l="l" t="t" r="r" b="b"/>
            <a:pathLst>
              <a:path w="3841" h="3861">
                <a:moveTo>
                  <a:pt x="2021" y="3639"/>
                </a:moveTo>
                <a:cubicBezTo>
                  <a:pt x="1770" y="3639"/>
                  <a:pt x="1531" y="3588"/>
                  <a:pt x="1313" y="3496"/>
                </a:cubicBezTo>
                <a:cubicBezTo>
                  <a:pt x="830" y="3861"/>
                  <a:pt x="0" y="3855"/>
                  <a:pt x="0" y="3855"/>
                </a:cubicBezTo>
                <a:cubicBezTo>
                  <a:pt x="0" y="3855"/>
                  <a:pt x="417" y="3566"/>
                  <a:pt x="605" y="2961"/>
                </a:cubicBezTo>
                <a:cubicBezTo>
                  <a:pt x="352" y="2648"/>
                  <a:pt x="201" y="2252"/>
                  <a:pt x="201" y="1819"/>
                </a:cubicBezTo>
                <a:cubicBezTo>
                  <a:pt x="201" y="814"/>
                  <a:pt x="1016" y="0"/>
                  <a:pt x="2021" y="0"/>
                </a:cubicBezTo>
                <a:cubicBezTo>
                  <a:pt x="3026" y="0"/>
                  <a:pt x="3841" y="814"/>
                  <a:pt x="3841" y="1819"/>
                </a:cubicBezTo>
                <a:cubicBezTo>
                  <a:pt x="3841" y="2824"/>
                  <a:pt x="3026" y="3639"/>
                  <a:pt x="2021" y="3639"/>
                </a:cubicBezTo>
                <a:close/>
                <a:moveTo>
                  <a:pt x="1463" y="2671"/>
                </a:moveTo>
                <a:cubicBezTo>
                  <a:pt x="1463" y="2826"/>
                  <a:pt x="1568" y="2941"/>
                  <a:pt x="1723" y="2941"/>
                </a:cubicBezTo>
                <a:cubicBezTo>
                  <a:pt x="1917" y="2941"/>
                  <a:pt x="2052" y="2806"/>
                  <a:pt x="2052" y="2619"/>
                </a:cubicBezTo>
                <a:cubicBezTo>
                  <a:pt x="2052" y="2457"/>
                  <a:pt x="1940" y="2342"/>
                  <a:pt x="1782" y="2342"/>
                </a:cubicBezTo>
                <a:cubicBezTo>
                  <a:pt x="1595" y="2342"/>
                  <a:pt x="1463" y="2497"/>
                  <a:pt x="1463" y="2671"/>
                </a:cubicBezTo>
                <a:close/>
                <a:moveTo>
                  <a:pt x="2121" y="647"/>
                </a:moveTo>
                <a:cubicBezTo>
                  <a:pt x="1874" y="647"/>
                  <a:pt x="1687" y="716"/>
                  <a:pt x="1565" y="789"/>
                </a:cubicBezTo>
                <a:cubicBezTo>
                  <a:pt x="1627" y="1121"/>
                  <a:pt x="1627" y="1121"/>
                  <a:pt x="1627" y="1121"/>
                </a:cubicBezTo>
                <a:cubicBezTo>
                  <a:pt x="1720" y="1065"/>
                  <a:pt x="1838" y="1029"/>
                  <a:pt x="1986" y="1029"/>
                </a:cubicBezTo>
                <a:cubicBezTo>
                  <a:pt x="2134" y="1032"/>
                  <a:pt x="2177" y="1101"/>
                  <a:pt x="2177" y="1187"/>
                </a:cubicBezTo>
                <a:cubicBezTo>
                  <a:pt x="2177" y="1302"/>
                  <a:pt x="2042" y="1414"/>
                  <a:pt x="1914" y="1552"/>
                </a:cubicBezTo>
                <a:cubicBezTo>
                  <a:pt x="1729" y="1747"/>
                  <a:pt x="1641" y="1921"/>
                  <a:pt x="1614" y="2099"/>
                </a:cubicBezTo>
                <a:cubicBezTo>
                  <a:pt x="1611" y="2125"/>
                  <a:pt x="1608" y="2155"/>
                  <a:pt x="1604" y="2184"/>
                </a:cubicBezTo>
                <a:cubicBezTo>
                  <a:pt x="2065" y="2184"/>
                  <a:pt x="2065" y="2184"/>
                  <a:pt x="2065" y="2184"/>
                </a:cubicBezTo>
                <a:cubicBezTo>
                  <a:pt x="2072" y="2155"/>
                  <a:pt x="2075" y="2128"/>
                  <a:pt x="2081" y="2105"/>
                </a:cubicBezTo>
                <a:cubicBezTo>
                  <a:pt x="2111" y="1957"/>
                  <a:pt x="2177" y="1845"/>
                  <a:pt x="2305" y="1717"/>
                </a:cubicBezTo>
                <a:cubicBezTo>
                  <a:pt x="2490" y="1526"/>
                  <a:pt x="2664" y="1358"/>
                  <a:pt x="2664" y="1095"/>
                </a:cubicBezTo>
                <a:cubicBezTo>
                  <a:pt x="2664" y="825"/>
                  <a:pt x="2437" y="647"/>
                  <a:pt x="2121" y="647"/>
                </a:cubicBezTo>
                <a:close/>
              </a:path>
            </a:pathLst>
          </a:custGeom>
          <a:solidFill>
            <a:srgbClr val="5b9b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60" name="文本框 3"/>
          <p:cNvSpPr/>
          <p:nvPr/>
        </p:nvSpPr>
        <p:spPr>
          <a:xfrm>
            <a:off x="2697120" y="4479840"/>
            <a:ext cx="8670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u:/ is usually read in the following letters and combined letters: </a:t>
            </a:r>
            <a:r>
              <a:rPr b="0" lang="en-US" sz="2400" spc="-1" strike="noStrike">
                <a:solidFill>
                  <a:srgbClr val="44546a"/>
                </a:solidFill>
                <a:latin typeface="等线"/>
              </a:rPr>
              <a:t>o u oo ou ue ew oe</a:t>
            </a:r>
            <a:endParaRPr b="0" lang="en-US" sz="2400" spc="-1" strike="noStrike">
              <a:solidFill>
                <a:srgbClr val="000000"/>
              </a:solidFill>
              <a:latin typeface="等线"/>
            </a:endParaRPr>
          </a:p>
        </p:txBody>
      </p:sp>
      <p:sp>
        <p:nvSpPr>
          <p:cNvPr id="261" name=" 162"/>
          <p:cNvSpPr/>
          <p:nvPr/>
        </p:nvSpPr>
        <p:spPr>
          <a:xfrm>
            <a:off x="587520" y="4495680"/>
            <a:ext cx="1798560" cy="808200"/>
          </a:xfrm>
          <a:custGeom>
            <a:avLst/>
            <a:gdLst/>
            <a:ahLst/>
            <a:rect l="l" t="t" r="r" b="b"/>
            <a:pathLst>
              <a:path w="494328" h="324036">
                <a:moveTo>
                  <a:pt x="277525" y="292250"/>
                </a:moveTo>
                <a:lnTo>
                  <a:pt x="309311" y="292250"/>
                </a:lnTo>
                <a:lnTo>
                  <a:pt x="309311" y="324036"/>
                </a:lnTo>
                <a:lnTo>
                  <a:pt x="277525" y="324036"/>
                </a:lnTo>
                <a:close/>
                <a:moveTo>
                  <a:pt x="323779" y="243541"/>
                </a:moveTo>
                <a:lnTo>
                  <a:pt x="355565" y="243541"/>
                </a:lnTo>
                <a:lnTo>
                  <a:pt x="355565" y="275328"/>
                </a:lnTo>
                <a:lnTo>
                  <a:pt x="323779" y="275328"/>
                </a:lnTo>
                <a:close/>
                <a:moveTo>
                  <a:pt x="277525" y="243541"/>
                </a:moveTo>
                <a:lnTo>
                  <a:pt x="309311" y="243541"/>
                </a:lnTo>
                <a:lnTo>
                  <a:pt x="309311" y="275328"/>
                </a:lnTo>
                <a:lnTo>
                  <a:pt x="277525" y="275328"/>
                </a:lnTo>
                <a:close/>
                <a:moveTo>
                  <a:pt x="370033" y="194833"/>
                </a:moveTo>
                <a:lnTo>
                  <a:pt x="401820" y="194833"/>
                </a:lnTo>
                <a:lnTo>
                  <a:pt x="401820" y="226620"/>
                </a:lnTo>
                <a:lnTo>
                  <a:pt x="370033" y="226620"/>
                </a:lnTo>
                <a:close/>
                <a:moveTo>
                  <a:pt x="323779" y="194833"/>
                </a:moveTo>
                <a:lnTo>
                  <a:pt x="355565" y="194833"/>
                </a:lnTo>
                <a:lnTo>
                  <a:pt x="355565" y="226620"/>
                </a:lnTo>
                <a:lnTo>
                  <a:pt x="323779" y="226620"/>
                </a:lnTo>
                <a:close/>
                <a:moveTo>
                  <a:pt x="277525" y="194833"/>
                </a:moveTo>
                <a:lnTo>
                  <a:pt x="309311" y="194833"/>
                </a:lnTo>
                <a:lnTo>
                  <a:pt x="309311" y="226620"/>
                </a:lnTo>
                <a:lnTo>
                  <a:pt x="277525" y="226620"/>
                </a:lnTo>
                <a:close/>
                <a:moveTo>
                  <a:pt x="231271" y="194833"/>
                </a:moveTo>
                <a:lnTo>
                  <a:pt x="263057" y="194833"/>
                </a:lnTo>
                <a:lnTo>
                  <a:pt x="263057" y="226620"/>
                </a:lnTo>
                <a:lnTo>
                  <a:pt x="231271" y="226620"/>
                </a:lnTo>
                <a:close/>
                <a:moveTo>
                  <a:pt x="185016" y="194833"/>
                </a:moveTo>
                <a:lnTo>
                  <a:pt x="216803" y="194833"/>
                </a:lnTo>
                <a:lnTo>
                  <a:pt x="216803" y="226620"/>
                </a:lnTo>
                <a:lnTo>
                  <a:pt x="185016" y="226620"/>
                </a:lnTo>
                <a:close/>
                <a:moveTo>
                  <a:pt x="138762" y="194833"/>
                </a:moveTo>
                <a:lnTo>
                  <a:pt x="170549" y="194833"/>
                </a:lnTo>
                <a:lnTo>
                  <a:pt x="170549" y="226620"/>
                </a:lnTo>
                <a:lnTo>
                  <a:pt x="138762" y="226620"/>
                </a:lnTo>
                <a:close/>
                <a:moveTo>
                  <a:pt x="92508" y="194833"/>
                </a:moveTo>
                <a:lnTo>
                  <a:pt x="124294" y="194833"/>
                </a:lnTo>
                <a:lnTo>
                  <a:pt x="124294" y="226620"/>
                </a:lnTo>
                <a:lnTo>
                  <a:pt x="92508" y="226620"/>
                </a:lnTo>
                <a:close/>
                <a:moveTo>
                  <a:pt x="46254" y="194833"/>
                </a:moveTo>
                <a:lnTo>
                  <a:pt x="78040" y="194833"/>
                </a:lnTo>
                <a:lnTo>
                  <a:pt x="78040" y="226620"/>
                </a:lnTo>
                <a:lnTo>
                  <a:pt x="46254" y="226620"/>
                </a:lnTo>
                <a:close/>
                <a:moveTo>
                  <a:pt x="0" y="194833"/>
                </a:moveTo>
                <a:lnTo>
                  <a:pt x="31787" y="194833"/>
                </a:lnTo>
                <a:lnTo>
                  <a:pt x="31787" y="226620"/>
                </a:lnTo>
                <a:lnTo>
                  <a:pt x="0" y="226620"/>
                </a:lnTo>
                <a:close/>
                <a:moveTo>
                  <a:pt x="416287" y="170479"/>
                </a:moveTo>
                <a:lnTo>
                  <a:pt x="448074" y="170479"/>
                </a:lnTo>
                <a:lnTo>
                  <a:pt x="448074" y="202266"/>
                </a:lnTo>
                <a:lnTo>
                  <a:pt x="416287" y="202266"/>
                </a:lnTo>
                <a:close/>
                <a:moveTo>
                  <a:pt x="462542" y="146125"/>
                </a:moveTo>
                <a:lnTo>
                  <a:pt x="494328" y="146125"/>
                </a:lnTo>
                <a:lnTo>
                  <a:pt x="494328" y="177911"/>
                </a:lnTo>
                <a:lnTo>
                  <a:pt x="462542" y="177911"/>
                </a:lnTo>
                <a:close/>
                <a:moveTo>
                  <a:pt x="370033" y="146125"/>
                </a:moveTo>
                <a:lnTo>
                  <a:pt x="401820" y="146125"/>
                </a:lnTo>
                <a:lnTo>
                  <a:pt x="401820" y="177911"/>
                </a:lnTo>
                <a:lnTo>
                  <a:pt x="370033" y="177911"/>
                </a:lnTo>
                <a:close/>
                <a:moveTo>
                  <a:pt x="323779" y="146125"/>
                </a:moveTo>
                <a:lnTo>
                  <a:pt x="355565" y="146125"/>
                </a:lnTo>
                <a:lnTo>
                  <a:pt x="355565" y="177911"/>
                </a:lnTo>
                <a:lnTo>
                  <a:pt x="323779" y="177911"/>
                </a:lnTo>
                <a:close/>
                <a:moveTo>
                  <a:pt x="277525" y="146125"/>
                </a:moveTo>
                <a:lnTo>
                  <a:pt x="309311" y="146125"/>
                </a:lnTo>
                <a:lnTo>
                  <a:pt x="309311" y="177911"/>
                </a:lnTo>
                <a:lnTo>
                  <a:pt x="277525" y="177911"/>
                </a:lnTo>
                <a:close/>
                <a:moveTo>
                  <a:pt x="231271" y="146125"/>
                </a:moveTo>
                <a:lnTo>
                  <a:pt x="263057" y="146125"/>
                </a:lnTo>
                <a:lnTo>
                  <a:pt x="263057" y="177911"/>
                </a:lnTo>
                <a:lnTo>
                  <a:pt x="231271" y="177911"/>
                </a:lnTo>
                <a:close/>
                <a:moveTo>
                  <a:pt x="185016" y="146125"/>
                </a:moveTo>
                <a:lnTo>
                  <a:pt x="216803" y="146125"/>
                </a:lnTo>
                <a:lnTo>
                  <a:pt x="216803" y="177911"/>
                </a:lnTo>
                <a:lnTo>
                  <a:pt x="185016" y="177911"/>
                </a:lnTo>
                <a:close/>
                <a:moveTo>
                  <a:pt x="138762" y="146125"/>
                </a:moveTo>
                <a:lnTo>
                  <a:pt x="170549" y="146125"/>
                </a:lnTo>
                <a:lnTo>
                  <a:pt x="170549" y="177911"/>
                </a:lnTo>
                <a:lnTo>
                  <a:pt x="138762" y="177911"/>
                </a:lnTo>
                <a:close/>
                <a:moveTo>
                  <a:pt x="92508" y="146125"/>
                </a:moveTo>
                <a:lnTo>
                  <a:pt x="124294" y="146125"/>
                </a:lnTo>
                <a:lnTo>
                  <a:pt x="124294" y="177911"/>
                </a:lnTo>
                <a:lnTo>
                  <a:pt x="92508" y="177911"/>
                </a:lnTo>
                <a:close/>
                <a:moveTo>
                  <a:pt x="46254" y="146125"/>
                </a:moveTo>
                <a:lnTo>
                  <a:pt x="78040" y="146125"/>
                </a:lnTo>
                <a:lnTo>
                  <a:pt x="78040" y="177911"/>
                </a:lnTo>
                <a:lnTo>
                  <a:pt x="46254" y="177911"/>
                </a:lnTo>
                <a:close/>
                <a:moveTo>
                  <a:pt x="0" y="146125"/>
                </a:moveTo>
                <a:lnTo>
                  <a:pt x="31787" y="146125"/>
                </a:lnTo>
                <a:lnTo>
                  <a:pt x="31787" y="177911"/>
                </a:lnTo>
                <a:lnTo>
                  <a:pt x="0" y="177911"/>
                </a:lnTo>
                <a:close/>
                <a:moveTo>
                  <a:pt x="416287" y="121771"/>
                </a:moveTo>
                <a:lnTo>
                  <a:pt x="448074" y="121771"/>
                </a:lnTo>
                <a:lnTo>
                  <a:pt x="448074" y="153557"/>
                </a:lnTo>
                <a:lnTo>
                  <a:pt x="416287" y="153557"/>
                </a:lnTo>
                <a:close/>
                <a:moveTo>
                  <a:pt x="370033" y="97417"/>
                </a:moveTo>
                <a:lnTo>
                  <a:pt x="401820" y="97417"/>
                </a:lnTo>
                <a:lnTo>
                  <a:pt x="401820" y="129203"/>
                </a:lnTo>
                <a:lnTo>
                  <a:pt x="370033" y="129203"/>
                </a:lnTo>
                <a:close/>
                <a:moveTo>
                  <a:pt x="323779" y="97417"/>
                </a:moveTo>
                <a:lnTo>
                  <a:pt x="355565" y="97417"/>
                </a:lnTo>
                <a:lnTo>
                  <a:pt x="355565" y="129203"/>
                </a:lnTo>
                <a:lnTo>
                  <a:pt x="323779" y="129203"/>
                </a:lnTo>
                <a:close/>
                <a:moveTo>
                  <a:pt x="277525" y="97417"/>
                </a:moveTo>
                <a:lnTo>
                  <a:pt x="309311" y="97417"/>
                </a:lnTo>
                <a:lnTo>
                  <a:pt x="309311" y="129203"/>
                </a:lnTo>
                <a:lnTo>
                  <a:pt x="277525" y="129203"/>
                </a:lnTo>
                <a:close/>
                <a:moveTo>
                  <a:pt x="231271" y="97417"/>
                </a:moveTo>
                <a:lnTo>
                  <a:pt x="263057" y="97417"/>
                </a:lnTo>
                <a:lnTo>
                  <a:pt x="263057" y="129203"/>
                </a:lnTo>
                <a:lnTo>
                  <a:pt x="231271" y="129203"/>
                </a:lnTo>
                <a:close/>
                <a:moveTo>
                  <a:pt x="185016" y="97417"/>
                </a:moveTo>
                <a:lnTo>
                  <a:pt x="216803" y="97417"/>
                </a:lnTo>
                <a:lnTo>
                  <a:pt x="216803" y="129203"/>
                </a:lnTo>
                <a:lnTo>
                  <a:pt x="185016" y="129203"/>
                </a:lnTo>
                <a:close/>
                <a:moveTo>
                  <a:pt x="138762" y="97417"/>
                </a:moveTo>
                <a:lnTo>
                  <a:pt x="170549" y="97417"/>
                </a:lnTo>
                <a:lnTo>
                  <a:pt x="170549" y="129203"/>
                </a:lnTo>
                <a:lnTo>
                  <a:pt x="138762" y="129203"/>
                </a:lnTo>
                <a:close/>
                <a:moveTo>
                  <a:pt x="92508" y="97417"/>
                </a:moveTo>
                <a:lnTo>
                  <a:pt x="124294" y="97417"/>
                </a:lnTo>
                <a:lnTo>
                  <a:pt x="124294" y="129203"/>
                </a:lnTo>
                <a:lnTo>
                  <a:pt x="92508" y="129203"/>
                </a:lnTo>
                <a:close/>
                <a:moveTo>
                  <a:pt x="46254" y="97417"/>
                </a:moveTo>
                <a:lnTo>
                  <a:pt x="78040" y="97417"/>
                </a:lnTo>
                <a:lnTo>
                  <a:pt x="78040" y="129203"/>
                </a:lnTo>
                <a:lnTo>
                  <a:pt x="46254" y="129203"/>
                </a:lnTo>
                <a:close/>
                <a:moveTo>
                  <a:pt x="0" y="97417"/>
                </a:moveTo>
                <a:lnTo>
                  <a:pt x="31787" y="97417"/>
                </a:lnTo>
                <a:lnTo>
                  <a:pt x="31787" y="129203"/>
                </a:lnTo>
                <a:lnTo>
                  <a:pt x="0" y="129203"/>
                </a:lnTo>
                <a:close/>
                <a:moveTo>
                  <a:pt x="323779" y="48708"/>
                </a:moveTo>
                <a:lnTo>
                  <a:pt x="355565" y="48708"/>
                </a:lnTo>
                <a:lnTo>
                  <a:pt x="355565" y="80495"/>
                </a:lnTo>
                <a:lnTo>
                  <a:pt x="323779" y="80495"/>
                </a:lnTo>
                <a:close/>
                <a:moveTo>
                  <a:pt x="277525" y="48708"/>
                </a:moveTo>
                <a:lnTo>
                  <a:pt x="309311" y="48708"/>
                </a:lnTo>
                <a:lnTo>
                  <a:pt x="309311" y="80495"/>
                </a:lnTo>
                <a:lnTo>
                  <a:pt x="277525" y="80495"/>
                </a:lnTo>
                <a:close/>
                <a:moveTo>
                  <a:pt x="277525" y="0"/>
                </a:moveTo>
                <a:lnTo>
                  <a:pt x="309311" y="0"/>
                </a:lnTo>
                <a:lnTo>
                  <a:pt x="309311" y="31787"/>
                </a:lnTo>
                <a:lnTo>
                  <a:pt x="277525" y="31787"/>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62" name="文本框 4"/>
          <p:cNvSpPr/>
          <p:nvPr/>
        </p:nvSpPr>
        <p:spPr>
          <a:xfrm>
            <a:off x="425520" y="5532480"/>
            <a:ext cx="9632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等线"/>
              </a:rPr>
              <a:t>How to pronounce the following words?</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等线"/>
              </a:rPr>
              <a:t>brute    pooch    fuse     lunatic     spoon      tunic      </a:t>
            </a:r>
            <a:r>
              <a:rPr b="0" lang="en-US" sz="1800" spc="-1" strike="noStrike">
                <a:solidFill>
                  <a:srgbClr val="ff0000"/>
                </a:solidFill>
                <a:latin typeface="等线"/>
              </a:rPr>
              <a:t> </a:t>
            </a:r>
            <a:endParaRPr b="0" lang="en-US" sz="1800" spc="-1" strike="noStrike">
              <a:solidFill>
                <a:srgbClr val="000000"/>
              </a:solidFill>
              <a:latin typeface="等线"/>
            </a:endParaRPr>
          </a:p>
        </p:txBody>
      </p:sp>
    </p:spTree>
  </p:cSld>
  <p:transition>
    <p:push dir="u"/>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dur="indefinite" nodeType="clickEffect" fill="hold" presetClass="entr" presetID="2" presetSubtype="4">
                                  <p:stCondLst>
                                    <p:cond delay="0"/>
                                  </p:stCondLst>
                                  <p:childTnLst>
                                    <p:set>
                                      <p:cBhvr>
                                        <p:cTn id="570" dur="1" fill="hold">
                                          <p:stCondLst>
                                            <p:cond delay="0"/>
                                          </p:stCondLst>
                                        </p:cTn>
                                        <p:tgtEl>
                                          <p:spTgt spid="255">
                                            <p:txEl>
                                              <p:pRg st="0" end="0"/>
                                            </p:txEl>
                                          </p:spTgt>
                                        </p:tgtEl>
                                        <p:attrNameLst>
                                          <p:attrName>style.visibility</p:attrName>
                                        </p:attrNameLst>
                                      </p:cBhvr>
                                      <p:to>
                                        <p:strVal val="visible"/>
                                      </p:to>
                                    </p:set>
                                    <p:anim calcmode="lin" valueType="num">
                                      <p:cBhvr additive="repl">
                                        <p:cTn id="571" dur="5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repl">
                                        <p:cTn id="572" dur="500" fill="hold"/>
                                        <p:tgtEl>
                                          <p:spTgt spid="255">
                                            <p:txEl>
                                              <p:pRg st="0" end="0"/>
                                            </p:txEl>
                                          </p:spTgt>
                                        </p:tgtEl>
                                        <p:attrNameLst>
                                          <p:attrName>ppt_y</p:attrName>
                                        </p:attrNameLst>
                                      </p:cBhvr>
                                      <p:tavLst>
                                        <p:tav tm="0">
                                          <p:val>
                                            <p:strVal val="1+#ppt_h/2"/>
                                          </p:val>
                                        </p:tav>
                                        <p:tav tm="100000">
                                          <p:val>
                                            <p:strVal val="#ppt_y"/>
                                          </p:val>
                                        </p:tav>
                                      </p:tavLst>
                                    </p:anim>
                                  </p:childTnLst>
                                </p:cTn>
                              </p:par>
                              <p:par>
                                <p:cTn id="573" dur="indefinite" nodeType="withEffect" fill="hold" presetClass="entr" presetID="2" presetSubtype="4">
                                  <p:stCondLst>
                                    <p:cond delay="0"/>
                                  </p:stCondLst>
                                  <p:childTnLst>
                                    <p:set>
                                      <p:cBhvr>
                                        <p:cTn id="574" dur="1" fill="hold">
                                          <p:stCondLst>
                                            <p:cond delay="0"/>
                                          </p:stCondLst>
                                        </p:cTn>
                                        <p:tgtEl>
                                          <p:spTgt spid="255">
                                            <p:txEl>
                                              <p:pRg st="1" end="1"/>
                                            </p:txEl>
                                          </p:spTgt>
                                        </p:tgtEl>
                                        <p:attrNameLst>
                                          <p:attrName>style.visibility</p:attrName>
                                        </p:attrNameLst>
                                      </p:cBhvr>
                                      <p:to>
                                        <p:strVal val="visible"/>
                                      </p:to>
                                    </p:set>
                                    <p:anim calcmode="lin" valueType="num">
                                      <p:cBhvr additive="repl">
                                        <p:cTn id="575" dur="5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repl">
                                        <p:cTn id="576" dur="500" fill="hold"/>
                                        <p:tgtEl>
                                          <p:spTgt spid="255">
                                            <p:txEl>
                                              <p:pRg st="1" end="1"/>
                                            </p:txEl>
                                          </p:spTgt>
                                        </p:tgtEl>
                                        <p:attrNameLst>
                                          <p:attrName>ppt_y</p:attrName>
                                        </p:attrNameLst>
                                      </p:cBhvr>
                                      <p:tavLst>
                                        <p:tav tm="0">
                                          <p:val>
                                            <p:strVal val="1+#ppt_h/2"/>
                                          </p:val>
                                        </p:tav>
                                        <p:tav tm="100000">
                                          <p:val>
                                            <p:strVal val="#ppt_y"/>
                                          </p:val>
                                        </p:tav>
                                      </p:tavLst>
                                    </p:anim>
                                  </p:childTnLst>
                                </p:cTn>
                              </p:par>
                              <p:par>
                                <p:cTn id="577" dur="indefinite" nodeType="withEffect" fill="hold" presetClass="entr" presetID="2" presetSubtype="4">
                                  <p:stCondLst>
                                    <p:cond delay="0"/>
                                  </p:stCondLst>
                                  <p:childTnLst>
                                    <p:set>
                                      <p:cBhvr>
                                        <p:cTn id="578" dur="1" fill="hold">
                                          <p:stCondLst>
                                            <p:cond delay="0"/>
                                          </p:stCondLst>
                                        </p:cTn>
                                        <p:tgtEl>
                                          <p:spTgt spid="255">
                                            <p:txEl>
                                              <p:pRg st="2" end="2"/>
                                            </p:txEl>
                                          </p:spTgt>
                                        </p:tgtEl>
                                        <p:attrNameLst>
                                          <p:attrName>style.visibility</p:attrName>
                                        </p:attrNameLst>
                                      </p:cBhvr>
                                      <p:to>
                                        <p:strVal val="visible"/>
                                      </p:to>
                                    </p:set>
                                    <p:anim calcmode="lin" valueType="num">
                                      <p:cBhvr additive="repl">
                                        <p:cTn id="579" dur="5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repl">
                                        <p:cTn id="580" dur="500" fill="hold"/>
                                        <p:tgtEl>
                                          <p:spTgt spid="255">
                                            <p:txEl>
                                              <p:pRg st="2" end="2"/>
                                            </p:txEl>
                                          </p:spTgt>
                                        </p:tgtEl>
                                        <p:attrNameLst>
                                          <p:attrName>ppt_y</p:attrName>
                                        </p:attrNameLst>
                                      </p:cBhvr>
                                      <p:tavLst>
                                        <p:tav tm="0">
                                          <p:val>
                                            <p:strVal val="1+#ppt_h/2"/>
                                          </p:val>
                                        </p:tav>
                                        <p:tav tm="100000">
                                          <p:val>
                                            <p:strVal val="#ppt_y"/>
                                          </p:val>
                                        </p:tav>
                                      </p:tavLst>
                                    </p:anim>
                                  </p:childTnLst>
                                </p:cTn>
                              </p:par>
                              <p:par>
                                <p:cTn id="581" dur="indefinite" nodeType="withEffect" fill="hold" presetClass="entr" presetID="2" presetSubtype="4">
                                  <p:stCondLst>
                                    <p:cond delay="0"/>
                                  </p:stCondLst>
                                  <p:childTnLst>
                                    <p:set>
                                      <p:cBhvr>
                                        <p:cTn id="582" dur="1" fill="hold">
                                          <p:stCondLst>
                                            <p:cond delay="0"/>
                                          </p:stCondLst>
                                        </p:cTn>
                                        <p:tgtEl>
                                          <p:spTgt spid="255">
                                            <p:txEl>
                                              <p:pRg st="3" end="3"/>
                                            </p:txEl>
                                          </p:spTgt>
                                        </p:tgtEl>
                                        <p:attrNameLst>
                                          <p:attrName>style.visibility</p:attrName>
                                        </p:attrNameLst>
                                      </p:cBhvr>
                                      <p:to>
                                        <p:strVal val="visible"/>
                                      </p:to>
                                    </p:set>
                                    <p:anim calcmode="lin" valueType="num">
                                      <p:cBhvr additive="repl">
                                        <p:cTn id="583" dur="500" fill="hold"/>
                                        <p:tgtEl>
                                          <p:spTgt spid="255">
                                            <p:txEl>
                                              <p:pRg st="3" end="3"/>
                                            </p:txEl>
                                          </p:spTgt>
                                        </p:tgtEl>
                                        <p:attrNameLst>
                                          <p:attrName>ppt_x</p:attrName>
                                        </p:attrNameLst>
                                      </p:cBhvr>
                                      <p:tavLst>
                                        <p:tav tm="0">
                                          <p:val>
                                            <p:strVal val="#ppt_x"/>
                                          </p:val>
                                        </p:tav>
                                        <p:tav tm="100000">
                                          <p:val>
                                            <p:strVal val="#ppt_x"/>
                                          </p:val>
                                        </p:tav>
                                      </p:tavLst>
                                    </p:anim>
                                    <p:anim calcmode="lin" valueType="num">
                                      <p:cBhvr additive="repl">
                                        <p:cTn id="584" dur="500" fill="hold"/>
                                        <p:tgtEl>
                                          <p:spTgt spid="255">
                                            <p:txEl>
                                              <p:pRg st="3" end="3"/>
                                            </p:txEl>
                                          </p:spTgt>
                                        </p:tgtEl>
                                        <p:attrNameLst>
                                          <p:attrName>ppt_y</p:attrName>
                                        </p:attrNameLst>
                                      </p:cBhvr>
                                      <p:tavLst>
                                        <p:tav tm="0">
                                          <p:val>
                                            <p:strVal val="1+#ppt_h/2"/>
                                          </p:val>
                                        </p:tav>
                                        <p:tav tm="100000">
                                          <p:val>
                                            <p:strVal val="#ppt_y"/>
                                          </p:val>
                                        </p:tav>
                                      </p:tavLst>
                                    </p:anim>
                                  </p:childTnLst>
                                </p:cTn>
                              </p:par>
                              <p:par>
                                <p:cTn id="585" dur="indefinite" nodeType="withEffect" fill="hold" presetClass="entr" presetID="2" presetSubtype="4">
                                  <p:stCondLst>
                                    <p:cond delay="0"/>
                                  </p:stCondLst>
                                  <p:childTnLst>
                                    <p:set>
                                      <p:cBhvr>
                                        <p:cTn id="586" dur="1" fill="hold">
                                          <p:stCondLst>
                                            <p:cond delay="0"/>
                                          </p:stCondLst>
                                        </p:cTn>
                                        <p:tgtEl>
                                          <p:spTgt spid="255">
                                            <p:txEl>
                                              <p:pRg st="4" end="4"/>
                                            </p:txEl>
                                          </p:spTgt>
                                        </p:tgtEl>
                                        <p:attrNameLst>
                                          <p:attrName>style.visibility</p:attrName>
                                        </p:attrNameLst>
                                      </p:cBhvr>
                                      <p:to>
                                        <p:strVal val="visible"/>
                                      </p:to>
                                    </p:set>
                                    <p:anim calcmode="lin" valueType="num">
                                      <p:cBhvr additive="repl">
                                        <p:cTn id="587" dur="500" fill="hold"/>
                                        <p:tgtEl>
                                          <p:spTgt spid="255">
                                            <p:txEl>
                                              <p:pRg st="4" end="4"/>
                                            </p:txEl>
                                          </p:spTgt>
                                        </p:tgtEl>
                                        <p:attrNameLst>
                                          <p:attrName>ppt_x</p:attrName>
                                        </p:attrNameLst>
                                      </p:cBhvr>
                                      <p:tavLst>
                                        <p:tav tm="0">
                                          <p:val>
                                            <p:strVal val="#ppt_x"/>
                                          </p:val>
                                        </p:tav>
                                        <p:tav tm="100000">
                                          <p:val>
                                            <p:strVal val="#ppt_x"/>
                                          </p:val>
                                        </p:tav>
                                      </p:tavLst>
                                    </p:anim>
                                    <p:anim calcmode="lin" valueType="num">
                                      <p:cBhvr additive="repl">
                                        <p:cTn id="588" dur="500" fill="hold"/>
                                        <p:tgtEl>
                                          <p:spTgt spid="255">
                                            <p:txEl>
                                              <p:pRg st="4" end="4"/>
                                            </p:txEl>
                                          </p:spTgt>
                                        </p:tgtEl>
                                        <p:attrNameLst>
                                          <p:attrName>ppt_y</p:attrName>
                                        </p:attrNameLst>
                                      </p:cBhvr>
                                      <p:tavLst>
                                        <p:tav tm="0">
                                          <p:val>
                                            <p:strVal val="1+#ppt_h/2"/>
                                          </p:val>
                                        </p:tav>
                                        <p:tav tm="100000">
                                          <p:val>
                                            <p:strVal val="#ppt_y"/>
                                          </p:val>
                                        </p:tav>
                                      </p:tavLst>
                                    </p:anim>
                                  </p:childTnLst>
                                </p:cTn>
                              </p:par>
                              <p:par>
                                <p:cTn id="589" dur="indefinite" nodeType="withEffect" fill="hold" presetClass="entr" presetID="2" presetSubtype="4">
                                  <p:stCondLst>
                                    <p:cond delay="0"/>
                                  </p:stCondLst>
                                  <p:childTnLst>
                                    <p:set>
                                      <p:cBhvr>
                                        <p:cTn id="590" dur="1" fill="hold">
                                          <p:stCondLst>
                                            <p:cond delay="0"/>
                                          </p:stCondLst>
                                        </p:cTn>
                                        <p:tgtEl>
                                          <p:spTgt spid="255">
                                            <p:txEl>
                                              <p:pRg st="5" end="5"/>
                                            </p:txEl>
                                          </p:spTgt>
                                        </p:tgtEl>
                                        <p:attrNameLst>
                                          <p:attrName>style.visibility</p:attrName>
                                        </p:attrNameLst>
                                      </p:cBhvr>
                                      <p:to>
                                        <p:strVal val="visible"/>
                                      </p:to>
                                    </p:set>
                                    <p:anim calcmode="lin" valueType="num">
                                      <p:cBhvr additive="repl">
                                        <p:cTn id="591" dur="500" fill="hold"/>
                                        <p:tgtEl>
                                          <p:spTgt spid="255">
                                            <p:txEl>
                                              <p:pRg st="5" end="5"/>
                                            </p:txEl>
                                          </p:spTgt>
                                        </p:tgtEl>
                                        <p:attrNameLst>
                                          <p:attrName>ppt_x</p:attrName>
                                        </p:attrNameLst>
                                      </p:cBhvr>
                                      <p:tavLst>
                                        <p:tav tm="0">
                                          <p:val>
                                            <p:strVal val="#ppt_x"/>
                                          </p:val>
                                        </p:tav>
                                        <p:tav tm="100000">
                                          <p:val>
                                            <p:strVal val="#ppt_x"/>
                                          </p:val>
                                        </p:tav>
                                      </p:tavLst>
                                    </p:anim>
                                    <p:anim calcmode="lin" valueType="num">
                                      <p:cBhvr additive="repl">
                                        <p:cTn id="592" dur="500" fill="hold"/>
                                        <p:tgtEl>
                                          <p:spTgt spid="2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dur="indefinite" nodeType="clickEffect" fill="hold" presetClass="entr" presetID="2" presetSubtype="4">
                                  <p:stCondLst>
                                    <p:cond delay="0"/>
                                  </p:stCondLst>
                                  <p:childTnLst>
                                    <p:set>
                                      <p:cBhvr>
                                        <p:cTn id="596" dur="1" fill="hold">
                                          <p:stCondLst>
                                            <p:cond delay="0"/>
                                          </p:stCondLst>
                                        </p:cTn>
                                        <p:tgtEl>
                                          <p:spTgt spid="259"/>
                                        </p:tgtEl>
                                        <p:attrNameLst>
                                          <p:attrName>style.visibility</p:attrName>
                                        </p:attrNameLst>
                                      </p:cBhvr>
                                      <p:to>
                                        <p:strVal val="visible"/>
                                      </p:to>
                                    </p:set>
                                    <p:anim calcmode="lin" valueType="num">
                                      <p:cBhvr additive="repl">
                                        <p:cTn id="597" dur="500" fill="hold"/>
                                        <p:tgtEl>
                                          <p:spTgt spid="259"/>
                                        </p:tgtEl>
                                        <p:attrNameLst>
                                          <p:attrName>ppt_x</p:attrName>
                                        </p:attrNameLst>
                                      </p:cBhvr>
                                      <p:tavLst>
                                        <p:tav tm="0">
                                          <p:val>
                                            <p:strVal val="#ppt_x"/>
                                          </p:val>
                                        </p:tav>
                                        <p:tav tm="100000">
                                          <p:val>
                                            <p:strVal val="#ppt_x"/>
                                          </p:val>
                                        </p:tav>
                                      </p:tavLst>
                                    </p:anim>
                                    <p:anim calcmode="lin" valueType="num">
                                      <p:cBhvr additive="repl">
                                        <p:cTn id="598"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dur="indefinite" nodeType="clickEffect" fill="hold" presetClass="entr" presetID="2" presetSubtype="4">
                                  <p:stCondLst>
                                    <p:cond delay="0"/>
                                  </p:stCondLst>
                                  <p:childTnLst>
                                    <p:set>
                                      <p:cBhvr>
                                        <p:cTn id="602" dur="1" fill="hold">
                                          <p:stCondLst>
                                            <p:cond delay="0"/>
                                          </p:stCondLst>
                                        </p:cTn>
                                        <p:tgtEl>
                                          <p:spTgt spid="261"/>
                                        </p:tgtEl>
                                        <p:attrNameLst>
                                          <p:attrName>style.visibility</p:attrName>
                                        </p:attrNameLst>
                                      </p:cBhvr>
                                      <p:to>
                                        <p:strVal val="visible"/>
                                      </p:to>
                                    </p:set>
                                    <p:anim calcmode="lin" valueType="num">
                                      <p:cBhvr additive="repl">
                                        <p:cTn id="603" dur="500" fill="hold"/>
                                        <p:tgtEl>
                                          <p:spTgt spid="261"/>
                                        </p:tgtEl>
                                        <p:attrNameLst>
                                          <p:attrName>ppt_x</p:attrName>
                                        </p:attrNameLst>
                                      </p:cBhvr>
                                      <p:tavLst>
                                        <p:tav tm="0">
                                          <p:val>
                                            <p:strVal val="#ppt_x"/>
                                          </p:val>
                                        </p:tav>
                                        <p:tav tm="100000">
                                          <p:val>
                                            <p:strVal val="#ppt_x"/>
                                          </p:val>
                                        </p:tav>
                                      </p:tavLst>
                                    </p:anim>
                                    <p:anim calcmode="lin" valueType="num">
                                      <p:cBhvr additive="repl">
                                        <p:cTn id="604"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dur="indefinite" nodeType="clickEffect" fill="hold" presetClass="entr" presetID="2" presetSubtype="4">
                                  <p:stCondLst>
                                    <p:cond delay="0"/>
                                  </p:stCondLst>
                                  <p:childTnLst>
                                    <p:set>
                                      <p:cBhvr>
                                        <p:cTn id="608" dur="1" fill="hold">
                                          <p:stCondLst>
                                            <p:cond delay="0"/>
                                          </p:stCondLst>
                                        </p:cTn>
                                        <p:tgtEl>
                                          <p:spTgt spid="260">
                                            <p:txEl>
                                              <p:pRg st="0" end="0"/>
                                            </p:txEl>
                                          </p:spTgt>
                                        </p:tgtEl>
                                        <p:attrNameLst>
                                          <p:attrName>style.visibility</p:attrName>
                                        </p:attrNameLst>
                                      </p:cBhvr>
                                      <p:to>
                                        <p:strVal val="visible"/>
                                      </p:to>
                                    </p:set>
                                    <p:anim calcmode="lin" valueType="num">
                                      <p:cBhvr additive="repl">
                                        <p:cTn id="609" dur="5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repl">
                                        <p:cTn id="610" dur="500" fill="hold"/>
                                        <p:tgtEl>
                                          <p:spTgt spid="260">
                                            <p:txEl>
                                              <p:pRg st="0" end="0"/>
                                            </p:txEl>
                                          </p:spTgt>
                                        </p:tgtEl>
                                        <p:attrNameLst>
                                          <p:attrName>ppt_y</p:attrName>
                                        </p:attrNameLst>
                                      </p:cBhvr>
                                      <p:tavLst>
                                        <p:tav tm="0">
                                          <p:val>
                                            <p:strVal val="1+#ppt_h/2"/>
                                          </p:val>
                                        </p:tav>
                                        <p:tav tm="100000">
                                          <p:val>
                                            <p:strVal val="#ppt_y"/>
                                          </p:val>
                                        </p:tav>
                                      </p:tavLst>
                                    </p:anim>
                                  </p:childTnLst>
                                </p:cTn>
                              </p:par>
                              <p:par>
                                <p:cTn id="611" dur="indefinite" nodeType="withEffect" fill="hold" presetClass="entr" presetID="2" presetSubtype="4">
                                  <p:stCondLst>
                                    <p:cond delay="0"/>
                                  </p:stCondLst>
                                  <p:childTnLst>
                                    <p:set>
                                      <p:cBhvr>
                                        <p:cTn id="612" dur="1" fill="hold">
                                          <p:stCondLst>
                                            <p:cond delay="0"/>
                                          </p:stCondLst>
                                        </p:cTn>
                                        <p:tgtEl>
                                          <p:spTgt spid="260">
                                            <p:txEl>
                                              <p:pRg st="0" end="0"/>
                                            </p:txEl>
                                          </p:spTgt>
                                        </p:tgtEl>
                                        <p:attrNameLst>
                                          <p:attrName>style.visibility</p:attrName>
                                        </p:attrNameLst>
                                      </p:cBhvr>
                                      <p:to>
                                        <p:strVal val="visible"/>
                                      </p:to>
                                    </p:set>
                                    <p:anim calcmode="lin" valueType="num">
                                      <p:cBhvr additive="repl">
                                        <p:cTn id="613" dur="5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repl">
                                        <p:cTn id="614" dur="500" fill="hold"/>
                                        <p:tgtEl>
                                          <p:spTgt spid="2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dur="indefinite" nodeType="clickEffect" fill="hold" presetClass="entr" presetID="2" presetSubtype="4">
                                  <p:stCondLst>
                                    <p:cond delay="0"/>
                                  </p:stCondLst>
                                  <p:childTnLst>
                                    <p:set>
                                      <p:cBhvr>
                                        <p:cTn id="618" dur="1" fill="hold">
                                          <p:stCondLst>
                                            <p:cond delay="0"/>
                                          </p:stCondLst>
                                        </p:cTn>
                                        <p:tgtEl>
                                          <p:spTgt spid="262">
                                            <p:txEl>
                                              <p:pRg st="0" end="0"/>
                                            </p:txEl>
                                          </p:spTgt>
                                        </p:tgtEl>
                                        <p:attrNameLst>
                                          <p:attrName>style.visibility</p:attrName>
                                        </p:attrNameLst>
                                      </p:cBhvr>
                                      <p:to>
                                        <p:strVal val="visible"/>
                                      </p:to>
                                    </p:set>
                                    <p:anim calcmode="lin" valueType="num">
                                      <p:cBhvr additive="repl">
                                        <p:cTn id="619"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repl">
                                        <p:cTn id="620" dur="500" fill="hold"/>
                                        <p:tgtEl>
                                          <p:spTgt spid="262">
                                            <p:txEl>
                                              <p:pRg st="0" end="0"/>
                                            </p:txEl>
                                          </p:spTgt>
                                        </p:tgtEl>
                                        <p:attrNameLst>
                                          <p:attrName>ppt_y</p:attrName>
                                        </p:attrNameLst>
                                      </p:cBhvr>
                                      <p:tavLst>
                                        <p:tav tm="0">
                                          <p:val>
                                            <p:strVal val="1+#ppt_h/2"/>
                                          </p:val>
                                        </p:tav>
                                        <p:tav tm="100000">
                                          <p:val>
                                            <p:strVal val="#ppt_y"/>
                                          </p:val>
                                        </p:tav>
                                      </p:tavLst>
                                    </p:anim>
                                  </p:childTnLst>
                                </p:cTn>
                              </p:par>
                              <p:par>
                                <p:cTn id="621" dur="indefinite" nodeType="withEffect" fill="hold" presetClass="entr" presetID="2" presetSubtype="4">
                                  <p:stCondLst>
                                    <p:cond delay="0"/>
                                  </p:stCondLst>
                                  <p:childTnLst>
                                    <p:set>
                                      <p:cBhvr>
                                        <p:cTn id="622" dur="1" fill="hold">
                                          <p:stCondLst>
                                            <p:cond delay="0"/>
                                          </p:stCondLst>
                                        </p:cTn>
                                        <p:tgtEl>
                                          <p:spTgt spid="262">
                                            <p:txEl>
                                              <p:pRg st="1" end="1"/>
                                            </p:txEl>
                                          </p:spTgt>
                                        </p:tgtEl>
                                        <p:attrNameLst>
                                          <p:attrName>style.visibility</p:attrName>
                                        </p:attrNameLst>
                                      </p:cBhvr>
                                      <p:to>
                                        <p:strVal val="visible"/>
                                      </p:to>
                                    </p:set>
                                    <p:anim calcmode="lin" valueType="num">
                                      <p:cBhvr additive="repl">
                                        <p:cTn id="623" dur="5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repl">
                                        <p:cTn id="624" dur="500" fill="hold"/>
                                        <p:tgtEl>
                                          <p:spTgt spid="2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图片 9" descr=""/>
          <p:cNvPicPr/>
          <p:nvPr/>
        </p:nvPicPr>
        <p:blipFill>
          <a:blip r:embed="rId1"/>
          <a:srcRect l="0" t="0" r="42150" b="48020"/>
          <a:stretch/>
        </p:blipFill>
        <p:spPr>
          <a:xfrm>
            <a:off x="7345440" y="2511360"/>
            <a:ext cx="4846680" cy="4346640"/>
          </a:xfrm>
          <a:prstGeom prst="rect">
            <a:avLst/>
          </a:prstGeom>
          <a:ln w="0">
            <a:noFill/>
          </a:ln>
        </p:spPr>
      </p:pic>
      <p:sp>
        <p:nvSpPr>
          <p:cNvPr id="264" name="Rectangle 5"/>
          <p:cNvSpPr/>
          <p:nvPr/>
        </p:nvSpPr>
        <p:spPr>
          <a:xfrm>
            <a:off x="2473200" y="2049480"/>
            <a:ext cx="7245360" cy="2760480"/>
          </a:xfrm>
          <a:prstGeom prst="rect">
            <a:avLst/>
          </a:prstGeom>
          <a:noFill/>
          <a:ln w="38160">
            <a:solidFill>
              <a:srgbClr val="3d735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65" name="图片 16" descr=""/>
          <p:cNvPicPr/>
          <p:nvPr/>
        </p:nvPicPr>
        <p:blipFill>
          <a:blip r:embed="rId2"/>
          <a:srcRect l="17878" t="35014" r="0" b="43149"/>
          <a:stretch/>
        </p:blipFill>
        <p:spPr>
          <a:xfrm>
            <a:off x="0" y="0"/>
            <a:ext cx="5837400" cy="2166840"/>
          </a:xfrm>
          <a:prstGeom prst="rect">
            <a:avLst/>
          </a:prstGeom>
          <a:ln w="0">
            <a:noFill/>
          </a:ln>
        </p:spPr>
      </p:pic>
      <p:grpSp>
        <p:nvGrpSpPr>
          <p:cNvPr id="266" name="组合 29"/>
          <p:cNvGrpSpPr/>
          <p:nvPr/>
        </p:nvGrpSpPr>
        <p:grpSpPr>
          <a:xfrm>
            <a:off x="3621240" y="2793960"/>
            <a:ext cx="6097320" cy="1101240"/>
            <a:chOff x="3621240" y="2793960"/>
            <a:chExt cx="6097320" cy="1101240"/>
          </a:xfrm>
        </p:grpSpPr>
        <p:sp>
          <p:nvSpPr>
            <p:cNvPr id="267" name="文本框 13"/>
            <p:cNvSpPr/>
            <p:nvPr/>
          </p:nvSpPr>
          <p:spPr>
            <a:xfrm>
              <a:off x="4636440" y="2793960"/>
              <a:ext cx="5082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微软雅黑"/>
                  <a:ea typeface="微软雅黑"/>
                </a:rPr>
                <a:t>Games &amp; Activities</a:t>
              </a:r>
              <a:endParaRPr b="0" lang="en-US" sz="4000" spc="-1" strike="noStrike">
                <a:solidFill>
                  <a:srgbClr val="000000"/>
                </a:solidFill>
                <a:latin typeface="等线"/>
              </a:endParaRPr>
            </a:p>
          </p:txBody>
        </p:sp>
        <p:sp>
          <p:nvSpPr>
            <p:cNvPr id="268" name="文本框 35"/>
            <p:cNvSpPr/>
            <p:nvPr/>
          </p:nvSpPr>
          <p:spPr>
            <a:xfrm>
              <a:off x="3655080" y="3313800"/>
              <a:ext cx="1274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8265"/>
                  </a:solidFill>
                  <a:latin typeface="Impact"/>
                  <a:ea typeface="微软雅黑 Light"/>
                </a:rPr>
                <a:t>PART</a:t>
              </a:r>
              <a:endParaRPr b="0" lang="en-US" sz="3200" spc="-1" strike="noStrike">
                <a:solidFill>
                  <a:srgbClr val="000000"/>
                </a:solidFill>
                <a:latin typeface="等线"/>
              </a:endParaRPr>
            </a:p>
          </p:txBody>
        </p:sp>
        <p:sp>
          <p:nvSpPr>
            <p:cNvPr id="269" name="文本框 36"/>
            <p:cNvSpPr/>
            <p:nvPr/>
          </p:nvSpPr>
          <p:spPr>
            <a:xfrm>
              <a:off x="3621240" y="2793960"/>
              <a:ext cx="134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8265"/>
                  </a:solidFill>
                  <a:latin typeface="微软雅黑"/>
                  <a:ea typeface="微软雅黑"/>
                </a:rPr>
                <a:t>04</a:t>
              </a:r>
              <a:endParaRPr b="0" lang="en-US" sz="4000" spc="-1" strike="noStrike">
                <a:solidFill>
                  <a:srgbClr val="000000"/>
                </a:solidFill>
                <a:latin typeface="等线"/>
              </a:endParaRPr>
            </a:p>
          </p:txBody>
        </p:sp>
        <p:grpSp>
          <p:nvGrpSpPr>
            <p:cNvPr id="270" name="组合 37"/>
            <p:cNvGrpSpPr/>
            <p:nvPr/>
          </p:nvGrpSpPr>
          <p:grpSpPr>
            <a:xfrm>
              <a:off x="4270680" y="3145680"/>
              <a:ext cx="250200" cy="147240"/>
              <a:chOff x="4270680" y="3145680"/>
              <a:chExt cx="250200" cy="147240"/>
            </a:xfrm>
          </p:grpSpPr>
          <p:sp>
            <p:nvSpPr>
              <p:cNvPr id="271" name="L 形 38"/>
              <p:cNvSpPr/>
              <p:nvPr/>
            </p:nvSpPr>
            <p:spPr>
              <a:xfrm flipH="1" flipV="1" rot="2493600">
                <a:off x="4291560" y="3166560"/>
                <a:ext cx="104400" cy="104400"/>
              </a:xfrm>
              <a:custGeom>
                <a:avLst/>
                <a:gdLst/>
                <a:ahLst/>
                <a:rect l="l" t="t" r="r" b="b"/>
                <a:pathLst>
                  <a:path w="54401" h="54389">
                    <a:moveTo>
                      <a:pt x="0" y="0"/>
                    </a:moveTo>
                    <a:lnTo>
                      <a:pt x="9322" y="0"/>
                    </a:lnTo>
                    <a:lnTo>
                      <a:pt x="9322" y="46149"/>
                    </a:lnTo>
                    <a:lnTo>
                      <a:pt x="54401" y="46149"/>
                    </a:lnTo>
                    <a:lnTo>
                      <a:pt x="54401" y="54389"/>
                    </a:lnTo>
                    <a:lnTo>
                      <a:pt x="0" y="54389"/>
                    </a:lnTo>
                    <a:close/>
                  </a:path>
                </a:pathLst>
              </a:custGeom>
              <a:solidFill>
                <a:srgbClr val="6f8163"/>
              </a:solidFill>
              <a:ln w="12600">
                <a:solidFill>
                  <a:srgbClr val="7082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72" name="L 形 39"/>
              <p:cNvSpPr/>
              <p:nvPr/>
            </p:nvSpPr>
            <p:spPr>
              <a:xfrm flipH="1" flipV="1" rot="2493600">
                <a:off x="4394520" y="3166560"/>
                <a:ext cx="104400" cy="104400"/>
              </a:xfrm>
              <a:custGeom>
                <a:avLst/>
                <a:gdLst/>
                <a:ahLst/>
                <a:rect l="l" t="t" r="r" b="b"/>
                <a:pathLst>
                  <a:path w="54401" h="54389">
                    <a:moveTo>
                      <a:pt x="0" y="0"/>
                    </a:moveTo>
                    <a:lnTo>
                      <a:pt x="9322" y="0"/>
                    </a:lnTo>
                    <a:lnTo>
                      <a:pt x="9322" y="46149"/>
                    </a:lnTo>
                    <a:lnTo>
                      <a:pt x="54401" y="46149"/>
                    </a:lnTo>
                    <a:lnTo>
                      <a:pt x="54401" y="54389"/>
                    </a:lnTo>
                    <a:lnTo>
                      <a:pt x="0" y="54389"/>
                    </a:lnTo>
                    <a:close/>
                  </a:path>
                </a:pathLst>
              </a:custGeom>
              <a:solidFill>
                <a:srgbClr val="6f8163"/>
              </a:solidFill>
              <a:ln w="12600">
                <a:solidFill>
                  <a:srgbClr val="7082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grpSp>
    </p:spTree>
  </p:cSld>
  <p:transition>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半闭框 5"/>
          <p:cNvSpPr/>
          <p:nvPr/>
        </p:nvSpPr>
        <p:spPr>
          <a:xfrm>
            <a:off x="3105000" y="1241280"/>
            <a:ext cx="741600" cy="693720"/>
          </a:xfrm>
          <a:custGeom>
            <a:avLst/>
            <a:gdLst/>
            <a:ahLst/>
            <a:rect l="l" t="t" r="r" b="b"/>
            <a:pathLst>
              <a:path w="741362" h="693737">
                <a:moveTo>
                  <a:pt x="0" y="0"/>
                </a:moveTo>
                <a:lnTo>
                  <a:pt x="741362" y="0"/>
                </a:lnTo>
                <a:lnTo>
                  <a:pt x="707459" y="31724"/>
                </a:lnTo>
                <a:lnTo>
                  <a:pt x="43504" y="31724"/>
                </a:lnTo>
                <a:lnTo>
                  <a:pt x="43504" y="653027"/>
                </a:lnTo>
                <a:lnTo>
                  <a:pt x="0" y="693737"/>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74" name="半闭框 34"/>
          <p:cNvSpPr/>
          <p:nvPr/>
        </p:nvSpPr>
        <p:spPr>
          <a:xfrm rot="16200000">
            <a:off x="3044880" y="5846400"/>
            <a:ext cx="741240" cy="693720"/>
          </a:xfrm>
          <a:custGeom>
            <a:avLst/>
            <a:gdLst/>
            <a:ahLst/>
            <a:rect l="l" t="t" r="r" b="b"/>
            <a:pathLst>
              <a:path w="741362" h="693737">
                <a:moveTo>
                  <a:pt x="0" y="0"/>
                </a:moveTo>
                <a:lnTo>
                  <a:pt x="741362" y="0"/>
                </a:lnTo>
                <a:lnTo>
                  <a:pt x="707459" y="31724"/>
                </a:lnTo>
                <a:lnTo>
                  <a:pt x="43504" y="31724"/>
                </a:lnTo>
                <a:lnTo>
                  <a:pt x="43504" y="653027"/>
                </a:lnTo>
                <a:lnTo>
                  <a:pt x="0" y="693737"/>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75" name="半闭框 35"/>
          <p:cNvSpPr/>
          <p:nvPr/>
        </p:nvSpPr>
        <p:spPr>
          <a:xfrm rot="5400000">
            <a:off x="8478720" y="1241280"/>
            <a:ext cx="741600" cy="694080"/>
          </a:xfrm>
          <a:custGeom>
            <a:avLst/>
            <a:gdLst/>
            <a:ahLst/>
            <a:rect l="l" t="t" r="r" b="b"/>
            <a:pathLst>
              <a:path w="741362" h="693737">
                <a:moveTo>
                  <a:pt x="0" y="0"/>
                </a:moveTo>
                <a:lnTo>
                  <a:pt x="741362" y="0"/>
                </a:lnTo>
                <a:lnTo>
                  <a:pt x="707459" y="31724"/>
                </a:lnTo>
                <a:lnTo>
                  <a:pt x="43504" y="31724"/>
                </a:lnTo>
                <a:lnTo>
                  <a:pt x="43504" y="653027"/>
                </a:lnTo>
                <a:lnTo>
                  <a:pt x="0" y="693737"/>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76" name="半闭框 36"/>
          <p:cNvSpPr/>
          <p:nvPr/>
        </p:nvSpPr>
        <p:spPr>
          <a:xfrm rot="10800000">
            <a:off x="8524800" y="5868720"/>
            <a:ext cx="741600" cy="695160"/>
          </a:xfrm>
          <a:custGeom>
            <a:avLst/>
            <a:gdLst/>
            <a:ahLst/>
            <a:rect l="l" t="t" r="r" b="b"/>
            <a:pathLst>
              <a:path w="741362" h="695325">
                <a:moveTo>
                  <a:pt x="0" y="0"/>
                </a:moveTo>
                <a:lnTo>
                  <a:pt x="741362" y="0"/>
                </a:lnTo>
                <a:lnTo>
                  <a:pt x="707459" y="31797"/>
                </a:lnTo>
                <a:lnTo>
                  <a:pt x="43603" y="31797"/>
                </a:lnTo>
                <a:lnTo>
                  <a:pt x="43603" y="654428"/>
                </a:lnTo>
                <a:lnTo>
                  <a:pt x="0" y="695325"/>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77" name="矩形 25"/>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78" name="组合 26" descr=""/>
          <p:cNvPicPr/>
          <p:nvPr/>
        </p:nvPicPr>
        <p:blipFill>
          <a:blip r:embed="rId1"/>
          <a:stretch/>
        </p:blipFill>
        <p:spPr>
          <a:xfrm>
            <a:off x="237960" y="206280"/>
            <a:ext cx="578160" cy="576360"/>
          </a:xfrm>
          <a:prstGeom prst="rect">
            <a:avLst/>
          </a:prstGeom>
          <a:ln w="0">
            <a:noFill/>
          </a:ln>
        </p:spPr>
      </p:pic>
      <p:sp>
        <p:nvSpPr>
          <p:cNvPr id="279" name="文本框 25"/>
          <p:cNvSpPr/>
          <p:nvPr/>
        </p:nvSpPr>
        <p:spPr>
          <a:xfrm>
            <a:off x="1043640" y="212760"/>
            <a:ext cx="996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Games &amp; Activities- Mock the following dialogue</a:t>
            </a:r>
            <a:endParaRPr b="0" lang="en-US" sz="3200" spc="-1" strike="noStrike">
              <a:solidFill>
                <a:srgbClr val="000000"/>
              </a:solidFill>
              <a:latin typeface="等线"/>
            </a:endParaRPr>
          </a:p>
        </p:txBody>
      </p:sp>
      <p:sp>
        <p:nvSpPr>
          <p:cNvPr id="280" name="文本框 1"/>
          <p:cNvSpPr/>
          <p:nvPr/>
        </p:nvSpPr>
        <p:spPr>
          <a:xfrm>
            <a:off x="3846600" y="1647720"/>
            <a:ext cx="471492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A: Hey, don</a:t>
            </a:r>
            <a:r>
              <a:rPr b="0" lang="en-US" sz="2800" spc="-1" strike="noStrike">
                <a:solidFill>
                  <a:srgbClr val="000000"/>
                </a:solidFill>
                <a:latin typeface="Arial"/>
              </a:rPr>
              <a:t>’</a:t>
            </a:r>
            <a:r>
              <a:rPr b="0" lang="en-US" sz="2800" spc="-1" strike="noStrike">
                <a:solidFill>
                  <a:srgbClr val="000000"/>
                </a:solidFill>
                <a:latin typeface="等线"/>
              </a:rPr>
              <a:t>t walk on the l</a:t>
            </a:r>
            <a:r>
              <a:rPr b="0" lang="en-US" sz="2800" spc="-1" strike="noStrike">
                <a:solidFill>
                  <a:srgbClr val="ff0000"/>
                </a:solidFill>
                <a:latin typeface="等线"/>
              </a:rPr>
              <a:t>aw</a:t>
            </a:r>
            <a:r>
              <a:rPr b="0" lang="en-US" sz="2800" spc="-1" strike="noStrike">
                <a:solidFill>
                  <a:srgbClr val="000000"/>
                </a:solidFill>
                <a:latin typeface="等线"/>
              </a:rPr>
              <a:t>n.</a:t>
            </a:r>
            <a:endParaRPr b="0" lang="en-US" sz="2800" spc="-1" strike="noStrike">
              <a:solidFill>
                <a:srgbClr val="000000"/>
              </a:solidFill>
              <a:latin typeface="等线"/>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B: Sorry, I</a:t>
            </a:r>
            <a:r>
              <a:rPr b="0" lang="en-US" sz="2800" spc="-1" strike="noStrike">
                <a:solidFill>
                  <a:srgbClr val="000000"/>
                </a:solidFill>
                <a:latin typeface="Arial"/>
              </a:rPr>
              <a:t>’</a:t>
            </a:r>
            <a:r>
              <a:rPr b="0" lang="en-US" sz="2800" spc="-1" strike="noStrike">
                <a:solidFill>
                  <a:srgbClr val="000000"/>
                </a:solidFill>
                <a:latin typeface="等线"/>
              </a:rPr>
              <a:t>m looking for my w</a:t>
            </a:r>
            <a:r>
              <a:rPr b="0" lang="en-US" sz="2800" spc="-1" strike="noStrike">
                <a:solidFill>
                  <a:srgbClr val="ff0000"/>
                </a:solidFill>
                <a:latin typeface="等线"/>
              </a:rPr>
              <a:t>a</a:t>
            </a:r>
            <a:r>
              <a:rPr b="0" lang="en-US" sz="2800" spc="-1" strike="noStrike">
                <a:solidFill>
                  <a:srgbClr val="000000"/>
                </a:solidFill>
                <a:latin typeface="等线"/>
              </a:rPr>
              <a:t>llet.</a:t>
            </a:r>
            <a:endParaRPr b="0" lang="en-US" sz="2800" spc="-1" strike="noStrike">
              <a:solidFill>
                <a:srgbClr val="000000"/>
              </a:solidFill>
              <a:latin typeface="等线"/>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A: You l</a:t>
            </a:r>
            <a:r>
              <a:rPr b="0" lang="en-US" sz="2800" spc="-1" strike="noStrike">
                <a:solidFill>
                  <a:srgbClr val="ff0000"/>
                </a:solidFill>
                <a:latin typeface="等线"/>
              </a:rPr>
              <a:t>o</a:t>
            </a:r>
            <a:r>
              <a:rPr b="0" lang="en-US" sz="2800" spc="-1" strike="noStrike">
                <a:solidFill>
                  <a:srgbClr val="000000"/>
                </a:solidFill>
                <a:latin typeface="等线"/>
              </a:rPr>
              <a:t>st your w</a:t>
            </a:r>
            <a:r>
              <a:rPr b="0" lang="en-US" sz="2800" spc="-1" strike="noStrike">
                <a:solidFill>
                  <a:srgbClr val="ff0000"/>
                </a:solidFill>
                <a:latin typeface="等线"/>
              </a:rPr>
              <a:t>a</a:t>
            </a:r>
            <a:r>
              <a:rPr b="0" lang="en-US" sz="2800" spc="-1" strike="noStrike">
                <a:solidFill>
                  <a:srgbClr val="000000"/>
                </a:solidFill>
                <a:latin typeface="等线"/>
              </a:rPr>
              <a:t>llet? Anything imp</a:t>
            </a:r>
            <a:r>
              <a:rPr b="0" lang="en-US" sz="2800" spc="-1" strike="noStrike">
                <a:solidFill>
                  <a:srgbClr val="ff0000"/>
                </a:solidFill>
                <a:latin typeface="等线"/>
              </a:rPr>
              <a:t>or</a:t>
            </a:r>
            <a:r>
              <a:rPr b="0" lang="en-US" sz="2800" spc="-1" strike="noStrike">
                <a:solidFill>
                  <a:srgbClr val="000000"/>
                </a:solidFill>
                <a:latin typeface="等线"/>
              </a:rPr>
              <a:t>tant in it?</a:t>
            </a:r>
            <a:endParaRPr b="0" lang="en-US" sz="2800" spc="-1" strike="noStrike">
              <a:solidFill>
                <a:srgbClr val="000000"/>
              </a:solidFill>
              <a:latin typeface="等线"/>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B: Yes. A l</a:t>
            </a:r>
            <a:r>
              <a:rPr b="0" lang="en-US" sz="2800" spc="-1" strike="noStrike">
                <a:solidFill>
                  <a:srgbClr val="ff0000"/>
                </a:solidFill>
                <a:latin typeface="等线"/>
              </a:rPr>
              <a:t>o</a:t>
            </a:r>
            <a:r>
              <a:rPr b="0" lang="en-US" sz="2800" spc="-1" strike="noStrike">
                <a:solidFill>
                  <a:srgbClr val="000000"/>
                </a:solidFill>
                <a:latin typeface="等线"/>
              </a:rPr>
              <a:t>t of money. </a:t>
            </a:r>
            <a:r>
              <a:rPr b="0" lang="en-US" sz="2800" spc="-1" strike="noStrike">
                <a:solidFill>
                  <a:srgbClr val="ff0000"/>
                </a:solidFill>
                <a:latin typeface="等线"/>
              </a:rPr>
              <a:t>Al</a:t>
            </a:r>
            <a:r>
              <a:rPr b="0" lang="en-US" sz="2800" spc="-1" strike="noStrike">
                <a:solidFill>
                  <a:srgbClr val="000000"/>
                </a:solidFill>
                <a:latin typeface="等线"/>
              </a:rPr>
              <a:t>most f</a:t>
            </a:r>
            <a:r>
              <a:rPr b="0" lang="en-US" sz="2800" spc="-1" strike="noStrike">
                <a:solidFill>
                  <a:srgbClr val="ff0000"/>
                </a:solidFill>
                <a:latin typeface="等线"/>
              </a:rPr>
              <a:t>our</a:t>
            </a:r>
            <a:r>
              <a:rPr b="0" lang="en-US" sz="2800" spc="-1" strike="noStrike">
                <a:solidFill>
                  <a:srgbClr val="000000"/>
                </a:solidFill>
                <a:latin typeface="等线"/>
              </a:rPr>
              <a:t> th</a:t>
            </a:r>
            <a:r>
              <a:rPr b="0" lang="en-US" sz="2800" spc="-1" strike="noStrike">
                <a:solidFill>
                  <a:srgbClr val="ff0000"/>
                </a:solidFill>
                <a:latin typeface="等线"/>
              </a:rPr>
              <a:t>ou</a:t>
            </a:r>
            <a:r>
              <a:rPr b="0" lang="en-US" sz="2800" spc="-1" strike="noStrike">
                <a:solidFill>
                  <a:srgbClr val="000000"/>
                </a:solidFill>
                <a:latin typeface="等线"/>
              </a:rPr>
              <a:t>sand d</a:t>
            </a:r>
            <a:r>
              <a:rPr b="0" lang="en-US" sz="2800" spc="-1" strike="noStrike">
                <a:solidFill>
                  <a:srgbClr val="ff0000"/>
                </a:solidFill>
                <a:latin typeface="等线"/>
              </a:rPr>
              <a:t>o</a:t>
            </a:r>
            <a:r>
              <a:rPr b="0" lang="en-US" sz="2800" spc="-1" strike="noStrike">
                <a:solidFill>
                  <a:srgbClr val="000000"/>
                </a:solidFill>
                <a:latin typeface="等线"/>
              </a:rPr>
              <a:t>llars.</a:t>
            </a:r>
            <a:endParaRPr b="0" lang="en-US" sz="2800" spc="-1" strike="noStrike">
              <a:solidFill>
                <a:srgbClr val="000000"/>
              </a:solidFill>
              <a:latin typeface="等线"/>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A: That</a:t>
            </a:r>
            <a:r>
              <a:rPr b="0" lang="en-US" sz="2800" spc="-1" strike="noStrike">
                <a:solidFill>
                  <a:srgbClr val="000000"/>
                </a:solidFill>
                <a:latin typeface="Arial"/>
              </a:rPr>
              <a:t>’</a:t>
            </a:r>
            <a:r>
              <a:rPr b="0" lang="en-US" sz="2800" spc="-1" strike="noStrike">
                <a:solidFill>
                  <a:srgbClr val="000000"/>
                </a:solidFill>
                <a:latin typeface="等线"/>
              </a:rPr>
              <a:t>s too bad. Better rep</a:t>
            </a:r>
            <a:r>
              <a:rPr b="0" lang="en-US" sz="2800" spc="-1" strike="noStrike">
                <a:solidFill>
                  <a:srgbClr val="ff0000"/>
                </a:solidFill>
                <a:latin typeface="等线"/>
              </a:rPr>
              <a:t>or</a:t>
            </a:r>
            <a:r>
              <a:rPr b="0" lang="en-US" sz="2800" spc="-1" strike="noStrike">
                <a:solidFill>
                  <a:srgbClr val="000000"/>
                </a:solidFill>
                <a:latin typeface="等线"/>
              </a:rPr>
              <a:t>t to the police </a:t>
            </a:r>
            <a:r>
              <a:rPr b="0" lang="en-US" sz="2800" spc="-1" strike="noStrike">
                <a:solidFill>
                  <a:srgbClr val="ff0000"/>
                </a:solidFill>
                <a:latin typeface="等线"/>
              </a:rPr>
              <a:t>o</a:t>
            </a:r>
            <a:r>
              <a:rPr b="0" lang="en-US" sz="2800" spc="-1" strike="noStrike">
                <a:solidFill>
                  <a:srgbClr val="000000"/>
                </a:solidFill>
                <a:latin typeface="等线"/>
              </a:rPr>
              <a:t>fficer w</a:t>
            </a:r>
            <a:r>
              <a:rPr b="0" lang="en-US" sz="2800" spc="-1" strike="noStrike">
                <a:solidFill>
                  <a:srgbClr val="ff0000"/>
                </a:solidFill>
                <a:latin typeface="等线"/>
              </a:rPr>
              <a:t>al</a:t>
            </a:r>
            <a:r>
              <a:rPr b="0" lang="en-US" sz="2800" spc="-1" strike="noStrike">
                <a:solidFill>
                  <a:srgbClr val="000000"/>
                </a:solidFill>
                <a:latin typeface="等线"/>
              </a:rPr>
              <a:t>king there. </a:t>
            </a:r>
            <a:endParaRPr b="0" lang="en-US" sz="2800" spc="-1" strike="noStrike">
              <a:solidFill>
                <a:srgbClr val="000000"/>
              </a:solidFill>
              <a:latin typeface="等线"/>
            </a:endParaRPr>
          </a:p>
        </p:txBody>
      </p:sp>
    </p:spTree>
  </p:cSld>
  <p:transition>
    <p:push dir="u"/>
  </p:transition>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dur="indefinite" nodeType="clickEffect" fill="hold" presetClass="entr" presetID="2" presetSubtype="4">
                                  <p:stCondLst>
                                    <p:cond delay="0"/>
                                  </p:stCondLst>
                                  <p:childTnLst>
                                    <p:set>
                                      <p:cBhvr>
                                        <p:cTn id="630" dur="1" fill="hold">
                                          <p:stCondLst>
                                            <p:cond delay="0"/>
                                          </p:stCondLst>
                                        </p:cTn>
                                        <p:tgtEl>
                                          <p:spTgt spid="280">
                                            <p:txEl>
                                              <p:pRg st="0" end="0"/>
                                            </p:txEl>
                                          </p:spTgt>
                                        </p:tgtEl>
                                        <p:attrNameLst>
                                          <p:attrName>style.visibility</p:attrName>
                                        </p:attrNameLst>
                                      </p:cBhvr>
                                      <p:to>
                                        <p:strVal val="visible"/>
                                      </p:to>
                                    </p:set>
                                    <p:anim calcmode="lin" valueType="num">
                                      <p:cBhvr additive="repl">
                                        <p:cTn id="631" dur="500" fill="hold"/>
                                        <p:tgtEl>
                                          <p:spTgt spid="280">
                                            <p:txEl>
                                              <p:pRg st="0" end="0"/>
                                            </p:txEl>
                                          </p:spTgt>
                                        </p:tgtEl>
                                        <p:attrNameLst>
                                          <p:attrName>ppt_x</p:attrName>
                                        </p:attrNameLst>
                                      </p:cBhvr>
                                      <p:tavLst>
                                        <p:tav tm="0">
                                          <p:val>
                                            <p:strVal val="#ppt_x"/>
                                          </p:val>
                                        </p:tav>
                                        <p:tav tm="100000">
                                          <p:val>
                                            <p:strVal val="#ppt_x"/>
                                          </p:val>
                                        </p:tav>
                                      </p:tavLst>
                                    </p:anim>
                                    <p:anim calcmode="lin" valueType="num">
                                      <p:cBhvr additive="repl">
                                        <p:cTn id="632" dur="500" fill="hold"/>
                                        <p:tgtEl>
                                          <p:spTgt spid="280">
                                            <p:txEl>
                                              <p:pRg st="0" end="0"/>
                                            </p:txEl>
                                          </p:spTgt>
                                        </p:tgtEl>
                                        <p:attrNameLst>
                                          <p:attrName>ppt_y</p:attrName>
                                        </p:attrNameLst>
                                      </p:cBhvr>
                                      <p:tavLst>
                                        <p:tav tm="0">
                                          <p:val>
                                            <p:strVal val="1+#ppt_h/2"/>
                                          </p:val>
                                        </p:tav>
                                        <p:tav tm="100000">
                                          <p:val>
                                            <p:strVal val="#ppt_y"/>
                                          </p:val>
                                        </p:tav>
                                      </p:tavLst>
                                    </p:anim>
                                  </p:childTnLst>
                                </p:cTn>
                              </p:par>
                              <p:par>
                                <p:cTn id="633" dur="indefinite" nodeType="withEffect" fill="hold" presetClass="entr" presetID="2" presetSubtype="4">
                                  <p:stCondLst>
                                    <p:cond delay="0"/>
                                  </p:stCondLst>
                                  <p:childTnLst>
                                    <p:set>
                                      <p:cBhvr>
                                        <p:cTn id="634" dur="1" fill="hold">
                                          <p:stCondLst>
                                            <p:cond delay="0"/>
                                          </p:stCondLst>
                                        </p:cTn>
                                        <p:tgtEl>
                                          <p:spTgt spid="280">
                                            <p:txEl>
                                              <p:pRg st="1" end="1"/>
                                            </p:txEl>
                                          </p:spTgt>
                                        </p:tgtEl>
                                        <p:attrNameLst>
                                          <p:attrName>style.visibility</p:attrName>
                                        </p:attrNameLst>
                                      </p:cBhvr>
                                      <p:to>
                                        <p:strVal val="visible"/>
                                      </p:to>
                                    </p:set>
                                    <p:anim calcmode="lin" valueType="num">
                                      <p:cBhvr additive="repl">
                                        <p:cTn id="635" dur="500" fill="hold"/>
                                        <p:tgtEl>
                                          <p:spTgt spid="280">
                                            <p:txEl>
                                              <p:pRg st="1" end="1"/>
                                            </p:txEl>
                                          </p:spTgt>
                                        </p:tgtEl>
                                        <p:attrNameLst>
                                          <p:attrName>ppt_x</p:attrName>
                                        </p:attrNameLst>
                                      </p:cBhvr>
                                      <p:tavLst>
                                        <p:tav tm="0">
                                          <p:val>
                                            <p:strVal val="#ppt_x"/>
                                          </p:val>
                                        </p:tav>
                                        <p:tav tm="100000">
                                          <p:val>
                                            <p:strVal val="#ppt_x"/>
                                          </p:val>
                                        </p:tav>
                                      </p:tavLst>
                                    </p:anim>
                                    <p:anim calcmode="lin" valueType="num">
                                      <p:cBhvr additive="repl">
                                        <p:cTn id="636" dur="500" fill="hold"/>
                                        <p:tgtEl>
                                          <p:spTgt spid="280">
                                            <p:txEl>
                                              <p:pRg st="1" end="1"/>
                                            </p:txEl>
                                          </p:spTgt>
                                        </p:tgtEl>
                                        <p:attrNameLst>
                                          <p:attrName>ppt_y</p:attrName>
                                        </p:attrNameLst>
                                      </p:cBhvr>
                                      <p:tavLst>
                                        <p:tav tm="0">
                                          <p:val>
                                            <p:strVal val="1+#ppt_h/2"/>
                                          </p:val>
                                        </p:tav>
                                        <p:tav tm="100000">
                                          <p:val>
                                            <p:strVal val="#ppt_y"/>
                                          </p:val>
                                        </p:tav>
                                      </p:tavLst>
                                    </p:anim>
                                  </p:childTnLst>
                                </p:cTn>
                              </p:par>
                              <p:par>
                                <p:cTn id="637" dur="indefinite" nodeType="withEffect" fill="hold" presetClass="entr" presetID="2" presetSubtype="4">
                                  <p:stCondLst>
                                    <p:cond delay="0"/>
                                  </p:stCondLst>
                                  <p:childTnLst>
                                    <p:set>
                                      <p:cBhvr>
                                        <p:cTn id="638" dur="1" fill="hold">
                                          <p:stCondLst>
                                            <p:cond delay="0"/>
                                          </p:stCondLst>
                                        </p:cTn>
                                        <p:tgtEl>
                                          <p:spTgt spid="280">
                                            <p:txEl>
                                              <p:pRg st="2" end="2"/>
                                            </p:txEl>
                                          </p:spTgt>
                                        </p:tgtEl>
                                        <p:attrNameLst>
                                          <p:attrName>style.visibility</p:attrName>
                                        </p:attrNameLst>
                                      </p:cBhvr>
                                      <p:to>
                                        <p:strVal val="visible"/>
                                      </p:to>
                                    </p:set>
                                    <p:anim calcmode="lin" valueType="num">
                                      <p:cBhvr additive="repl">
                                        <p:cTn id="639" dur="500" fill="hold"/>
                                        <p:tgtEl>
                                          <p:spTgt spid="280">
                                            <p:txEl>
                                              <p:pRg st="2" end="2"/>
                                            </p:txEl>
                                          </p:spTgt>
                                        </p:tgtEl>
                                        <p:attrNameLst>
                                          <p:attrName>ppt_x</p:attrName>
                                        </p:attrNameLst>
                                      </p:cBhvr>
                                      <p:tavLst>
                                        <p:tav tm="0">
                                          <p:val>
                                            <p:strVal val="#ppt_x"/>
                                          </p:val>
                                        </p:tav>
                                        <p:tav tm="100000">
                                          <p:val>
                                            <p:strVal val="#ppt_x"/>
                                          </p:val>
                                        </p:tav>
                                      </p:tavLst>
                                    </p:anim>
                                    <p:anim calcmode="lin" valueType="num">
                                      <p:cBhvr additive="repl">
                                        <p:cTn id="640" dur="500" fill="hold"/>
                                        <p:tgtEl>
                                          <p:spTgt spid="280">
                                            <p:txEl>
                                              <p:pRg st="2" end="2"/>
                                            </p:txEl>
                                          </p:spTgt>
                                        </p:tgtEl>
                                        <p:attrNameLst>
                                          <p:attrName>ppt_y</p:attrName>
                                        </p:attrNameLst>
                                      </p:cBhvr>
                                      <p:tavLst>
                                        <p:tav tm="0">
                                          <p:val>
                                            <p:strVal val="1+#ppt_h/2"/>
                                          </p:val>
                                        </p:tav>
                                        <p:tav tm="100000">
                                          <p:val>
                                            <p:strVal val="#ppt_y"/>
                                          </p:val>
                                        </p:tav>
                                      </p:tavLst>
                                    </p:anim>
                                  </p:childTnLst>
                                </p:cTn>
                              </p:par>
                              <p:par>
                                <p:cTn id="641" dur="indefinite" nodeType="withEffect" fill="hold" presetClass="entr" presetID="2" presetSubtype="4">
                                  <p:stCondLst>
                                    <p:cond delay="0"/>
                                  </p:stCondLst>
                                  <p:childTnLst>
                                    <p:set>
                                      <p:cBhvr>
                                        <p:cTn id="642" dur="1" fill="hold">
                                          <p:stCondLst>
                                            <p:cond delay="0"/>
                                          </p:stCondLst>
                                        </p:cTn>
                                        <p:tgtEl>
                                          <p:spTgt spid="280">
                                            <p:txEl>
                                              <p:pRg st="3" end="3"/>
                                            </p:txEl>
                                          </p:spTgt>
                                        </p:tgtEl>
                                        <p:attrNameLst>
                                          <p:attrName>style.visibility</p:attrName>
                                        </p:attrNameLst>
                                      </p:cBhvr>
                                      <p:to>
                                        <p:strVal val="visible"/>
                                      </p:to>
                                    </p:set>
                                    <p:anim calcmode="lin" valueType="num">
                                      <p:cBhvr additive="repl">
                                        <p:cTn id="643" dur="500" fill="hold"/>
                                        <p:tgtEl>
                                          <p:spTgt spid="280">
                                            <p:txEl>
                                              <p:pRg st="3" end="3"/>
                                            </p:txEl>
                                          </p:spTgt>
                                        </p:tgtEl>
                                        <p:attrNameLst>
                                          <p:attrName>ppt_x</p:attrName>
                                        </p:attrNameLst>
                                      </p:cBhvr>
                                      <p:tavLst>
                                        <p:tav tm="0">
                                          <p:val>
                                            <p:strVal val="#ppt_x"/>
                                          </p:val>
                                        </p:tav>
                                        <p:tav tm="100000">
                                          <p:val>
                                            <p:strVal val="#ppt_x"/>
                                          </p:val>
                                        </p:tav>
                                      </p:tavLst>
                                    </p:anim>
                                    <p:anim calcmode="lin" valueType="num">
                                      <p:cBhvr additive="repl">
                                        <p:cTn id="644" dur="500" fill="hold"/>
                                        <p:tgtEl>
                                          <p:spTgt spid="280">
                                            <p:txEl>
                                              <p:pRg st="3" end="3"/>
                                            </p:txEl>
                                          </p:spTgt>
                                        </p:tgtEl>
                                        <p:attrNameLst>
                                          <p:attrName>ppt_y</p:attrName>
                                        </p:attrNameLst>
                                      </p:cBhvr>
                                      <p:tavLst>
                                        <p:tav tm="0">
                                          <p:val>
                                            <p:strVal val="1+#ppt_h/2"/>
                                          </p:val>
                                        </p:tav>
                                        <p:tav tm="100000">
                                          <p:val>
                                            <p:strVal val="#ppt_y"/>
                                          </p:val>
                                        </p:tav>
                                      </p:tavLst>
                                    </p:anim>
                                  </p:childTnLst>
                                </p:cTn>
                              </p:par>
                              <p:par>
                                <p:cTn id="645" dur="indefinite" nodeType="withEffect" fill="hold" presetClass="entr" presetID="2" presetSubtype="4">
                                  <p:stCondLst>
                                    <p:cond delay="0"/>
                                  </p:stCondLst>
                                  <p:childTnLst>
                                    <p:set>
                                      <p:cBhvr>
                                        <p:cTn id="646" dur="1" fill="hold">
                                          <p:stCondLst>
                                            <p:cond delay="0"/>
                                          </p:stCondLst>
                                        </p:cTn>
                                        <p:tgtEl>
                                          <p:spTgt spid="280">
                                            <p:txEl>
                                              <p:pRg st="4" end="4"/>
                                            </p:txEl>
                                          </p:spTgt>
                                        </p:tgtEl>
                                        <p:attrNameLst>
                                          <p:attrName>style.visibility</p:attrName>
                                        </p:attrNameLst>
                                      </p:cBhvr>
                                      <p:to>
                                        <p:strVal val="visible"/>
                                      </p:to>
                                    </p:set>
                                    <p:anim calcmode="lin" valueType="num">
                                      <p:cBhvr additive="repl">
                                        <p:cTn id="647" dur="500" fill="hold"/>
                                        <p:tgtEl>
                                          <p:spTgt spid="280">
                                            <p:txEl>
                                              <p:pRg st="4" end="4"/>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8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半闭框 5"/>
          <p:cNvSpPr/>
          <p:nvPr/>
        </p:nvSpPr>
        <p:spPr>
          <a:xfrm>
            <a:off x="3105000" y="1241280"/>
            <a:ext cx="741600" cy="693720"/>
          </a:xfrm>
          <a:custGeom>
            <a:avLst/>
            <a:gdLst/>
            <a:ahLst/>
            <a:rect l="l" t="t" r="r" b="b"/>
            <a:pathLst>
              <a:path w="741362" h="693737">
                <a:moveTo>
                  <a:pt x="0" y="0"/>
                </a:moveTo>
                <a:lnTo>
                  <a:pt x="741362" y="0"/>
                </a:lnTo>
                <a:lnTo>
                  <a:pt x="707459" y="31724"/>
                </a:lnTo>
                <a:lnTo>
                  <a:pt x="43504" y="31724"/>
                </a:lnTo>
                <a:lnTo>
                  <a:pt x="43504" y="653027"/>
                </a:lnTo>
                <a:lnTo>
                  <a:pt x="0" y="693737"/>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82" name="半闭框 34"/>
          <p:cNvSpPr/>
          <p:nvPr/>
        </p:nvSpPr>
        <p:spPr>
          <a:xfrm rot="16200000">
            <a:off x="3044880" y="5846400"/>
            <a:ext cx="741240" cy="693720"/>
          </a:xfrm>
          <a:custGeom>
            <a:avLst/>
            <a:gdLst/>
            <a:ahLst/>
            <a:rect l="l" t="t" r="r" b="b"/>
            <a:pathLst>
              <a:path w="741362" h="693737">
                <a:moveTo>
                  <a:pt x="0" y="0"/>
                </a:moveTo>
                <a:lnTo>
                  <a:pt x="741362" y="0"/>
                </a:lnTo>
                <a:lnTo>
                  <a:pt x="707459" y="31724"/>
                </a:lnTo>
                <a:lnTo>
                  <a:pt x="43504" y="31724"/>
                </a:lnTo>
                <a:lnTo>
                  <a:pt x="43504" y="653027"/>
                </a:lnTo>
                <a:lnTo>
                  <a:pt x="0" y="693737"/>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83" name="半闭框 35"/>
          <p:cNvSpPr/>
          <p:nvPr/>
        </p:nvSpPr>
        <p:spPr>
          <a:xfrm rot="5400000">
            <a:off x="8478720" y="1241280"/>
            <a:ext cx="741600" cy="694080"/>
          </a:xfrm>
          <a:custGeom>
            <a:avLst/>
            <a:gdLst/>
            <a:ahLst/>
            <a:rect l="l" t="t" r="r" b="b"/>
            <a:pathLst>
              <a:path w="741362" h="693737">
                <a:moveTo>
                  <a:pt x="0" y="0"/>
                </a:moveTo>
                <a:lnTo>
                  <a:pt x="741362" y="0"/>
                </a:lnTo>
                <a:lnTo>
                  <a:pt x="707459" y="31724"/>
                </a:lnTo>
                <a:lnTo>
                  <a:pt x="43504" y="31724"/>
                </a:lnTo>
                <a:lnTo>
                  <a:pt x="43504" y="653027"/>
                </a:lnTo>
                <a:lnTo>
                  <a:pt x="0" y="693737"/>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84" name="半闭框 36"/>
          <p:cNvSpPr/>
          <p:nvPr/>
        </p:nvSpPr>
        <p:spPr>
          <a:xfrm rot="10800000">
            <a:off x="8524800" y="5868720"/>
            <a:ext cx="741600" cy="695160"/>
          </a:xfrm>
          <a:custGeom>
            <a:avLst/>
            <a:gdLst/>
            <a:ahLst/>
            <a:rect l="l" t="t" r="r" b="b"/>
            <a:pathLst>
              <a:path w="741362" h="695325">
                <a:moveTo>
                  <a:pt x="0" y="0"/>
                </a:moveTo>
                <a:lnTo>
                  <a:pt x="741362" y="0"/>
                </a:lnTo>
                <a:lnTo>
                  <a:pt x="707459" y="31797"/>
                </a:lnTo>
                <a:lnTo>
                  <a:pt x="43603" y="31797"/>
                </a:lnTo>
                <a:lnTo>
                  <a:pt x="43603" y="654428"/>
                </a:lnTo>
                <a:lnTo>
                  <a:pt x="0" y="695325"/>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85" name="矩形 25"/>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86" name="组合 26" descr=""/>
          <p:cNvPicPr/>
          <p:nvPr/>
        </p:nvPicPr>
        <p:blipFill>
          <a:blip r:embed="rId1"/>
          <a:stretch/>
        </p:blipFill>
        <p:spPr>
          <a:xfrm>
            <a:off x="237960" y="206280"/>
            <a:ext cx="578160" cy="576360"/>
          </a:xfrm>
          <a:prstGeom prst="rect">
            <a:avLst/>
          </a:prstGeom>
          <a:ln w="0">
            <a:noFill/>
          </a:ln>
        </p:spPr>
      </p:pic>
      <p:sp>
        <p:nvSpPr>
          <p:cNvPr id="287" name="文本框 25"/>
          <p:cNvSpPr/>
          <p:nvPr/>
        </p:nvSpPr>
        <p:spPr>
          <a:xfrm>
            <a:off x="1028160" y="212760"/>
            <a:ext cx="9266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Games &amp; Activities- Read the following poem</a:t>
            </a:r>
            <a:endParaRPr b="0" lang="en-US" sz="3200" spc="-1" strike="noStrike">
              <a:solidFill>
                <a:srgbClr val="000000"/>
              </a:solidFill>
              <a:latin typeface="等线"/>
            </a:endParaRPr>
          </a:p>
        </p:txBody>
      </p:sp>
      <p:sp>
        <p:nvSpPr>
          <p:cNvPr id="288" name="文本框 1"/>
          <p:cNvSpPr/>
          <p:nvPr/>
        </p:nvSpPr>
        <p:spPr>
          <a:xfrm>
            <a:off x="3738600" y="2316240"/>
            <a:ext cx="47149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At n</a:t>
            </a:r>
            <a:r>
              <a:rPr b="0" lang="en-US" sz="2800" spc="-1" strike="noStrike">
                <a:solidFill>
                  <a:srgbClr val="ff0000"/>
                </a:solidFill>
                <a:latin typeface="等线"/>
              </a:rPr>
              <a:t>oo</a:t>
            </a:r>
            <a:r>
              <a:rPr b="0" lang="en-US" sz="2800" spc="-1" strike="noStrike">
                <a:solidFill>
                  <a:srgbClr val="000000"/>
                </a:solidFill>
                <a:latin typeface="等线"/>
              </a:rPr>
              <a:t>n I t</a:t>
            </a:r>
            <a:r>
              <a:rPr b="0" lang="en-US" sz="2800" spc="-1" strike="noStrike">
                <a:solidFill>
                  <a:srgbClr val="ff0000"/>
                </a:solidFill>
                <a:latin typeface="等线"/>
              </a:rPr>
              <a:t>oo</a:t>
            </a:r>
            <a:r>
              <a:rPr b="0" lang="en-US" sz="2800" spc="-1" strike="noStrike">
                <a:solidFill>
                  <a:srgbClr val="000000"/>
                </a:solidFill>
                <a:latin typeface="等线"/>
              </a:rPr>
              <a:t>k a b</a:t>
            </a:r>
            <a:r>
              <a:rPr b="0" lang="en-US" sz="2800" spc="-1" strike="noStrike">
                <a:solidFill>
                  <a:srgbClr val="ff0000"/>
                </a:solidFill>
                <a:latin typeface="等线"/>
              </a:rPr>
              <a:t>oo</a:t>
            </a:r>
            <a:r>
              <a:rPr b="0" lang="en-US" sz="2800" spc="-1" strike="noStrike">
                <a:solidFill>
                  <a:srgbClr val="000000"/>
                </a:solidFill>
                <a:latin typeface="等线"/>
              </a:rPr>
              <a:t>k.</a:t>
            </a:r>
            <a:endParaRPr b="0" lang="en-US" sz="28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And sat by the p</a:t>
            </a:r>
            <a:r>
              <a:rPr b="0" lang="en-US" sz="2800" spc="-1" strike="noStrike">
                <a:solidFill>
                  <a:srgbClr val="ff0000"/>
                </a:solidFill>
                <a:latin typeface="等线"/>
              </a:rPr>
              <a:t>oo</a:t>
            </a:r>
            <a:r>
              <a:rPr b="0" lang="en-US" sz="2800" spc="-1" strike="noStrike">
                <a:solidFill>
                  <a:srgbClr val="000000"/>
                </a:solidFill>
                <a:latin typeface="等线"/>
              </a:rPr>
              <a:t>l in the w</a:t>
            </a:r>
            <a:r>
              <a:rPr b="0" lang="en-US" sz="2800" spc="-1" strike="noStrike">
                <a:solidFill>
                  <a:srgbClr val="ff0000"/>
                </a:solidFill>
                <a:latin typeface="等线"/>
              </a:rPr>
              <a:t>oo</a:t>
            </a:r>
            <a:r>
              <a:rPr b="0" lang="en-US" sz="2800" spc="-1" strike="noStrike">
                <a:solidFill>
                  <a:srgbClr val="000000"/>
                </a:solidFill>
                <a:latin typeface="等线"/>
              </a:rPr>
              <a:t>d.</a:t>
            </a:r>
            <a:endParaRPr b="0" lang="en-US" sz="28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And p</a:t>
            </a:r>
            <a:r>
              <a:rPr b="0" lang="en-US" sz="2800" spc="-1" strike="noStrike">
                <a:solidFill>
                  <a:srgbClr val="ff0000"/>
                </a:solidFill>
                <a:latin typeface="等线"/>
              </a:rPr>
              <a:t>u</a:t>
            </a:r>
            <a:r>
              <a:rPr b="0" lang="en-US" sz="2800" spc="-1" strike="noStrike">
                <a:solidFill>
                  <a:srgbClr val="000000"/>
                </a:solidFill>
                <a:latin typeface="等线"/>
              </a:rPr>
              <a:t>t my f</a:t>
            </a:r>
            <a:r>
              <a:rPr b="0" lang="en-US" sz="2800" spc="-1" strike="noStrike">
                <a:solidFill>
                  <a:srgbClr val="ff0000"/>
                </a:solidFill>
                <a:latin typeface="等线"/>
              </a:rPr>
              <a:t>oo</a:t>
            </a:r>
            <a:r>
              <a:rPr b="0" lang="en-US" sz="2800" spc="-1" strike="noStrike">
                <a:solidFill>
                  <a:srgbClr val="000000"/>
                </a:solidFill>
                <a:latin typeface="等线"/>
              </a:rPr>
              <a:t>t in the p</a:t>
            </a:r>
            <a:r>
              <a:rPr b="0" lang="en-US" sz="2800" spc="-1" strike="noStrike">
                <a:solidFill>
                  <a:srgbClr val="ff0000"/>
                </a:solidFill>
                <a:latin typeface="等线"/>
              </a:rPr>
              <a:t>oo</a:t>
            </a:r>
            <a:r>
              <a:rPr b="0" lang="en-US" sz="2800" spc="-1" strike="noStrike">
                <a:solidFill>
                  <a:srgbClr val="000000"/>
                </a:solidFill>
                <a:latin typeface="等线"/>
              </a:rPr>
              <a:t>l.</a:t>
            </a:r>
            <a:endParaRPr b="0" lang="en-US" sz="28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Oh, how c</a:t>
            </a:r>
            <a:r>
              <a:rPr b="0" lang="en-US" sz="2800" spc="-1" strike="noStrike">
                <a:solidFill>
                  <a:srgbClr val="ff0000"/>
                </a:solidFill>
                <a:latin typeface="等线"/>
              </a:rPr>
              <a:t>oo</a:t>
            </a:r>
            <a:r>
              <a:rPr b="0" lang="en-US" sz="2800" spc="-1" strike="noStrike">
                <a:solidFill>
                  <a:srgbClr val="000000"/>
                </a:solidFill>
                <a:latin typeface="等线"/>
              </a:rPr>
              <a:t>l!</a:t>
            </a:r>
            <a:endParaRPr b="0" lang="en-US" sz="2800" spc="-1" strike="noStrike">
              <a:solidFill>
                <a:srgbClr val="000000"/>
              </a:solidFill>
              <a:latin typeface="等线"/>
            </a:endParaRPr>
          </a:p>
        </p:txBody>
      </p:sp>
    </p:spTree>
  </p:cSld>
  <p:transition>
    <p:push dir="u"/>
  </p:transition>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dur="indefinite" nodeType="clickEffect" fill="hold" presetClass="entr" presetID="2" presetSubtype="4">
                                  <p:stCondLst>
                                    <p:cond delay="0"/>
                                  </p:stCondLst>
                                  <p:childTnLst>
                                    <p:set>
                                      <p:cBhvr>
                                        <p:cTn id="654" dur="1" fill="hold">
                                          <p:stCondLst>
                                            <p:cond delay="0"/>
                                          </p:stCondLst>
                                        </p:cTn>
                                        <p:tgtEl>
                                          <p:spTgt spid="288">
                                            <p:txEl>
                                              <p:pRg st="0" end="0"/>
                                            </p:txEl>
                                          </p:spTgt>
                                        </p:tgtEl>
                                        <p:attrNameLst>
                                          <p:attrName>style.visibility</p:attrName>
                                        </p:attrNameLst>
                                      </p:cBhvr>
                                      <p:to>
                                        <p:strVal val="visible"/>
                                      </p:to>
                                    </p:set>
                                    <p:anim calcmode="lin" valueType="num">
                                      <p:cBhvr additive="repl">
                                        <p:cTn id="655" dur="5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repl">
                                        <p:cTn id="656" dur="500" fill="hold"/>
                                        <p:tgtEl>
                                          <p:spTgt spid="288">
                                            <p:txEl>
                                              <p:pRg st="0" end="0"/>
                                            </p:txEl>
                                          </p:spTgt>
                                        </p:tgtEl>
                                        <p:attrNameLst>
                                          <p:attrName>ppt_y</p:attrName>
                                        </p:attrNameLst>
                                      </p:cBhvr>
                                      <p:tavLst>
                                        <p:tav tm="0">
                                          <p:val>
                                            <p:strVal val="1+#ppt_h/2"/>
                                          </p:val>
                                        </p:tav>
                                        <p:tav tm="100000">
                                          <p:val>
                                            <p:strVal val="#ppt_y"/>
                                          </p:val>
                                        </p:tav>
                                      </p:tavLst>
                                    </p:anim>
                                  </p:childTnLst>
                                </p:cTn>
                              </p:par>
                              <p:par>
                                <p:cTn id="657" dur="indefinite" nodeType="withEffect" fill="hold" presetClass="entr" presetID="2" presetSubtype="4">
                                  <p:stCondLst>
                                    <p:cond delay="0"/>
                                  </p:stCondLst>
                                  <p:childTnLst>
                                    <p:set>
                                      <p:cBhvr>
                                        <p:cTn id="658" dur="1" fill="hold">
                                          <p:stCondLst>
                                            <p:cond delay="0"/>
                                          </p:stCondLst>
                                        </p:cTn>
                                        <p:tgtEl>
                                          <p:spTgt spid="288">
                                            <p:txEl>
                                              <p:pRg st="1" end="1"/>
                                            </p:txEl>
                                          </p:spTgt>
                                        </p:tgtEl>
                                        <p:attrNameLst>
                                          <p:attrName>style.visibility</p:attrName>
                                        </p:attrNameLst>
                                      </p:cBhvr>
                                      <p:to>
                                        <p:strVal val="visible"/>
                                      </p:to>
                                    </p:set>
                                    <p:anim calcmode="lin" valueType="num">
                                      <p:cBhvr additive="repl">
                                        <p:cTn id="659" dur="500" fill="hold"/>
                                        <p:tgtEl>
                                          <p:spTgt spid="288">
                                            <p:txEl>
                                              <p:pRg st="1" end="1"/>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88">
                                            <p:txEl>
                                              <p:pRg st="1" end="1"/>
                                            </p:txEl>
                                          </p:spTgt>
                                        </p:tgtEl>
                                        <p:attrNameLst>
                                          <p:attrName>ppt_y</p:attrName>
                                        </p:attrNameLst>
                                      </p:cBhvr>
                                      <p:tavLst>
                                        <p:tav tm="0">
                                          <p:val>
                                            <p:strVal val="1+#ppt_h/2"/>
                                          </p:val>
                                        </p:tav>
                                        <p:tav tm="100000">
                                          <p:val>
                                            <p:strVal val="#ppt_y"/>
                                          </p:val>
                                        </p:tav>
                                      </p:tavLst>
                                    </p:anim>
                                  </p:childTnLst>
                                </p:cTn>
                              </p:par>
                              <p:par>
                                <p:cTn id="661" dur="indefinite" nodeType="withEffect" fill="hold" presetClass="entr" presetID="2" presetSubtype="4">
                                  <p:stCondLst>
                                    <p:cond delay="0"/>
                                  </p:stCondLst>
                                  <p:childTnLst>
                                    <p:set>
                                      <p:cBhvr>
                                        <p:cTn id="662" dur="1" fill="hold">
                                          <p:stCondLst>
                                            <p:cond delay="0"/>
                                          </p:stCondLst>
                                        </p:cTn>
                                        <p:tgtEl>
                                          <p:spTgt spid="288">
                                            <p:txEl>
                                              <p:pRg st="2" end="2"/>
                                            </p:txEl>
                                          </p:spTgt>
                                        </p:tgtEl>
                                        <p:attrNameLst>
                                          <p:attrName>style.visibility</p:attrName>
                                        </p:attrNameLst>
                                      </p:cBhvr>
                                      <p:to>
                                        <p:strVal val="visible"/>
                                      </p:to>
                                    </p:set>
                                    <p:anim calcmode="lin" valueType="num">
                                      <p:cBhvr additive="repl">
                                        <p:cTn id="663" dur="500" fill="hold"/>
                                        <p:tgtEl>
                                          <p:spTgt spid="288">
                                            <p:txEl>
                                              <p:pRg st="2" end="2"/>
                                            </p:txEl>
                                          </p:spTgt>
                                        </p:tgtEl>
                                        <p:attrNameLst>
                                          <p:attrName>ppt_x</p:attrName>
                                        </p:attrNameLst>
                                      </p:cBhvr>
                                      <p:tavLst>
                                        <p:tav tm="0">
                                          <p:val>
                                            <p:strVal val="#ppt_x"/>
                                          </p:val>
                                        </p:tav>
                                        <p:tav tm="100000">
                                          <p:val>
                                            <p:strVal val="#ppt_x"/>
                                          </p:val>
                                        </p:tav>
                                      </p:tavLst>
                                    </p:anim>
                                    <p:anim calcmode="lin" valueType="num">
                                      <p:cBhvr additive="repl">
                                        <p:cTn id="664" dur="500" fill="hold"/>
                                        <p:tgtEl>
                                          <p:spTgt spid="288">
                                            <p:txEl>
                                              <p:pRg st="2" end="2"/>
                                            </p:txEl>
                                          </p:spTgt>
                                        </p:tgtEl>
                                        <p:attrNameLst>
                                          <p:attrName>ppt_y</p:attrName>
                                        </p:attrNameLst>
                                      </p:cBhvr>
                                      <p:tavLst>
                                        <p:tav tm="0">
                                          <p:val>
                                            <p:strVal val="1+#ppt_h/2"/>
                                          </p:val>
                                        </p:tav>
                                        <p:tav tm="100000">
                                          <p:val>
                                            <p:strVal val="#ppt_y"/>
                                          </p:val>
                                        </p:tav>
                                      </p:tavLst>
                                    </p:anim>
                                  </p:childTnLst>
                                </p:cTn>
                              </p:par>
                              <p:par>
                                <p:cTn id="665" dur="indefinite" nodeType="withEffect" fill="hold" presetClass="entr" presetID="2" presetSubtype="4">
                                  <p:stCondLst>
                                    <p:cond delay="0"/>
                                  </p:stCondLst>
                                  <p:childTnLst>
                                    <p:set>
                                      <p:cBhvr>
                                        <p:cTn id="666" dur="1" fill="hold">
                                          <p:stCondLst>
                                            <p:cond delay="0"/>
                                          </p:stCondLst>
                                        </p:cTn>
                                        <p:tgtEl>
                                          <p:spTgt spid="288">
                                            <p:txEl>
                                              <p:pRg st="3" end="3"/>
                                            </p:txEl>
                                          </p:spTgt>
                                        </p:tgtEl>
                                        <p:attrNameLst>
                                          <p:attrName>style.visibility</p:attrName>
                                        </p:attrNameLst>
                                      </p:cBhvr>
                                      <p:to>
                                        <p:strVal val="visible"/>
                                      </p:to>
                                    </p:set>
                                    <p:anim calcmode="lin" valueType="num">
                                      <p:cBhvr additive="repl">
                                        <p:cTn id="667" dur="500" fill="hold"/>
                                        <p:tgtEl>
                                          <p:spTgt spid="288">
                                            <p:txEl>
                                              <p:pRg st="3" end="3"/>
                                            </p:txEl>
                                          </p:spTgt>
                                        </p:tgtEl>
                                        <p:attrNameLst>
                                          <p:attrName>ppt_x</p:attrName>
                                        </p:attrNameLst>
                                      </p:cBhvr>
                                      <p:tavLst>
                                        <p:tav tm="0">
                                          <p:val>
                                            <p:strVal val="#ppt_x"/>
                                          </p:val>
                                        </p:tav>
                                        <p:tav tm="100000">
                                          <p:val>
                                            <p:strVal val="#ppt_x"/>
                                          </p:val>
                                        </p:tav>
                                      </p:tavLst>
                                    </p:anim>
                                    <p:anim calcmode="lin" valueType="num">
                                      <p:cBhvr additive="repl">
                                        <p:cTn id="668" dur="500" fill="hold"/>
                                        <p:tgtEl>
                                          <p:spTgt spid="28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半闭框 5"/>
          <p:cNvSpPr/>
          <p:nvPr/>
        </p:nvSpPr>
        <p:spPr>
          <a:xfrm>
            <a:off x="3105000" y="1241280"/>
            <a:ext cx="741600" cy="693720"/>
          </a:xfrm>
          <a:custGeom>
            <a:avLst/>
            <a:gdLst/>
            <a:ahLst/>
            <a:rect l="l" t="t" r="r" b="b"/>
            <a:pathLst>
              <a:path w="741362" h="693737">
                <a:moveTo>
                  <a:pt x="0" y="0"/>
                </a:moveTo>
                <a:lnTo>
                  <a:pt x="741362" y="0"/>
                </a:lnTo>
                <a:lnTo>
                  <a:pt x="707459" y="31724"/>
                </a:lnTo>
                <a:lnTo>
                  <a:pt x="43504" y="31724"/>
                </a:lnTo>
                <a:lnTo>
                  <a:pt x="43504" y="653027"/>
                </a:lnTo>
                <a:lnTo>
                  <a:pt x="0" y="693737"/>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90" name="半闭框 34"/>
          <p:cNvSpPr/>
          <p:nvPr/>
        </p:nvSpPr>
        <p:spPr>
          <a:xfrm rot="16200000">
            <a:off x="3044880" y="5846400"/>
            <a:ext cx="741240" cy="693720"/>
          </a:xfrm>
          <a:custGeom>
            <a:avLst/>
            <a:gdLst/>
            <a:ahLst/>
            <a:rect l="l" t="t" r="r" b="b"/>
            <a:pathLst>
              <a:path w="741362" h="693737">
                <a:moveTo>
                  <a:pt x="0" y="0"/>
                </a:moveTo>
                <a:lnTo>
                  <a:pt x="741362" y="0"/>
                </a:lnTo>
                <a:lnTo>
                  <a:pt x="707459" y="31724"/>
                </a:lnTo>
                <a:lnTo>
                  <a:pt x="43504" y="31724"/>
                </a:lnTo>
                <a:lnTo>
                  <a:pt x="43504" y="653027"/>
                </a:lnTo>
                <a:lnTo>
                  <a:pt x="0" y="693737"/>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91" name="半闭框 35"/>
          <p:cNvSpPr/>
          <p:nvPr/>
        </p:nvSpPr>
        <p:spPr>
          <a:xfrm rot="5400000">
            <a:off x="8478720" y="1241280"/>
            <a:ext cx="741600" cy="694080"/>
          </a:xfrm>
          <a:custGeom>
            <a:avLst/>
            <a:gdLst/>
            <a:ahLst/>
            <a:rect l="l" t="t" r="r" b="b"/>
            <a:pathLst>
              <a:path w="741362" h="693737">
                <a:moveTo>
                  <a:pt x="0" y="0"/>
                </a:moveTo>
                <a:lnTo>
                  <a:pt x="741362" y="0"/>
                </a:lnTo>
                <a:lnTo>
                  <a:pt x="707459" y="31724"/>
                </a:lnTo>
                <a:lnTo>
                  <a:pt x="43504" y="31724"/>
                </a:lnTo>
                <a:lnTo>
                  <a:pt x="43504" y="653027"/>
                </a:lnTo>
                <a:lnTo>
                  <a:pt x="0" y="693737"/>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92" name="半闭框 36"/>
          <p:cNvSpPr/>
          <p:nvPr/>
        </p:nvSpPr>
        <p:spPr>
          <a:xfrm rot="10800000">
            <a:off x="8524800" y="5868720"/>
            <a:ext cx="741600" cy="695160"/>
          </a:xfrm>
          <a:custGeom>
            <a:avLst/>
            <a:gdLst/>
            <a:ahLst/>
            <a:rect l="l" t="t" r="r" b="b"/>
            <a:pathLst>
              <a:path w="741362" h="695325">
                <a:moveTo>
                  <a:pt x="0" y="0"/>
                </a:moveTo>
                <a:lnTo>
                  <a:pt x="741362" y="0"/>
                </a:lnTo>
                <a:lnTo>
                  <a:pt x="707459" y="31797"/>
                </a:lnTo>
                <a:lnTo>
                  <a:pt x="43603" y="31797"/>
                </a:lnTo>
                <a:lnTo>
                  <a:pt x="43603" y="654428"/>
                </a:lnTo>
                <a:lnTo>
                  <a:pt x="0" y="695325"/>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93" name="矩形 25"/>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94" name="组合 26" descr=""/>
          <p:cNvPicPr/>
          <p:nvPr/>
        </p:nvPicPr>
        <p:blipFill>
          <a:blip r:embed="rId1"/>
          <a:stretch/>
        </p:blipFill>
        <p:spPr>
          <a:xfrm>
            <a:off x="237960" y="206280"/>
            <a:ext cx="578160" cy="576360"/>
          </a:xfrm>
          <a:prstGeom prst="rect">
            <a:avLst/>
          </a:prstGeom>
          <a:ln w="0">
            <a:noFill/>
          </a:ln>
        </p:spPr>
      </p:pic>
      <p:sp>
        <p:nvSpPr>
          <p:cNvPr id="295" name="文本框 25"/>
          <p:cNvSpPr/>
          <p:nvPr/>
        </p:nvSpPr>
        <p:spPr>
          <a:xfrm>
            <a:off x="1006200" y="212760"/>
            <a:ext cx="11136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Games &amp; Activities- Read the following tongue twister</a:t>
            </a:r>
            <a:endParaRPr b="0" lang="en-US" sz="3200" spc="-1" strike="noStrike">
              <a:solidFill>
                <a:srgbClr val="000000"/>
              </a:solidFill>
              <a:latin typeface="等线"/>
            </a:endParaRPr>
          </a:p>
        </p:txBody>
      </p:sp>
      <p:sp>
        <p:nvSpPr>
          <p:cNvPr id="296" name="文本框 1"/>
          <p:cNvSpPr/>
          <p:nvPr/>
        </p:nvSpPr>
        <p:spPr>
          <a:xfrm>
            <a:off x="3595680" y="1959120"/>
            <a:ext cx="52354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At n</a:t>
            </a:r>
            <a:r>
              <a:rPr b="0" lang="en-US" sz="2800" spc="-1" strike="noStrike">
                <a:solidFill>
                  <a:srgbClr val="ff0000"/>
                </a:solidFill>
                <a:latin typeface="等线"/>
              </a:rPr>
              <a:t>oo</a:t>
            </a:r>
            <a:r>
              <a:rPr b="0" lang="en-US" sz="2800" spc="-1" strike="noStrike">
                <a:solidFill>
                  <a:srgbClr val="000000"/>
                </a:solidFill>
                <a:latin typeface="等线"/>
              </a:rPr>
              <a:t>n in J</a:t>
            </a:r>
            <a:r>
              <a:rPr b="0" lang="en-US" sz="2800" spc="-1" strike="noStrike">
                <a:solidFill>
                  <a:srgbClr val="ff0000"/>
                </a:solidFill>
                <a:latin typeface="等线"/>
              </a:rPr>
              <a:t>u</a:t>
            </a:r>
            <a:r>
              <a:rPr b="0" lang="en-US" sz="2800" spc="-1" strike="noStrike">
                <a:solidFill>
                  <a:srgbClr val="000000"/>
                </a:solidFill>
                <a:latin typeface="等线"/>
              </a:rPr>
              <a:t>ne when the flowers dr</a:t>
            </a:r>
            <a:r>
              <a:rPr b="0" lang="en-US" sz="2800" spc="-1" strike="noStrike">
                <a:solidFill>
                  <a:srgbClr val="ff0000"/>
                </a:solidFill>
                <a:latin typeface="等线"/>
              </a:rPr>
              <a:t>oo</a:t>
            </a:r>
            <a:r>
              <a:rPr b="0" lang="en-US" sz="2800" spc="-1" strike="noStrike">
                <a:solidFill>
                  <a:srgbClr val="000000"/>
                </a:solidFill>
                <a:latin typeface="等线"/>
              </a:rPr>
              <a:t>p,</a:t>
            </a:r>
            <a:endParaRPr b="0" lang="en-US" sz="28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And the r</a:t>
            </a:r>
            <a:r>
              <a:rPr b="0" lang="en-US" sz="2800" spc="-1" strike="noStrike">
                <a:solidFill>
                  <a:srgbClr val="ff0000"/>
                </a:solidFill>
                <a:latin typeface="等线"/>
              </a:rPr>
              <a:t>oo</a:t>
            </a:r>
            <a:r>
              <a:rPr b="0" lang="en-US" sz="2800" spc="-1" strike="noStrike">
                <a:solidFill>
                  <a:srgbClr val="000000"/>
                </a:solidFill>
                <a:latin typeface="等线"/>
              </a:rPr>
              <a:t>fing sky is bl</a:t>
            </a:r>
            <a:r>
              <a:rPr b="0" lang="en-US" sz="2800" spc="-1" strike="noStrike">
                <a:solidFill>
                  <a:srgbClr val="ff0000"/>
                </a:solidFill>
                <a:latin typeface="等线"/>
              </a:rPr>
              <a:t>ue</a:t>
            </a:r>
            <a:r>
              <a:rPr b="0" lang="en-US" sz="2800" spc="-1" strike="noStrike">
                <a:solidFill>
                  <a:srgbClr val="000000"/>
                </a:solidFill>
                <a:latin typeface="等线"/>
              </a:rPr>
              <a:t>,</a:t>
            </a:r>
            <a:endParaRPr b="0" lang="en-US" sz="28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When the doves cr</a:t>
            </a:r>
            <a:r>
              <a:rPr b="0" lang="en-US" sz="2800" spc="-1" strike="noStrike">
                <a:solidFill>
                  <a:srgbClr val="ff0000"/>
                </a:solidFill>
                <a:latin typeface="等线"/>
              </a:rPr>
              <a:t>oo</a:t>
            </a:r>
            <a:r>
              <a:rPr b="0" lang="en-US" sz="2800" spc="-1" strike="noStrike">
                <a:solidFill>
                  <a:srgbClr val="000000"/>
                </a:solidFill>
                <a:latin typeface="等线"/>
              </a:rPr>
              <a:t>n thr</a:t>
            </a:r>
            <a:r>
              <a:rPr b="0" lang="en-US" sz="2800" spc="-1" strike="noStrike">
                <a:solidFill>
                  <a:srgbClr val="ff0000"/>
                </a:solidFill>
                <a:latin typeface="等线"/>
              </a:rPr>
              <a:t>ough</a:t>
            </a:r>
            <a:r>
              <a:rPr b="0" lang="en-US" sz="2800" spc="-1" strike="noStrike">
                <a:solidFill>
                  <a:srgbClr val="000000"/>
                </a:solidFill>
                <a:latin typeface="等线"/>
              </a:rPr>
              <a:t> the gl</a:t>
            </a:r>
            <a:r>
              <a:rPr b="0" lang="en-US" sz="2800" spc="-1" strike="noStrike">
                <a:solidFill>
                  <a:srgbClr val="ff0000"/>
                </a:solidFill>
                <a:latin typeface="等线"/>
              </a:rPr>
              <a:t>oo</a:t>
            </a:r>
            <a:r>
              <a:rPr b="0" lang="en-US" sz="2800" spc="-1" strike="noStrike">
                <a:solidFill>
                  <a:srgbClr val="000000"/>
                </a:solidFill>
                <a:latin typeface="等线"/>
              </a:rPr>
              <a:t>m of the tress,</a:t>
            </a:r>
            <a:endParaRPr b="0" lang="en-US" sz="28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What d</a:t>
            </a:r>
            <a:r>
              <a:rPr b="0" lang="en-US" sz="2800" spc="-1" strike="noStrike">
                <a:solidFill>
                  <a:srgbClr val="ff0000"/>
                </a:solidFill>
                <a:latin typeface="等线"/>
              </a:rPr>
              <a:t>o</a:t>
            </a:r>
            <a:r>
              <a:rPr b="0" lang="en-US" sz="2800" spc="-1" strike="noStrike">
                <a:solidFill>
                  <a:srgbClr val="000000"/>
                </a:solidFill>
                <a:latin typeface="等线"/>
              </a:rPr>
              <a:t> we ch</a:t>
            </a:r>
            <a:r>
              <a:rPr b="0" lang="en-US" sz="2800" spc="-1" strike="noStrike">
                <a:solidFill>
                  <a:srgbClr val="ff0000"/>
                </a:solidFill>
                <a:latin typeface="等线"/>
              </a:rPr>
              <a:t>oo</a:t>
            </a:r>
            <a:r>
              <a:rPr b="0" lang="en-US" sz="2800" spc="-1" strike="noStrike">
                <a:solidFill>
                  <a:srgbClr val="000000"/>
                </a:solidFill>
                <a:latin typeface="等线"/>
              </a:rPr>
              <a:t>se to d</a:t>
            </a:r>
            <a:r>
              <a:rPr b="0" lang="en-US" sz="2800" spc="-1" strike="noStrike">
                <a:solidFill>
                  <a:srgbClr val="ff0000"/>
                </a:solidFill>
                <a:latin typeface="等线"/>
              </a:rPr>
              <a:t>o</a:t>
            </a:r>
            <a:r>
              <a:rPr b="0" lang="en-US" sz="2800" spc="-1" strike="noStrike">
                <a:solidFill>
                  <a:srgbClr val="000000"/>
                </a:solidFill>
                <a:latin typeface="等线"/>
              </a:rPr>
              <a:t>?</a:t>
            </a:r>
            <a:endParaRPr b="0" lang="en-US" sz="28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Why, to tr</a:t>
            </a:r>
            <a:r>
              <a:rPr b="0" lang="en-US" sz="2800" spc="-1" strike="noStrike">
                <a:solidFill>
                  <a:srgbClr val="ff0000"/>
                </a:solidFill>
                <a:latin typeface="等线"/>
              </a:rPr>
              <a:t>oo</a:t>
            </a:r>
            <a:r>
              <a:rPr b="0" lang="en-US" sz="2800" spc="-1" strike="noStrike">
                <a:solidFill>
                  <a:srgbClr val="000000"/>
                </a:solidFill>
                <a:latin typeface="等线"/>
              </a:rPr>
              <a:t>p to the p</a:t>
            </a:r>
            <a:r>
              <a:rPr b="0" lang="en-US" sz="2800" spc="-1" strike="noStrike">
                <a:solidFill>
                  <a:srgbClr val="ff0000"/>
                </a:solidFill>
                <a:latin typeface="等线"/>
              </a:rPr>
              <a:t>oo</a:t>
            </a:r>
            <a:r>
              <a:rPr b="0" lang="en-US" sz="2800" spc="-1" strike="noStrike">
                <a:solidFill>
                  <a:srgbClr val="000000"/>
                </a:solidFill>
                <a:latin typeface="等线"/>
              </a:rPr>
              <a:t>l where the water c</a:t>
            </a:r>
            <a:r>
              <a:rPr b="0" lang="en-US" sz="2800" spc="-1" strike="noStrike">
                <a:solidFill>
                  <a:srgbClr val="ff0000"/>
                </a:solidFill>
                <a:latin typeface="等线"/>
              </a:rPr>
              <a:t>oo</a:t>
            </a:r>
            <a:r>
              <a:rPr b="0" lang="en-US" sz="2800" spc="-1" strike="noStrike">
                <a:solidFill>
                  <a:srgbClr val="000000"/>
                </a:solidFill>
                <a:latin typeface="等线"/>
              </a:rPr>
              <a:t>l</a:t>
            </a:r>
            <a:endParaRPr b="0" lang="en-US" sz="28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ems f</a:t>
            </a:r>
            <a:r>
              <a:rPr b="0" lang="en-US" sz="2800" spc="-1" strike="noStrike">
                <a:solidFill>
                  <a:srgbClr val="ff0000"/>
                </a:solidFill>
                <a:latin typeface="等线"/>
              </a:rPr>
              <a:t>ar</a:t>
            </a:r>
            <a:r>
              <a:rPr b="0" lang="en-US" sz="2800" spc="-1" strike="noStrike">
                <a:solidFill>
                  <a:srgbClr val="000000"/>
                </a:solidFill>
                <a:latin typeface="等线"/>
              </a:rPr>
              <a:t> t</a:t>
            </a:r>
            <a:r>
              <a:rPr b="0" lang="en-US" sz="2800" spc="-1" strike="noStrike">
                <a:solidFill>
                  <a:srgbClr val="ff0000"/>
                </a:solidFill>
                <a:latin typeface="等线"/>
              </a:rPr>
              <a:t>oo</a:t>
            </a:r>
            <a:r>
              <a:rPr b="0" lang="en-US" sz="2800" spc="-1" strike="noStrike">
                <a:solidFill>
                  <a:srgbClr val="000000"/>
                </a:solidFill>
                <a:latin typeface="等线"/>
              </a:rPr>
              <a:t> g</a:t>
            </a:r>
            <a:r>
              <a:rPr b="0" lang="en-US" sz="2800" spc="-1" strike="noStrike">
                <a:solidFill>
                  <a:srgbClr val="ff0000"/>
                </a:solidFill>
                <a:latin typeface="等线"/>
              </a:rPr>
              <a:t>oo</a:t>
            </a:r>
            <a:r>
              <a:rPr b="0" lang="en-US" sz="2800" spc="-1" strike="noStrike">
                <a:solidFill>
                  <a:srgbClr val="000000"/>
                </a:solidFill>
                <a:latin typeface="等线"/>
              </a:rPr>
              <a:t>d to be tr</a:t>
            </a:r>
            <a:r>
              <a:rPr b="0" lang="en-US" sz="2800" spc="-1" strike="noStrike">
                <a:solidFill>
                  <a:srgbClr val="ff0000"/>
                </a:solidFill>
                <a:latin typeface="等线"/>
              </a:rPr>
              <a:t>ue</a:t>
            </a:r>
            <a:r>
              <a:rPr b="0" lang="en-US" sz="2800" spc="-1" strike="noStrike">
                <a:solidFill>
                  <a:srgbClr val="000000"/>
                </a:solidFill>
                <a:latin typeface="等线"/>
              </a:rPr>
              <a:t>.</a:t>
            </a:r>
            <a:endParaRPr b="0" lang="en-US" sz="2800" spc="-1" strike="noStrike">
              <a:solidFill>
                <a:srgbClr val="000000"/>
              </a:solidFill>
              <a:latin typeface="等线"/>
            </a:endParaRPr>
          </a:p>
        </p:txBody>
      </p:sp>
    </p:spTree>
  </p:cSld>
  <p:transition>
    <p:push dir="u"/>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dur="indefinite" nodeType="clickEffect" fill="hold" presetClass="entr" presetID="2" presetSubtype="4">
                                  <p:stCondLst>
                                    <p:cond delay="0"/>
                                  </p:stCondLst>
                                  <p:childTnLst>
                                    <p:set>
                                      <p:cBhvr>
                                        <p:cTn id="674" dur="1" fill="hold">
                                          <p:stCondLst>
                                            <p:cond delay="0"/>
                                          </p:stCondLst>
                                        </p:cTn>
                                        <p:tgtEl>
                                          <p:spTgt spid="296">
                                            <p:txEl>
                                              <p:pRg st="0" end="0"/>
                                            </p:txEl>
                                          </p:spTgt>
                                        </p:tgtEl>
                                        <p:attrNameLst>
                                          <p:attrName>style.visibility</p:attrName>
                                        </p:attrNameLst>
                                      </p:cBhvr>
                                      <p:to>
                                        <p:strVal val="visible"/>
                                      </p:to>
                                    </p:set>
                                    <p:anim calcmode="lin" valueType="num">
                                      <p:cBhvr additive="repl">
                                        <p:cTn id="675"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repl">
                                        <p:cTn id="676" dur="500" fill="hold"/>
                                        <p:tgtEl>
                                          <p:spTgt spid="296">
                                            <p:txEl>
                                              <p:pRg st="0" end="0"/>
                                            </p:txEl>
                                          </p:spTgt>
                                        </p:tgtEl>
                                        <p:attrNameLst>
                                          <p:attrName>ppt_y</p:attrName>
                                        </p:attrNameLst>
                                      </p:cBhvr>
                                      <p:tavLst>
                                        <p:tav tm="0">
                                          <p:val>
                                            <p:strVal val="1+#ppt_h/2"/>
                                          </p:val>
                                        </p:tav>
                                        <p:tav tm="100000">
                                          <p:val>
                                            <p:strVal val="#ppt_y"/>
                                          </p:val>
                                        </p:tav>
                                      </p:tavLst>
                                    </p:anim>
                                  </p:childTnLst>
                                </p:cTn>
                              </p:par>
                              <p:par>
                                <p:cTn id="677" dur="indefinite" nodeType="withEffect" fill="hold" presetClass="entr" presetID="2" presetSubtype="4">
                                  <p:stCondLst>
                                    <p:cond delay="0"/>
                                  </p:stCondLst>
                                  <p:childTnLst>
                                    <p:set>
                                      <p:cBhvr>
                                        <p:cTn id="678" dur="1" fill="hold">
                                          <p:stCondLst>
                                            <p:cond delay="0"/>
                                          </p:stCondLst>
                                        </p:cTn>
                                        <p:tgtEl>
                                          <p:spTgt spid="296">
                                            <p:txEl>
                                              <p:pRg st="1" end="1"/>
                                            </p:txEl>
                                          </p:spTgt>
                                        </p:tgtEl>
                                        <p:attrNameLst>
                                          <p:attrName>style.visibility</p:attrName>
                                        </p:attrNameLst>
                                      </p:cBhvr>
                                      <p:to>
                                        <p:strVal val="visible"/>
                                      </p:to>
                                    </p:set>
                                    <p:anim calcmode="lin" valueType="num">
                                      <p:cBhvr additive="repl">
                                        <p:cTn id="679" dur="500" fill="hold"/>
                                        <p:tgtEl>
                                          <p:spTgt spid="296">
                                            <p:txEl>
                                              <p:pRg st="1" end="1"/>
                                            </p:txEl>
                                          </p:spTgt>
                                        </p:tgtEl>
                                        <p:attrNameLst>
                                          <p:attrName>ppt_x</p:attrName>
                                        </p:attrNameLst>
                                      </p:cBhvr>
                                      <p:tavLst>
                                        <p:tav tm="0">
                                          <p:val>
                                            <p:strVal val="#ppt_x"/>
                                          </p:val>
                                        </p:tav>
                                        <p:tav tm="100000">
                                          <p:val>
                                            <p:strVal val="#ppt_x"/>
                                          </p:val>
                                        </p:tav>
                                      </p:tavLst>
                                    </p:anim>
                                    <p:anim calcmode="lin" valueType="num">
                                      <p:cBhvr additive="repl">
                                        <p:cTn id="680" dur="500" fill="hold"/>
                                        <p:tgtEl>
                                          <p:spTgt spid="296">
                                            <p:txEl>
                                              <p:pRg st="1" end="1"/>
                                            </p:txEl>
                                          </p:spTgt>
                                        </p:tgtEl>
                                        <p:attrNameLst>
                                          <p:attrName>ppt_y</p:attrName>
                                        </p:attrNameLst>
                                      </p:cBhvr>
                                      <p:tavLst>
                                        <p:tav tm="0">
                                          <p:val>
                                            <p:strVal val="1+#ppt_h/2"/>
                                          </p:val>
                                        </p:tav>
                                        <p:tav tm="100000">
                                          <p:val>
                                            <p:strVal val="#ppt_y"/>
                                          </p:val>
                                        </p:tav>
                                      </p:tavLst>
                                    </p:anim>
                                  </p:childTnLst>
                                </p:cTn>
                              </p:par>
                              <p:par>
                                <p:cTn id="681" dur="indefinite" nodeType="withEffect" fill="hold" presetClass="entr" presetID="2" presetSubtype="4">
                                  <p:stCondLst>
                                    <p:cond delay="0"/>
                                  </p:stCondLst>
                                  <p:childTnLst>
                                    <p:set>
                                      <p:cBhvr>
                                        <p:cTn id="682" dur="1" fill="hold">
                                          <p:stCondLst>
                                            <p:cond delay="0"/>
                                          </p:stCondLst>
                                        </p:cTn>
                                        <p:tgtEl>
                                          <p:spTgt spid="296">
                                            <p:txEl>
                                              <p:pRg st="2" end="2"/>
                                            </p:txEl>
                                          </p:spTgt>
                                        </p:tgtEl>
                                        <p:attrNameLst>
                                          <p:attrName>style.visibility</p:attrName>
                                        </p:attrNameLst>
                                      </p:cBhvr>
                                      <p:to>
                                        <p:strVal val="visible"/>
                                      </p:to>
                                    </p:set>
                                    <p:anim calcmode="lin" valueType="num">
                                      <p:cBhvr additive="repl">
                                        <p:cTn id="683" dur="500" fill="hold"/>
                                        <p:tgtEl>
                                          <p:spTgt spid="296">
                                            <p:txEl>
                                              <p:pRg st="2" end="2"/>
                                            </p:txEl>
                                          </p:spTgt>
                                        </p:tgtEl>
                                        <p:attrNameLst>
                                          <p:attrName>ppt_x</p:attrName>
                                        </p:attrNameLst>
                                      </p:cBhvr>
                                      <p:tavLst>
                                        <p:tav tm="0">
                                          <p:val>
                                            <p:strVal val="#ppt_x"/>
                                          </p:val>
                                        </p:tav>
                                        <p:tav tm="100000">
                                          <p:val>
                                            <p:strVal val="#ppt_x"/>
                                          </p:val>
                                        </p:tav>
                                      </p:tavLst>
                                    </p:anim>
                                    <p:anim calcmode="lin" valueType="num">
                                      <p:cBhvr additive="repl">
                                        <p:cTn id="684" dur="500" fill="hold"/>
                                        <p:tgtEl>
                                          <p:spTgt spid="296">
                                            <p:txEl>
                                              <p:pRg st="2" end="2"/>
                                            </p:txEl>
                                          </p:spTgt>
                                        </p:tgtEl>
                                        <p:attrNameLst>
                                          <p:attrName>ppt_y</p:attrName>
                                        </p:attrNameLst>
                                      </p:cBhvr>
                                      <p:tavLst>
                                        <p:tav tm="0">
                                          <p:val>
                                            <p:strVal val="1+#ppt_h/2"/>
                                          </p:val>
                                        </p:tav>
                                        <p:tav tm="100000">
                                          <p:val>
                                            <p:strVal val="#ppt_y"/>
                                          </p:val>
                                        </p:tav>
                                      </p:tavLst>
                                    </p:anim>
                                  </p:childTnLst>
                                </p:cTn>
                              </p:par>
                              <p:par>
                                <p:cTn id="685" dur="indefinite" nodeType="withEffect" fill="hold" presetClass="entr" presetID="2" presetSubtype="4">
                                  <p:stCondLst>
                                    <p:cond delay="0"/>
                                  </p:stCondLst>
                                  <p:childTnLst>
                                    <p:set>
                                      <p:cBhvr>
                                        <p:cTn id="686" dur="1" fill="hold">
                                          <p:stCondLst>
                                            <p:cond delay="0"/>
                                          </p:stCondLst>
                                        </p:cTn>
                                        <p:tgtEl>
                                          <p:spTgt spid="296">
                                            <p:txEl>
                                              <p:pRg st="3" end="3"/>
                                            </p:txEl>
                                          </p:spTgt>
                                        </p:tgtEl>
                                        <p:attrNameLst>
                                          <p:attrName>style.visibility</p:attrName>
                                        </p:attrNameLst>
                                      </p:cBhvr>
                                      <p:to>
                                        <p:strVal val="visible"/>
                                      </p:to>
                                    </p:set>
                                    <p:anim calcmode="lin" valueType="num">
                                      <p:cBhvr additive="repl">
                                        <p:cTn id="687" dur="500" fill="hold"/>
                                        <p:tgtEl>
                                          <p:spTgt spid="296">
                                            <p:txEl>
                                              <p:pRg st="3" end="3"/>
                                            </p:txEl>
                                          </p:spTgt>
                                        </p:tgtEl>
                                        <p:attrNameLst>
                                          <p:attrName>ppt_x</p:attrName>
                                        </p:attrNameLst>
                                      </p:cBhvr>
                                      <p:tavLst>
                                        <p:tav tm="0">
                                          <p:val>
                                            <p:strVal val="#ppt_x"/>
                                          </p:val>
                                        </p:tav>
                                        <p:tav tm="100000">
                                          <p:val>
                                            <p:strVal val="#ppt_x"/>
                                          </p:val>
                                        </p:tav>
                                      </p:tavLst>
                                    </p:anim>
                                    <p:anim calcmode="lin" valueType="num">
                                      <p:cBhvr additive="repl">
                                        <p:cTn id="688" dur="500" fill="hold"/>
                                        <p:tgtEl>
                                          <p:spTgt spid="296">
                                            <p:txEl>
                                              <p:pRg st="3" end="3"/>
                                            </p:txEl>
                                          </p:spTgt>
                                        </p:tgtEl>
                                        <p:attrNameLst>
                                          <p:attrName>ppt_y</p:attrName>
                                        </p:attrNameLst>
                                      </p:cBhvr>
                                      <p:tavLst>
                                        <p:tav tm="0">
                                          <p:val>
                                            <p:strVal val="1+#ppt_h/2"/>
                                          </p:val>
                                        </p:tav>
                                        <p:tav tm="100000">
                                          <p:val>
                                            <p:strVal val="#ppt_y"/>
                                          </p:val>
                                        </p:tav>
                                      </p:tavLst>
                                    </p:anim>
                                  </p:childTnLst>
                                </p:cTn>
                              </p:par>
                              <p:par>
                                <p:cTn id="689" dur="indefinite" nodeType="withEffect" fill="hold" presetClass="entr" presetID="2" presetSubtype="4">
                                  <p:stCondLst>
                                    <p:cond delay="0"/>
                                  </p:stCondLst>
                                  <p:childTnLst>
                                    <p:set>
                                      <p:cBhvr>
                                        <p:cTn id="690" dur="1" fill="hold">
                                          <p:stCondLst>
                                            <p:cond delay="0"/>
                                          </p:stCondLst>
                                        </p:cTn>
                                        <p:tgtEl>
                                          <p:spTgt spid="296">
                                            <p:txEl>
                                              <p:pRg st="4" end="4"/>
                                            </p:txEl>
                                          </p:spTgt>
                                        </p:tgtEl>
                                        <p:attrNameLst>
                                          <p:attrName>style.visibility</p:attrName>
                                        </p:attrNameLst>
                                      </p:cBhvr>
                                      <p:to>
                                        <p:strVal val="visible"/>
                                      </p:to>
                                    </p:set>
                                    <p:anim calcmode="lin" valueType="num">
                                      <p:cBhvr additive="repl">
                                        <p:cTn id="691" dur="500" fill="hold"/>
                                        <p:tgtEl>
                                          <p:spTgt spid="296">
                                            <p:txEl>
                                              <p:pRg st="4" end="4"/>
                                            </p:txEl>
                                          </p:spTgt>
                                        </p:tgtEl>
                                        <p:attrNameLst>
                                          <p:attrName>ppt_x</p:attrName>
                                        </p:attrNameLst>
                                      </p:cBhvr>
                                      <p:tavLst>
                                        <p:tav tm="0">
                                          <p:val>
                                            <p:strVal val="#ppt_x"/>
                                          </p:val>
                                        </p:tav>
                                        <p:tav tm="100000">
                                          <p:val>
                                            <p:strVal val="#ppt_x"/>
                                          </p:val>
                                        </p:tav>
                                      </p:tavLst>
                                    </p:anim>
                                    <p:anim calcmode="lin" valueType="num">
                                      <p:cBhvr additive="repl">
                                        <p:cTn id="692" dur="500" fill="hold"/>
                                        <p:tgtEl>
                                          <p:spTgt spid="296">
                                            <p:txEl>
                                              <p:pRg st="4" end="4"/>
                                            </p:txEl>
                                          </p:spTgt>
                                        </p:tgtEl>
                                        <p:attrNameLst>
                                          <p:attrName>ppt_y</p:attrName>
                                        </p:attrNameLst>
                                      </p:cBhvr>
                                      <p:tavLst>
                                        <p:tav tm="0">
                                          <p:val>
                                            <p:strVal val="1+#ppt_h/2"/>
                                          </p:val>
                                        </p:tav>
                                        <p:tav tm="100000">
                                          <p:val>
                                            <p:strVal val="#ppt_y"/>
                                          </p:val>
                                        </p:tav>
                                      </p:tavLst>
                                    </p:anim>
                                  </p:childTnLst>
                                </p:cTn>
                              </p:par>
                              <p:par>
                                <p:cTn id="693" dur="indefinite" nodeType="withEffect" fill="hold" presetClass="entr" presetID="2" presetSubtype="4">
                                  <p:stCondLst>
                                    <p:cond delay="0"/>
                                  </p:stCondLst>
                                  <p:childTnLst>
                                    <p:set>
                                      <p:cBhvr>
                                        <p:cTn id="694" dur="1" fill="hold">
                                          <p:stCondLst>
                                            <p:cond delay="0"/>
                                          </p:stCondLst>
                                        </p:cTn>
                                        <p:tgtEl>
                                          <p:spTgt spid="296">
                                            <p:txEl>
                                              <p:pRg st="5" end="5"/>
                                            </p:txEl>
                                          </p:spTgt>
                                        </p:tgtEl>
                                        <p:attrNameLst>
                                          <p:attrName>style.visibility</p:attrName>
                                        </p:attrNameLst>
                                      </p:cBhvr>
                                      <p:to>
                                        <p:strVal val="visible"/>
                                      </p:to>
                                    </p:set>
                                    <p:anim calcmode="lin" valueType="num">
                                      <p:cBhvr additive="repl">
                                        <p:cTn id="695" dur="500" fill="hold"/>
                                        <p:tgtEl>
                                          <p:spTgt spid="296">
                                            <p:txEl>
                                              <p:pRg st="5" end="5"/>
                                            </p:txEl>
                                          </p:spTgt>
                                        </p:tgtEl>
                                        <p:attrNameLst>
                                          <p:attrName>ppt_x</p:attrName>
                                        </p:attrNameLst>
                                      </p:cBhvr>
                                      <p:tavLst>
                                        <p:tav tm="0">
                                          <p:val>
                                            <p:strVal val="#ppt_x"/>
                                          </p:val>
                                        </p:tav>
                                        <p:tav tm="100000">
                                          <p:val>
                                            <p:strVal val="#ppt_x"/>
                                          </p:val>
                                        </p:tav>
                                      </p:tavLst>
                                    </p:anim>
                                    <p:anim calcmode="lin" valueType="num">
                                      <p:cBhvr additive="repl">
                                        <p:cTn id="696" dur="500" fill="hold"/>
                                        <p:tgtEl>
                                          <p:spTgt spid="29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657360" y="1612800"/>
            <a:ext cx="4805280" cy="4840560"/>
          </a:xfrm>
          <a:prstGeom prst="rect">
            <a:avLst/>
          </a:prstGeom>
          <a:noFill/>
          <a:ln w="0">
            <a:noFill/>
          </a:ln>
        </p:spPr>
        <p:txBody>
          <a:bodyPr anchor="t">
            <a:normAutofit/>
          </a:bodyPr>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fool</a:t>
            </a:r>
            <a:r>
              <a:rPr b="0" lang="en-US" sz="2400" spc="-1" strike="noStrike">
                <a:solidFill>
                  <a:srgbClr val="000000"/>
                </a:solidFill>
                <a:latin typeface="等线"/>
              </a:rPr>
              <a:t>	</a:t>
            </a:r>
            <a:r>
              <a:rPr b="0" lang="en-US" sz="2400" spc="-1" strike="noStrike">
                <a:solidFill>
                  <a:srgbClr val="000000"/>
                </a:solidFill>
                <a:latin typeface="等线"/>
              </a:rPr>
              <a:t>     full</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2.cooed      could</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3.pool</a:t>
            </a:r>
            <a:r>
              <a:rPr b="0" lang="en-US" sz="2400" spc="-1" strike="noStrike">
                <a:solidFill>
                  <a:srgbClr val="000000"/>
                </a:solidFill>
                <a:latin typeface="等线"/>
              </a:rPr>
              <a:t>	</a:t>
            </a:r>
            <a:r>
              <a:rPr b="0" lang="en-US" sz="2400" spc="-1" strike="noStrike">
                <a:solidFill>
                  <a:srgbClr val="000000"/>
                </a:solidFill>
                <a:latin typeface="等线"/>
              </a:rPr>
              <a:t>     pull</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4.Luke</a:t>
            </a:r>
            <a:r>
              <a:rPr b="0" lang="en-US" sz="2400" spc="-1" strike="noStrike">
                <a:solidFill>
                  <a:srgbClr val="000000"/>
                </a:solidFill>
                <a:latin typeface="等线"/>
              </a:rPr>
              <a:t>	</a:t>
            </a:r>
            <a:r>
              <a:rPr b="0" lang="en-US" sz="2400" spc="-1" strike="noStrike">
                <a:solidFill>
                  <a:srgbClr val="000000"/>
                </a:solidFill>
                <a:latin typeface="等线"/>
              </a:rPr>
              <a:t>     look</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5.wooed</a:t>
            </a:r>
            <a:r>
              <a:rPr b="0" lang="en-US" sz="2400" spc="-1" strike="noStrike">
                <a:solidFill>
                  <a:srgbClr val="000000"/>
                </a:solidFill>
                <a:latin typeface="等线"/>
              </a:rPr>
              <a:t>	</a:t>
            </a:r>
            <a:r>
              <a:rPr b="0" lang="en-US" sz="2400" spc="-1" strike="noStrike">
                <a:solidFill>
                  <a:srgbClr val="000000"/>
                </a:solidFill>
                <a:latin typeface="等线"/>
              </a:rPr>
              <a:t>     would</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6.kooky</a:t>
            </a:r>
            <a:r>
              <a:rPr b="0" lang="en-US" sz="2400" spc="-1" strike="noStrike">
                <a:solidFill>
                  <a:srgbClr val="000000"/>
                </a:solidFill>
                <a:latin typeface="等线"/>
              </a:rPr>
              <a:t>	</a:t>
            </a:r>
            <a:r>
              <a:rPr b="0" lang="en-US" sz="2400" spc="-1" strike="noStrike">
                <a:solidFill>
                  <a:srgbClr val="000000"/>
                </a:solidFill>
                <a:latin typeface="等线"/>
              </a:rPr>
              <a:t>     cookie</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7.caught</a:t>
            </a:r>
            <a:r>
              <a:rPr b="0" lang="en-US" sz="2400" spc="-1" strike="noStrike">
                <a:solidFill>
                  <a:srgbClr val="000000"/>
                </a:solidFill>
                <a:latin typeface="等线"/>
              </a:rPr>
              <a:t>	</a:t>
            </a:r>
            <a:r>
              <a:rPr b="0" lang="en-US" sz="2400" spc="-1" strike="noStrike">
                <a:solidFill>
                  <a:srgbClr val="000000"/>
                </a:solidFill>
                <a:latin typeface="等线"/>
              </a:rPr>
              <a:t>     cot</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8.hawk</a:t>
            </a:r>
            <a:r>
              <a:rPr b="0" lang="en-US" sz="2400" spc="-1" strike="noStrike">
                <a:solidFill>
                  <a:srgbClr val="000000"/>
                </a:solidFill>
                <a:latin typeface="等线"/>
              </a:rPr>
              <a:t>	</a:t>
            </a:r>
            <a:r>
              <a:rPr b="0" lang="en-US" sz="2400" spc="-1" strike="noStrike">
                <a:solidFill>
                  <a:srgbClr val="000000"/>
                </a:solidFill>
                <a:latin typeface="等线"/>
              </a:rPr>
              <a:t>     hock</a:t>
            </a:r>
            <a:endParaRPr b="0" lang="en-US" sz="2400" spc="-1" strike="noStrike">
              <a:solidFill>
                <a:srgbClr val="000000"/>
              </a:solidFill>
              <a:latin typeface="等线"/>
            </a:endParaRPr>
          </a:p>
        </p:txBody>
      </p:sp>
      <p:sp>
        <p:nvSpPr>
          <p:cNvPr id="298" name=""/>
          <p:cNvSpPr txBox="1"/>
          <p:nvPr/>
        </p:nvSpPr>
        <p:spPr>
          <a:xfrm>
            <a:off x="6683040" y="1612800"/>
            <a:ext cx="5295960" cy="4840560"/>
          </a:xfrm>
          <a:prstGeom prst="rect">
            <a:avLst/>
          </a:prstGeom>
          <a:noFill/>
          <a:ln w="0">
            <a:noFill/>
          </a:ln>
        </p:spPr>
        <p:txBody>
          <a:bodyPr anchor="t">
            <a:normAutofit/>
          </a:bodyPr>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9.heart</a:t>
            </a:r>
            <a:r>
              <a:rPr b="0" lang="en-US" sz="2400" spc="-1" strike="noStrike">
                <a:solidFill>
                  <a:srgbClr val="000000"/>
                </a:solidFill>
                <a:latin typeface="等线"/>
              </a:rPr>
              <a:t>	</a:t>
            </a:r>
            <a:r>
              <a:rPr b="0" lang="en-US" sz="2400" spc="-1" strike="noStrike">
                <a:solidFill>
                  <a:srgbClr val="000000"/>
                </a:solidFill>
                <a:latin typeface="等线"/>
              </a:rPr>
              <a:t>   hot</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0.guard    god</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1.carp</a:t>
            </a:r>
            <a:r>
              <a:rPr b="0" lang="en-US" sz="2400" spc="-1" strike="noStrike">
                <a:solidFill>
                  <a:srgbClr val="000000"/>
                </a:solidFill>
                <a:latin typeface="等线"/>
              </a:rPr>
              <a:t>	</a:t>
            </a:r>
            <a:r>
              <a:rPr b="0" lang="en-US" sz="2400" spc="-1" strike="noStrike">
                <a:solidFill>
                  <a:srgbClr val="000000"/>
                </a:solidFill>
                <a:latin typeface="等线"/>
              </a:rPr>
              <a:t>   cop</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2.lark</a:t>
            </a:r>
            <a:r>
              <a:rPr b="0" lang="en-US" sz="2400" spc="-1" strike="noStrike">
                <a:solidFill>
                  <a:srgbClr val="000000"/>
                </a:solidFill>
                <a:latin typeface="等线"/>
              </a:rPr>
              <a:t>	</a:t>
            </a:r>
            <a:r>
              <a:rPr b="0" lang="en-US" sz="2400" spc="-1" strike="noStrike">
                <a:solidFill>
                  <a:srgbClr val="000000"/>
                </a:solidFill>
                <a:latin typeface="等线"/>
              </a:rPr>
              <a:t>   lock</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3.barn</a:t>
            </a:r>
            <a:r>
              <a:rPr b="0" lang="en-US" sz="2400" spc="-1" strike="noStrike">
                <a:solidFill>
                  <a:srgbClr val="000000"/>
                </a:solidFill>
                <a:latin typeface="等线"/>
              </a:rPr>
              <a:t>	</a:t>
            </a:r>
            <a:r>
              <a:rPr b="0" lang="en-US" sz="2400" spc="-1" strike="noStrike">
                <a:solidFill>
                  <a:srgbClr val="000000"/>
                </a:solidFill>
                <a:latin typeface="等线"/>
              </a:rPr>
              <a:t>   bun</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4.dark</a:t>
            </a:r>
            <a:r>
              <a:rPr b="0" lang="en-US" sz="2400" spc="-1" strike="noStrike">
                <a:solidFill>
                  <a:srgbClr val="000000"/>
                </a:solidFill>
                <a:latin typeface="等线"/>
              </a:rPr>
              <a:t>	</a:t>
            </a:r>
            <a:r>
              <a:rPr b="0" lang="en-US" sz="2400" spc="-1" strike="noStrike">
                <a:solidFill>
                  <a:srgbClr val="000000"/>
                </a:solidFill>
                <a:latin typeface="等线"/>
              </a:rPr>
              <a:t>   duck</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5.march    much</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6.calm</a:t>
            </a:r>
            <a:r>
              <a:rPr b="0" lang="en-US" sz="2400" spc="-1" strike="noStrike">
                <a:solidFill>
                  <a:srgbClr val="000000"/>
                </a:solidFill>
                <a:latin typeface="等线"/>
              </a:rPr>
              <a:t>	</a:t>
            </a:r>
            <a:r>
              <a:rPr b="0" lang="en-US" sz="2400" spc="-1" strike="noStrike">
                <a:solidFill>
                  <a:srgbClr val="000000"/>
                </a:solidFill>
                <a:latin typeface="等线"/>
              </a:rPr>
              <a:t>   come</a:t>
            </a:r>
            <a:endParaRPr b="0" lang="en-US" sz="2400" spc="-1" strike="noStrike">
              <a:solidFill>
                <a:srgbClr val="000000"/>
              </a:solidFill>
              <a:latin typeface="等线"/>
            </a:endParaRPr>
          </a:p>
        </p:txBody>
      </p:sp>
      <p:sp>
        <p:nvSpPr>
          <p:cNvPr id="299" name="矩形 25"/>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300" name="组合 26" descr=""/>
          <p:cNvPicPr/>
          <p:nvPr/>
        </p:nvPicPr>
        <p:blipFill>
          <a:blip r:embed="rId1"/>
          <a:stretch/>
        </p:blipFill>
        <p:spPr>
          <a:xfrm>
            <a:off x="237960" y="206280"/>
            <a:ext cx="578160" cy="576360"/>
          </a:xfrm>
          <a:prstGeom prst="rect">
            <a:avLst/>
          </a:prstGeom>
          <a:ln w="0">
            <a:noFill/>
          </a:ln>
        </p:spPr>
      </p:pic>
      <p:sp>
        <p:nvSpPr>
          <p:cNvPr id="301" name="文本框 1"/>
          <p:cNvSpPr/>
          <p:nvPr/>
        </p:nvSpPr>
        <p:spPr>
          <a:xfrm>
            <a:off x="1136520" y="293760"/>
            <a:ext cx="96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Games &amp; Activities- Sound discrimination</a:t>
            </a:r>
            <a:endParaRPr b="0" lang="en-US" sz="3200" spc="-1" strike="noStrike">
              <a:solidFill>
                <a:srgbClr val="000000"/>
              </a:solidFill>
              <a:latin typeface="等线"/>
            </a:endParaRPr>
          </a:p>
        </p:txBody>
      </p:sp>
    </p:spTree>
  </p:cSld>
  <p:transition>
    <p:push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689040" y="1612800"/>
            <a:ext cx="4803840" cy="4840560"/>
          </a:xfrm>
          <a:prstGeom prst="rect">
            <a:avLst/>
          </a:prstGeom>
          <a:noFill/>
          <a:ln w="0">
            <a:noFill/>
          </a:ln>
        </p:spPr>
        <p:txBody>
          <a:bodyPr anchor="t">
            <a:normAutofit/>
          </a:bodyPr>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fool</a:t>
            </a:r>
            <a:r>
              <a:rPr b="0" lang="en-US" sz="2400" spc="-1" strike="noStrike">
                <a:solidFill>
                  <a:srgbClr val="000000"/>
                </a:solidFill>
                <a:latin typeface="等线"/>
              </a:rPr>
              <a:t>	</a:t>
            </a:r>
            <a:r>
              <a:rPr b="0" lang="en-US" sz="2400" spc="-1" strike="noStrike">
                <a:solidFill>
                  <a:srgbClr val="000000"/>
                </a:solidFill>
                <a:latin typeface="等线"/>
              </a:rPr>
              <a:t>     </a:t>
            </a:r>
            <a:r>
              <a:rPr b="0" lang="en-US" sz="2400" spc="-1" strike="noStrike">
                <a:solidFill>
                  <a:srgbClr val="ff0000"/>
                </a:solidFill>
                <a:latin typeface="等线"/>
              </a:rPr>
              <a:t>full</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2.</a:t>
            </a:r>
            <a:r>
              <a:rPr b="0" lang="en-US" sz="2400" spc="-1" strike="noStrike">
                <a:solidFill>
                  <a:srgbClr val="ff0000"/>
                </a:solidFill>
                <a:latin typeface="等线"/>
              </a:rPr>
              <a:t>cooed</a:t>
            </a:r>
            <a:r>
              <a:rPr b="0" lang="en-US" sz="2400" spc="-1" strike="noStrike">
                <a:solidFill>
                  <a:srgbClr val="000000"/>
                </a:solidFill>
                <a:latin typeface="等线"/>
              </a:rPr>
              <a:t>      could</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3.pool</a:t>
            </a:r>
            <a:r>
              <a:rPr b="0" lang="en-US" sz="2400" spc="-1" strike="noStrike">
                <a:solidFill>
                  <a:srgbClr val="000000"/>
                </a:solidFill>
                <a:latin typeface="等线"/>
              </a:rPr>
              <a:t>	</a:t>
            </a:r>
            <a:r>
              <a:rPr b="0" lang="en-US" sz="2400" spc="-1" strike="noStrike">
                <a:solidFill>
                  <a:srgbClr val="000000"/>
                </a:solidFill>
                <a:latin typeface="等线"/>
              </a:rPr>
              <a:t>     </a:t>
            </a:r>
            <a:r>
              <a:rPr b="0" lang="en-US" sz="2400" spc="-1" strike="noStrike">
                <a:solidFill>
                  <a:srgbClr val="ff0000"/>
                </a:solidFill>
                <a:latin typeface="等线"/>
              </a:rPr>
              <a:t>pull</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4.</a:t>
            </a:r>
            <a:r>
              <a:rPr b="0" lang="en-US" sz="2400" spc="-1" strike="noStrike">
                <a:solidFill>
                  <a:srgbClr val="ff0000"/>
                </a:solidFill>
                <a:latin typeface="等线"/>
              </a:rPr>
              <a:t>Luke</a:t>
            </a:r>
            <a:r>
              <a:rPr b="0" lang="en-US" sz="2400" spc="-1" strike="noStrike">
                <a:solidFill>
                  <a:srgbClr val="000000"/>
                </a:solidFill>
                <a:latin typeface="等线"/>
              </a:rPr>
              <a:t>	</a:t>
            </a:r>
            <a:r>
              <a:rPr b="0" lang="en-US" sz="2400" spc="-1" strike="noStrike">
                <a:solidFill>
                  <a:srgbClr val="000000"/>
                </a:solidFill>
                <a:latin typeface="等线"/>
              </a:rPr>
              <a:t>     look</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5.</a:t>
            </a:r>
            <a:r>
              <a:rPr b="0" lang="en-US" sz="2400" spc="-1" strike="noStrike">
                <a:solidFill>
                  <a:srgbClr val="ff0000"/>
                </a:solidFill>
                <a:latin typeface="等线"/>
              </a:rPr>
              <a:t>wooed</a:t>
            </a:r>
            <a:r>
              <a:rPr b="0" lang="en-US" sz="2400" spc="-1" strike="noStrike">
                <a:solidFill>
                  <a:srgbClr val="000000"/>
                </a:solidFill>
                <a:latin typeface="等线"/>
              </a:rPr>
              <a:t>	</a:t>
            </a:r>
            <a:r>
              <a:rPr b="0" lang="en-US" sz="2400" spc="-1" strike="noStrike">
                <a:solidFill>
                  <a:srgbClr val="000000"/>
                </a:solidFill>
                <a:latin typeface="等线"/>
              </a:rPr>
              <a:t>     would</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6.kooky</a:t>
            </a:r>
            <a:r>
              <a:rPr b="0" lang="en-US" sz="2400" spc="-1" strike="noStrike">
                <a:solidFill>
                  <a:srgbClr val="000000"/>
                </a:solidFill>
                <a:latin typeface="等线"/>
              </a:rPr>
              <a:t>	</a:t>
            </a:r>
            <a:r>
              <a:rPr b="0" lang="en-US" sz="2400" spc="-1" strike="noStrike">
                <a:solidFill>
                  <a:srgbClr val="000000"/>
                </a:solidFill>
                <a:latin typeface="等线"/>
              </a:rPr>
              <a:t>     </a:t>
            </a:r>
            <a:r>
              <a:rPr b="0" lang="en-US" sz="2400" spc="-1" strike="noStrike">
                <a:solidFill>
                  <a:srgbClr val="ff0000"/>
                </a:solidFill>
                <a:latin typeface="等线"/>
              </a:rPr>
              <a:t>cookie</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7.caught</a:t>
            </a:r>
            <a:r>
              <a:rPr b="0" lang="en-US" sz="2400" spc="-1" strike="noStrike">
                <a:solidFill>
                  <a:srgbClr val="000000"/>
                </a:solidFill>
                <a:latin typeface="等线"/>
              </a:rPr>
              <a:t>	</a:t>
            </a:r>
            <a:r>
              <a:rPr b="0" lang="en-US" sz="2400" spc="-1" strike="noStrike">
                <a:solidFill>
                  <a:srgbClr val="ff0000"/>
                </a:solidFill>
                <a:latin typeface="等线"/>
              </a:rPr>
              <a:t>     cot</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8.</a:t>
            </a:r>
            <a:r>
              <a:rPr b="0" lang="en-US" sz="2400" spc="-1" strike="noStrike">
                <a:solidFill>
                  <a:srgbClr val="ff0000"/>
                </a:solidFill>
                <a:latin typeface="等线"/>
              </a:rPr>
              <a:t>hawk</a:t>
            </a:r>
            <a:r>
              <a:rPr b="0" lang="en-US" sz="2400" spc="-1" strike="noStrike">
                <a:solidFill>
                  <a:srgbClr val="000000"/>
                </a:solidFill>
                <a:latin typeface="等线"/>
              </a:rPr>
              <a:t>	</a:t>
            </a:r>
            <a:r>
              <a:rPr b="0" lang="en-US" sz="2400" spc="-1" strike="noStrike">
                <a:solidFill>
                  <a:srgbClr val="000000"/>
                </a:solidFill>
                <a:latin typeface="等线"/>
              </a:rPr>
              <a:t>     hock</a:t>
            </a:r>
            <a:endParaRPr b="0" lang="en-US" sz="2400" spc="-1" strike="noStrike">
              <a:solidFill>
                <a:srgbClr val="000000"/>
              </a:solidFill>
              <a:latin typeface="等线"/>
            </a:endParaRPr>
          </a:p>
        </p:txBody>
      </p:sp>
      <p:sp>
        <p:nvSpPr>
          <p:cNvPr id="303" name=""/>
          <p:cNvSpPr txBox="1"/>
          <p:nvPr/>
        </p:nvSpPr>
        <p:spPr>
          <a:xfrm>
            <a:off x="6683040" y="1612800"/>
            <a:ext cx="5295960" cy="4840560"/>
          </a:xfrm>
          <a:prstGeom prst="rect">
            <a:avLst/>
          </a:prstGeom>
          <a:noFill/>
          <a:ln w="0">
            <a:noFill/>
          </a:ln>
        </p:spPr>
        <p:txBody>
          <a:bodyPr anchor="t">
            <a:normAutofit/>
          </a:bodyPr>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9.</a:t>
            </a:r>
            <a:r>
              <a:rPr b="0" lang="en-US" sz="2400" spc="-1" strike="noStrike">
                <a:solidFill>
                  <a:srgbClr val="ff0000"/>
                </a:solidFill>
                <a:latin typeface="等线"/>
              </a:rPr>
              <a:t>heart</a:t>
            </a:r>
            <a:r>
              <a:rPr b="0" lang="en-US" sz="2400" spc="-1" strike="noStrike">
                <a:solidFill>
                  <a:srgbClr val="000000"/>
                </a:solidFill>
                <a:latin typeface="等线"/>
              </a:rPr>
              <a:t>	</a:t>
            </a:r>
            <a:r>
              <a:rPr b="0" lang="en-US" sz="2400" spc="-1" strike="noStrike">
                <a:solidFill>
                  <a:srgbClr val="000000"/>
                </a:solidFill>
                <a:latin typeface="等线"/>
              </a:rPr>
              <a:t>   hot</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0.guard    </a:t>
            </a:r>
            <a:r>
              <a:rPr b="0" lang="en-US" sz="2400" spc="-1" strike="noStrike">
                <a:solidFill>
                  <a:srgbClr val="ff0000"/>
                </a:solidFill>
                <a:latin typeface="等线"/>
              </a:rPr>
              <a:t>god</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1.</a:t>
            </a:r>
            <a:r>
              <a:rPr b="0" lang="en-US" sz="2400" spc="-1" strike="noStrike">
                <a:solidFill>
                  <a:srgbClr val="ff0000"/>
                </a:solidFill>
                <a:latin typeface="等线"/>
              </a:rPr>
              <a:t>carp</a:t>
            </a:r>
            <a:r>
              <a:rPr b="0" lang="en-US" sz="2400" spc="-1" strike="noStrike">
                <a:solidFill>
                  <a:srgbClr val="000000"/>
                </a:solidFill>
                <a:latin typeface="等线"/>
              </a:rPr>
              <a:t>	</a:t>
            </a:r>
            <a:r>
              <a:rPr b="0" lang="en-US" sz="2400" spc="-1" strike="noStrike">
                <a:solidFill>
                  <a:srgbClr val="000000"/>
                </a:solidFill>
                <a:latin typeface="等线"/>
              </a:rPr>
              <a:t>   cop</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2.</a:t>
            </a:r>
            <a:r>
              <a:rPr b="0" lang="en-US" sz="2400" spc="-1" strike="noStrike">
                <a:solidFill>
                  <a:srgbClr val="ff0000"/>
                </a:solidFill>
                <a:latin typeface="等线"/>
              </a:rPr>
              <a:t>lark</a:t>
            </a:r>
            <a:r>
              <a:rPr b="0" lang="en-US" sz="2400" spc="-1" strike="noStrike">
                <a:solidFill>
                  <a:srgbClr val="000000"/>
                </a:solidFill>
                <a:latin typeface="等线"/>
              </a:rPr>
              <a:t>	</a:t>
            </a:r>
            <a:r>
              <a:rPr b="0" lang="en-US" sz="2400" spc="-1" strike="noStrike">
                <a:solidFill>
                  <a:srgbClr val="000000"/>
                </a:solidFill>
                <a:latin typeface="等线"/>
              </a:rPr>
              <a:t>   lock</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3.barn</a:t>
            </a:r>
            <a:r>
              <a:rPr b="0" lang="en-US" sz="2400" spc="-1" strike="noStrike">
                <a:solidFill>
                  <a:srgbClr val="000000"/>
                </a:solidFill>
                <a:latin typeface="等线"/>
              </a:rPr>
              <a:t>	</a:t>
            </a:r>
            <a:r>
              <a:rPr b="0" lang="en-US" sz="2400" spc="-1" strike="noStrike">
                <a:solidFill>
                  <a:srgbClr val="000000"/>
                </a:solidFill>
                <a:latin typeface="等线"/>
              </a:rPr>
              <a:t>   </a:t>
            </a:r>
            <a:r>
              <a:rPr b="0" lang="en-US" sz="2400" spc="-1" strike="noStrike">
                <a:solidFill>
                  <a:srgbClr val="ff0000"/>
                </a:solidFill>
                <a:latin typeface="等线"/>
              </a:rPr>
              <a:t>bun</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4.</a:t>
            </a:r>
            <a:r>
              <a:rPr b="0" lang="en-US" sz="2400" spc="-1" strike="noStrike">
                <a:solidFill>
                  <a:srgbClr val="ff0000"/>
                </a:solidFill>
                <a:latin typeface="等线"/>
              </a:rPr>
              <a:t>dark</a:t>
            </a:r>
            <a:r>
              <a:rPr b="0" lang="en-US" sz="2400" spc="-1" strike="noStrike">
                <a:solidFill>
                  <a:srgbClr val="000000"/>
                </a:solidFill>
                <a:latin typeface="等线"/>
              </a:rPr>
              <a:t>	</a:t>
            </a:r>
            <a:r>
              <a:rPr b="0" lang="en-US" sz="2400" spc="-1" strike="noStrike">
                <a:solidFill>
                  <a:srgbClr val="000000"/>
                </a:solidFill>
                <a:latin typeface="等线"/>
              </a:rPr>
              <a:t>   duck</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5.march    </a:t>
            </a:r>
            <a:r>
              <a:rPr b="0" lang="en-US" sz="2400" spc="-1" strike="noStrike">
                <a:solidFill>
                  <a:srgbClr val="ff0000"/>
                </a:solidFill>
                <a:latin typeface="等线"/>
              </a:rPr>
              <a:t>much</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6.</a:t>
            </a:r>
            <a:r>
              <a:rPr b="0" lang="en-US" sz="2400" spc="-1" strike="noStrike">
                <a:solidFill>
                  <a:srgbClr val="ff0000"/>
                </a:solidFill>
                <a:latin typeface="等线"/>
              </a:rPr>
              <a:t>calm</a:t>
            </a:r>
            <a:r>
              <a:rPr b="0" lang="en-US" sz="2400" spc="-1" strike="noStrike">
                <a:solidFill>
                  <a:srgbClr val="000000"/>
                </a:solidFill>
                <a:latin typeface="等线"/>
              </a:rPr>
              <a:t>	</a:t>
            </a:r>
            <a:r>
              <a:rPr b="0" lang="en-US" sz="2400" spc="-1" strike="noStrike">
                <a:solidFill>
                  <a:srgbClr val="000000"/>
                </a:solidFill>
                <a:latin typeface="等线"/>
              </a:rPr>
              <a:t>   come</a:t>
            </a:r>
            <a:endParaRPr b="0" lang="en-US" sz="2400" spc="-1" strike="noStrike">
              <a:solidFill>
                <a:srgbClr val="000000"/>
              </a:solidFill>
              <a:latin typeface="等线"/>
            </a:endParaRPr>
          </a:p>
        </p:txBody>
      </p:sp>
      <p:sp>
        <p:nvSpPr>
          <p:cNvPr id="304" name="矩形 25"/>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305" name="组合 26" descr=""/>
          <p:cNvPicPr/>
          <p:nvPr/>
        </p:nvPicPr>
        <p:blipFill>
          <a:blip r:embed="rId1"/>
          <a:stretch/>
        </p:blipFill>
        <p:spPr>
          <a:xfrm>
            <a:off x="237960" y="206280"/>
            <a:ext cx="578160" cy="576360"/>
          </a:xfrm>
          <a:prstGeom prst="rect">
            <a:avLst/>
          </a:prstGeom>
          <a:ln w="0">
            <a:noFill/>
          </a:ln>
        </p:spPr>
      </p:pic>
      <p:sp>
        <p:nvSpPr>
          <p:cNvPr id="306" name="文本框 1"/>
          <p:cNvSpPr/>
          <p:nvPr/>
        </p:nvSpPr>
        <p:spPr>
          <a:xfrm>
            <a:off x="1136520" y="293760"/>
            <a:ext cx="96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Games &amp; Activities- Sound discrimination</a:t>
            </a:r>
            <a:endParaRPr b="0" lang="en-US" sz="3200" spc="-1" strike="noStrike">
              <a:solidFill>
                <a:srgbClr val="000000"/>
              </a:solidFill>
              <a:latin typeface="等线"/>
            </a:endParaRPr>
          </a:p>
        </p:txBody>
      </p:sp>
    </p:spTree>
  </p:cSld>
  <p:transition>
    <p:push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矩形 2"/>
          <p:cNvSpPr/>
          <p:nvPr/>
        </p:nvSpPr>
        <p:spPr>
          <a:xfrm>
            <a:off x="1417680" y="2865600"/>
            <a:ext cx="1466640" cy="1584000"/>
          </a:xfrm>
          <a:prstGeom prst="rect">
            <a:avLst/>
          </a:prstGeom>
          <a:solidFill>
            <a:srgbClr val="4c7e51"/>
          </a:solidFill>
          <a:ln w="12600">
            <a:solidFill>
              <a:srgbClr val="4c7e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08" name="矩形 17"/>
          <p:cNvSpPr/>
          <p:nvPr/>
        </p:nvSpPr>
        <p:spPr>
          <a:xfrm>
            <a:off x="2884320" y="2865600"/>
            <a:ext cx="3324240" cy="1584000"/>
          </a:xfrm>
          <a:prstGeom prst="rect">
            <a:avLst/>
          </a:prstGeom>
          <a:solidFill>
            <a:srgbClr val="8eb453"/>
          </a:solidFill>
          <a:ln w="12600">
            <a:solidFill>
              <a:srgbClr val="8eb45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09" name="AutoShape 29"/>
          <p:cNvSpPr/>
          <p:nvPr/>
        </p:nvSpPr>
        <p:spPr>
          <a:xfrm>
            <a:off x="1847880" y="3352680"/>
            <a:ext cx="608040" cy="609840"/>
          </a:xfrm>
          <a:custGeom>
            <a:avLst/>
            <a:gdLst/>
            <a:ahLst/>
            <a:rect l="l" t="t" r="r" b="b"/>
            <a:pathLst>
              <a:path w="21599" h="21599">
                <a:moveTo>
                  <a:pt x="3598" y="2167"/>
                </a:moveTo>
                <a:cubicBezTo>
                  <a:pt x="3598" y="2549"/>
                  <a:pt x="3517" y="2902"/>
                  <a:pt x="3358" y="3213"/>
                </a:cubicBezTo>
                <a:cubicBezTo>
                  <a:pt x="3197" y="3525"/>
                  <a:pt x="2981" y="3792"/>
                  <a:pt x="2707" y="4006"/>
                </a:cubicBezTo>
                <a:lnTo>
                  <a:pt x="2707" y="21050"/>
                </a:lnTo>
                <a:cubicBezTo>
                  <a:pt x="2707" y="21203"/>
                  <a:pt x="2663" y="21329"/>
                  <a:pt x="2580" y="21438"/>
                </a:cubicBezTo>
                <a:cubicBezTo>
                  <a:pt x="2492" y="21547"/>
                  <a:pt x="2386" y="21599"/>
                  <a:pt x="2262" y="21599"/>
                </a:cubicBezTo>
                <a:lnTo>
                  <a:pt x="1348" y="21599"/>
                </a:lnTo>
                <a:cubicBezTo>
                  <a:pt x="1221" y="21599"/>
                  <a:pt x="1118" y="21544"/>
                  <a:pt x="1038" y="21438"/>
                </a:cubicBezTo>
                <a:cubicBezTo>
                  <a:pt x="954" y="21329"/>
                  <a:pt x="913" y="21203"/>
                  <a:pt x="913" y="21050"/>
                </a:cubicBezTo>
                <a:lnTo>
                  <a:pt x="913" y="4006"/>
                </a:lnTo>
                <a:cubicBezTo>
                  <a:pt x="641" y="3792"/>
                  <a:pt x="421" y="3525"/>
                  <a:pt x="252" y="3213"/>
                </a:cubicBezTo>
                <a:cubicBezTo>
                  <a:pt x="83" y="2902"/>
                  <a:pt x="0" y="2549"/>
                  <a:pt x="0" y="2167"/>
                </a:cubicBezTo>
                <a:cubicBezTo>
                  <a:pt x="0" y="1574"/>
                  <a:pt x="176" y="1069"/>
                  <a:pt x="528" y="640"/>
                </a:cubicBezTo>
                <a:cubicBezTo>
                  <a:pt x="878" y="211"/>
                  <a:pt x="1304" y="0"/>
                  <a:pt x="1804" y="0"/>
                </a:cubicBezTo>
                <a:cubicBezTo>
                  <a:pt x="2296" y="0"/>
                  <a:pt x="2719" y="211"/>
                  <a:pt x="3069" y="640"/>
                </a:cubicBezTo>
                <a:cubicBezTo>
                  <a:pt x="3422" y="1069"/>
                  <a:pt x="3598" y="1571"/>
                  <a:pt x="3598" y="2167"/>
                </a:cubicBezTo>
                <a:moveTo>
                  <a:pt x="20838" y="2476"/>
                </a:moveTo>
                <a:cubicBezTo>
                  <a:pt x="21063" y="2323"/>
                  <a:pt x="21247" y="2297"/>
                  <a:pt x="21389" y="2391"/>
                </a:cubicBezTo>
                <a:cubicBezTo>
                  <a:pt x="21529" y="2485"/>
                  <a:pt x="21599" y="2684"/>
                  <a:pt x="21599" y="2996"/>
                </a:cubicBezTo>
                <a:lnTo>
                  <a:pt x="21599" y="13515"/>
                </a:lnTo>
                <a:cubicBezTo>
                  <a:pt x="21599" y="13803"/>
                  <a:pt x="21526" y="14106"/>
                  <a:pt x="21382" y="14420"/>
                </a:cubicBezTo>
                <a:cubicBezTo>
                  <a:pt x="21237" y="14737"/>
                  <a:pt x="21056" y="14966"/>
                  <a:pt x="20838" y="15119"/>
                </a:cubicBezTo>
                <a:cubicBezTo>
                  <a:pt x="19954" y="15757"/>
                  <a:pt x="19146" y="16165"/>
                  <a:pt x="18412" y="16350"/>
                </a:cubicBezTo>
                <a:cubicBezTo>
                  <a:pt x="17678" y="16529"/>
                  <a:pt x="17036" y="16606"/>
                  <a:pt x="16490" y="16567"/>
                </a:cubicBezTo>
                <a:cubicBezTo>
                  <a:pt x="15849" y="16526"/>
                  <a:pt x="15281" y="16371"/>
                  <a:pt x="14791" y="16103"/>
                </a:cubicBezTo>
                <a:cubicBezTo>
                  <a:pt x="14392" y="15851"/>
                  <a:pt x="14003" y="15607"/>
                  <a:pt x="13623" y="15378"/>
                </a:cubicBezTo>
                <a:cubicBezTo>
                  <a:pt x="13244" y="15146"/>
                  <a:pt x="12857" y="14946"/>
                  <a:pt x="12458" y="14773"/>
                </a:cubicBezTo>
                <a:cubicBezTo>
                  <a:pt x="12059" y="14599"/>
                  <a:pt x="11640" y="14461"/>
                  <a:pt x="11197" y="14358"/>
                </a:cubicBezTo>
                <a:cubicBezTo>
                  <a:pt x="10757" y="14256"/>
                  <a:pt x="10269" y="14203"/>
                  <a:pt x="9738" y="14203"/>
                </a:cubicBezTo>
                <a:cubicBezTo>
                  <a:pt x="9310" y="14220"/>
                  <a:pt x="8825" y="14306"/>
                  <a:pt x="8286" y="14455"/>
                </a:cubicBezTo>
                <a:cubicBezTo>
                  <a:pt x="7824" y="14588"/>
                  <a:pt x="7266" y="14799"/>
                  <a:pt x="6605" y="15090"/>
                </a:cubicBezTo>
                <a:cubicBezTo>
                  <a:pt x="5944" y="15381"/>
                  <a:pt x="5207" y="15792"/>
                  <a:pt x="4394" y="16327"/>
                </a:cubicBezTo>
                <a:cubicBezTo>
                  <a:pt x="4169" y="16476"/>
                  <a:pt x="3978" y="16494"/>
                  <a:pt x="3826" y="16382"/>
                </a:cubicBezTo>
                <a:cubicBezTo>
                  <a:pt x="3674" y="16268"/>
                  <a:pt x="3598" y="16059"/>
                  <a:pt x="3598" y="15751"/>
                </a:cubicBezTo>
                <a:lnTo>
                  <a:pt x="3598" y="5273"/>
                </a:lnTo>
                <a:cubicBezTo>
                  <a:pt x="3598" y="4964"/>
                  <a:pt x="3674" y="4653"/>
                  <a:pt x="3826" y="4347"/>
                </a:cubicBezTo>
                <a:cubicBezTo>
                  <a:pt x="3978" y="4036"/>
                  <a:pt x="4169" y="3807"/>
                  <a:pt x="4394" y="3654"/>
                </a:cubicBezTo>
                <a:cubicBezTo>
                  <a:pt x="5207" y="3143"/>
                  <a:pt x="5941" y="2737"/>
                  <a:pt x="6597" y="2447"/>
                </a:cubicBezTo>
                <a:cubicBezTo>
                  <a:pt x="7253" y="2156"/>
                  <a:pt x="7816" y="1944"/>
                  <a:pt x="8286" y="1812"/>
                </a:cubicBezTo>
                <a:cubicBezTo>
                  <a:pt x="8832" y="1665"/>
                  <a:pt x="9317" y="1580"/>
                  <a:pt x="9738" y="1559"/>
                </a:cubicBezTo>
                <a:cubicBezTo>
                  <a:pt x="10269" y="1559"/>
                  <a:pt x="10757" y="1612"/>
                  <a:pt x="11197" y="1715"/>
                </a:cubicBezTo>
                <a:cubicBezTo>
                  <a:pt x="11640" y="1818"/>
                  <a:pt x="12059" y="1956"/>
                  <a:pt x="12458" y="2135"/>
                </a:cubicBezTo>
                <a:cubicBezTo>
                  <a:pt x="12857" y="2306"/>
                  <a:pt x="13242" y="2508"/>
                  <a:pt x="13619" y="2737"/>
                </a:cubicBezTo>
                <a:cubicBezTo>
                  <a:pt x="13993" y="2967"/>
                  <a:pt x="14385" y="3207"/>
                  <a:pt x="14791" y="3463"/>
                </a:cubicBezTo>
                <a:cubicBezTo>
                  <a:pt x="15281" y="3736"/>
                  <a:pt x="15849" y="3889"/>
                  <a:pt x="16490" y="3924"/>
                </a:cubicBezTo>
                <a:cubicBezTo>
                  <a:pt x="17036" y="3965"/>
                  <a:pt x="17678" y="3889"/>
                  <a:pt x="18412" y="3707"/>
                </a:cubicBezTo>
                <a:cubicBezTo>
                  <a:pt x="19146" y="3522"/>
                  <a:pt x="19957" y="3113"/>
                  <a:pt x="20838" y="2476"/>
                </a:cubicBezTo>
              </a:path>
            </a:pathLst>
          </a:custGeom>
          <a:solidFill>
            <a:srgbClr val="ffffff"/>
          </a:solidFill>
          <a:ln w="0">
            <a:noFill/>
          </a:ln>
        </p:spPr>
        <p:style>
          <a:lnRef idx="0"/>
          <a:fillRef idx="0"/>
          <a:effectRef idx="0"/>
          <a:fontRef idx="minor"/>
        </p:style>
        <p:txBody>
          <a:bodyPr lIns="101520" rIns="101520" tIns="101520" bIns="10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10" name="文本框 22"/>
          <p:cNvSpPr/>
          <p:nvPr/>
        </p:nvSpPr>
        <p:spPr>
          <a:xfrm>
            <a:off x="3696480" y="3086280"/>
            <a:ext cx="20095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5f5f5"/>
                </a:solidFill>
                <a:latin typeface="微软雅黑"/>
                <a:ea typeface="微软雅黑"/>
              </a:rPr>
              <a:t>1.</a:t>
            </a:r>
            <a:r>
              <a:rPr b="0" lang="zh-CN" sz="2000" spc="-1" strike="noStrike">
                <a:solidFill>
                  <a:srgbClr val="f5f5f5"/>
                </a:solidFill>
                <a:latin typeface="微软雅黑"/>
                <a:ea typeface="微软雅黑"/>
              </a:rPr>
              <a:t>完成英语趣配音：</a:t>
            </a:r>
            <a:endParaRPr b="0" lang="en-US" sz="20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5f5f5"/>
                </a:solidFill>
                <a:latin typeface="微软雅黑"/>
                <a:ea typeface="微软雅黑"/>
              </a:rPr>
              <a:t>《一朵浪花就是一片海洋》</a:t>
            </a:r>
            <a:endParaRPr b="0" lang="en-US" sz="20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5f5f5"/>
                </a:solidFill>
                <a:latin typeface="微软雅黑"/>
                <a:ea typeface="微软雅黑"/>
              </a:rPr>
              <a:t>2. </a:t>
            </a:r>
            <a:r>
              <a:rPr b="0" lang="zh-CN" sz="2000" spc="-1" strike="noStrike">
                <a:solidFill>
                  <a:srgbClr val="f5f5f5"/>
                </a:solidFill>
                <a:latin typeface="微软雅黑"/>
                <a:ea typeface="微软雅黑"/>
              </a:rPr>
              <a:t>完成练习手册后元音</a:t>
            </a:r>
            <a:endParaRPr b="0" lang="en-US" sz="20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5f5f5"/>
                </a:solidFill>
                <a:latin typeface="微软雅黑"/>
                <a:ea typeface="微软雅黑"/>
              </a:rPr>
              <a:t>章节的练习</a:t>
            </a:r>
            <a:endParaRPr b="0" lang="en-US" sz="20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p:txBody>
      </p:sp>
      <p:sp>
        <p:nvSpPr>
          <p:cNvPr id="311" name="文本框 31"/>
          <p:cNvSpPr/>
          <p:nvPr/>
        </p:nvSpPr>
        <p:spPr>
          <a:xfrm>
            <a:off x="7515360" y="5607000"/>
            <a:ext cx="314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5f5f5"/>
                </a:solidFill>
                <a:latin typeface="微软雅黑"/>
                <a:ea typeface="微软雅黑"/>
              </a:rPr>
              <a:t>朵浪花就是一片海洋》</a:t>
            </a:r>
            <a:endParaRPr b="0" lang="en-US" sz="1600" spc="-1" strike="noStrike">
              <a:solidFill>
                <a:srgbClr val="000000"/>
              </a:solidFill>
              <a:latin typeface="等线"/>
            </a:endParaRPr>
          </a:p>
        </p:txBody>
      </p:sp>
      <p:sp>
        <p:nvSpPr>
          <p:cNvPr id="312" name="矩形 30"/>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313" name="组合 47" descr=""/>
          <p:cNvPicPr/>
          <p:nvPr/>
        </p:nvPicPr>
        <p:blipFill>
          <a:blip r:embed="rId1"/>
          <a:stretch/>
        </p:blipFill>
        <p:spPr>
          <a:xfrm>
            <a:off x="237960" y="206280"/>
            <a:ext cx="578160" cy="576360"/>
          </a:xfrm>
          <a:prstGeom prst="rect">
            <a:avLst/>
          </a:prstGeom>
          <a:ln w="0">
            <a:noFill/>
          </a:ln>
        </p:spPr>
      </p:pic>
      <p:sp>
        <p:nvSpPr>
          <p:cNvPr id="314" name="文本框 25"/>
          <p:cNvSpPr/>
          <p:nvPr/>
        </p:nvSpPr>
        <p:spPr>
          <a:xfrm>
            <a:off x="918000" y="212760"/>
            <a:ext cx="4926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After-class assignment </a:t>
            </a:r>
            <a:endParaRPr b="0" lang="en-US" sz="3200" spc="-1" strike="noStrike">
              <a:solidFill>
                <a:srgbClr val="000000"/>
              </a:solidFill>
              <a:latin typeface="等线"/>
            </a:endParaRPr>
          </a:p>
        </p:txBody>
      </p:sp>
      <p:pic>
        <p:nvPicPr>
          <p:cNvPr id="315" name="图片 1" descr="MSMI([(SCI(LIN8VTA5K`9K"/>
          <p:cNvPicPr/>
          <p:nvPr/>
        </p:nvPicPr>
        <p:blipFill>
          <a:blip r:embed="rId2"/>
          <a:stretch/>
        </p:blipFill>
        <p:spPr>
          <a:xfrm>
            <a:off x="6918480" y="2139840"/>
            <a:ext cx="3933720" cy="3467160"/>
          </a:xfrm>
          <a:prstGeom prst="rect">
            <a:avLst/>
          </a:prstGeom>
          <a:ln w="0">
            <a:noFill/>
          </a:ln>
        </p:spPr>
      </p:pic>
      <p:pic>
        <p:nvPicPr>
          <p:cNvPr id="316" name="图片 4" descr="KB)F]5WSMX9DP4)4W$}$49G"/>
          <p:cNvPicPr/>
          <p:nvPr/>
        </p:nvPicPr>
        <p:blipFill>
          <a:blip r:embed="rId3"/>
          <a:stretch/>
        </p:blipFill>
        <p:spPr>
          <a:xfrm>
            <a:off x="8705880" y="4724280"/>
            <a:ext cx="1952640" cy="559080"/>
          </a:xfrm>
          <a:prstGeom prst="rect">
            <a:avLst/>
          </a:prstGeom>
          <a:ln w="0">
            <a:noFill/>
          </a:ln>
        </p:spPr>
      </p:pic>
    </p:spTree>
  </p:cSld>
  <p:transition>
    <p:push dir="u"/>
  </p:transition>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dur="indefinite" nodeType="clickEffect" fill="hold" presetClass="entr" presetID="2" presetSubtype="4">
                                  <p:stCondLst>
                                    <p:cond delay="0"/>
                                  </p:stCondLst>
                                  <p:childTnLst>
                                    <p:set>
                                      <p:cBhvr>
                                        <p:cTn id="702" dur="1" fill="hold">
                                          <p:stCondLst>
                                            <p:cond delay="0"/>
                                          </p:stCondLst>
                                        </p:cTn>
                                        <p:tgtEl>
                                          <p:spTgt spid="307"/>
                                        </p:tgtEl>
                                        <p:attrNameLst>
                                          <p:attrName>style.visibility</p:attrName>
                                        </p:attrNameLst>
                                      </p:cBhvr>
                                      <p:to>
                                        <p:strVal val="visible"/>
                                      </p:to>
                                    </p:set>
                                    <p:anim calcmode="lin" valueType="num">
                                      <p:cBhvr additive="repl">
                                        <p:cTn id="703" dur="500" fill="hold"/>
                                        <p:tgtEl>
                                          <p:spTgt spid="307"/>
                                        </p:tgtEl>
                                        <p:attrNameLst>
                                          <p:attrName>ppt_x</p:attrName>
                                        </p:attrNameLst>
                                      </p:cBhvr>
                                      <p:tavLst>
                                        <p:tav tm="0">
                                          <p:val>
                                            <p:strVal val="#ppt_x"/>
                                          </p:val>
                                        </p:tav>
                                        <p:tav tm="100000">
                                          <p:val>
                                            <p:strVal val="#ppt_x"/>
                                          </p:val>
                                        </p:tav>
                                      </p:tavLst>
                                    </p:anim>
                                    <p:anim calcmode="lin" valueType="num">
                                      <p:cBhvr additive="repl">
                                        <p:cTn id="704"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dur="indefinite" nodeType="clickEffect" fill="hold" presetClass="entr" presetID="2" presetSubtype="4">
                                  <p:stCondLst>
                                    <p:cond delay="0"/>
                                  </p:stCondLst>
                                  <p:childTnLst>
                                    <p:set>
                                      <p:cBhvr>
                                        <p:cTn id="708" dur="1" fill="hold">
                                          <p:stCondLst>
                                            <p:cond delay="0"/>
                                          </p:stCondLst>
                                        </p:cTn>
                                        <p:tgtEl>
                                          <p:spTgt spid="308"/>
                                        </p:tgtEl>
                                        <p:attrNameLst>
                                          <p:attrName>style.visibility</p:attrName>
                                        </p:attrNameLst>
                                      </p:cBhvr>
                                      <p:to>
                                        <p:strVal val="visible"/>
                                      </p:to>
                                    </p:set>
                                    <p:anim calcmode="lin" valueType="num">
                                      <p:cBhvr additive="repl">
                                        <p:cTn id="709" dur="500" fill="hold"/>
                                        <p:tgtEl>
                                          <p:spTgt spid="308"/>
                                        </p:tgtEl>
                                        <p:attrNameLst>
                                          <p:attrName>ppt_x</p:attrName>
                                        </p:attrNameLst>
                                      </p:cBhvr>
                                      <p:tavLst>
                                        <p:tav tm="0">
                                          <p:val>
                                            <p:strVal val="#ppt_x"/>
                                          </p:val>
                                        </p:tav>
                                        <p:tav tm="100000">
                                          <p:val>
                                            <p:strVal val="#ppt_x"/>
                                          </p:val>
                                        </p:tav>
                                      </p:tavLst>
                                    </p:anim>
                                    <p:anim calcmode="lin" valueType="num">
                                      <p:cBhvr additive="repl">
                                        <p:cTn id="710"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2" presetSubtype="4">
                                  <p:stCondLst>
                                    <p:cond delay="0"/>
                                  </p:stCondLst>
                                  <p:childTnLst>
                                    <p:set>
                                      <p:cBhvr>
                                        <p:cTn id="714" dur="1" fill="hold">
                                          <p:stCondLst>
                                            <p:cond delay="0"/>
                                          </p:stCondLst>
                                        </p:cTn>
                                        <p:tgtEl>
                                          <p:spTgt spid="315"/>
                                        </p:tgtEl>
                                        <p:attrNameLst>
                                          <p:attrName>style.visibility</p:attrName>
                                        </p:attrNameLst>
                                      </p:cBhvr>
                                      <p:to>
                                        <p:strVal val="visible"/>
                                      </p:to>
                                    </p:set>
                                    <p:anim calcmode="lin" valueType="num">
                                      <p:cBhvr additive="repl">
                                        <p:cTn id="715" dur="500" fill="hold"/>
                                        <p:tgtEl>
                                          <p:spTgt spid="315"/>
                                        </p:tgtEl>
                                        <p:attrNameLst>
                                          <p:attrName>ppt_x</p:attrName>
                                        </p:attrNameLst>
                                      </p:cBhvr>
                                      <p:tavLst>
                                        <p:tav tm="0">
                                          <p:val>
                                            <p:strVal val="#ppt_x"/>
                                          </p:val>
                                        </p:tav>
                                        <p:tav tm="100000">
                                          <p:val>
                                            <p:strVal val="#ppt_x"/>
                                          </p:val>
                                        </p:tav>
                                      </p:tavLst>
                                    </p:anim>
                                    <p:anim calcmode="lin" valueType="num">
                                      <p:cBhvr additive="repl">
                                        <p:cTn id="716" dur="500" fill="hold"/>
                                        <p:tgtEl>
                                          <p:spTgt spid="315"/>
                                        </p:tgtEl>
                                        <p:attrNameLst>
                                          <p:attrName>ppt_y</p:attrName>
                                        </p:attrNameLst>
                                      </p:cBhvr>
                                      <p:tavLst>
                                        <p:tav tm="0">
                                          <p:val>
                                            <p:strVal val="1+#ppt_h/2"/>
                                          </p:val>
                                        </p:tav>
                                        <p:tav tm="100000">
                                          <p:val>
                                            <p:strVal val="#ppt_y"/>
                                          </p:val>
                                        </p:tav>
                                      </p:tavLst>
                                    </p:anim>
                                  </p:childTnLst>
                                </p:cTn>
                              </p:par>
                              <p:par>
                                <p:cTn id="717" dur="indefinite" nodeType="withEffect" fill="hold" presetClass="entr" presetID="2" presetSubtype="4">
                                  <p:stCondLst>
                                    <p:cond delay="0"/>
                                  </p:stCondLst>
                                  <p:childTnLst>
                                    <p:set>
                                      <p:cBhvr>
                                        <p:cTn id="718" dur="1" fill="hold">
                                          <p:stCondLst>
                                            <p:cond delay="0"/>
                                          </p:stCondLst>
                                        </p:cTn>
                                        <p:tgtEl>
                                          <p:spTgt spid="316"/>
                                        </p:tgtEl>
                                        <p:attrNameLst>
                                          <p:attrName>style.visibility</p:attrName>
                                        </p:attrNameLst>
                                      </p:cBhvr>
                                      <p:to>
                                        <p:strVal val="visible"/>
                                      </p:to>
                                    </p:set>
                                    <p:anim calcmode="lin" valueType="num">
                                      <p:cBhvr additive="repl">
                                        <p:cTn id="719" dur="500" fill="hold"/>
                                        <p:tgtEl>
                                          <p:spTgt spid="316"/>
                                        </p:tgtEl>
                                        <p:attrNameLst>
                                          <p:attrName>ppt_x</p:attrName>
                                        </p:attrNameLst>
                                      </p:cBhvr>
                                      <p:tavLst>
                                        <p:tav tm="0">
                                          <p:val>
                                            <p:strVal val="#ppt_x"/>
                                          </p:val>
                                        </p:tav>
                                        <p:tav tm="100000">
                                          <p:val>
                                            <p:strVal val="#ppt_x"/>
                                          </p:val>
                                        </p:tav>
                                      </p:tavLst>
                                    </p:anim>
                                    <p:anim calcmode="lin" valueType="num">
                                      <p:cBhvr additive="repl">
                                        <p:cTn id="720"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矩形 17"/>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318" name="组合 18" descr=""/>
          <p:cNvPicPr/>
          <p:nvPr/>
        </p:nvPicPr>
        <p:blipFill>
          <a:blip r:embed="rId1"/>
          <a:stretch/>
        </p:blipFill>
        <p:spPr>
          <a:xfrm>
            <a:off x="237960" y="206280"/>
            <a:ext cx="578160" cy="576360"/>
          </a:xfrm>
          <a:prstGeom prst="rect">
            <a:avLst/>
          </a:prstGeom>
          <a:ln w="0">
            <a:noFill/>
          </a:ln>
        </p:spPr>
      </p:pic>
      <p:pic>
        <p:nvPicPr>
          <p:cNvPr id="319" name="矩形 1" descr=""/>
          <p:cNvPicPr/>
          <p:nvPr/>
        </p:nvPicPr>
        <p:blipFill>
          <a:blip r:embed="rId2"/>
          <a:stretch/>
        </p:blipFill>
        <p:spPr>
          <a:xfrm>
            <a:off x="1654200" y="2286000"/>
            <a:ext cx="9213840" cy="2341440"/>
          </a:xfrm>
          <a:prstGeom prst="rect">
            <a:avLst/>
          </a:prstGeom>
          <a:ln w="0">
            <a:noFill/>
          </a:ln>
        </p:spPr>
      </p:pic>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图片 9" descr=""/>
          <p:cNvPicPr/>
          <p:nvPr/>
        </p:nvPicPr>
        <p:blipFill>
          <a:blip r:embed="rId1"/>
          <a:srcRect l="0" t="0" r="42150" b="48020"/>
          <a:stretch/>
        </p:blipFill>
        <p:spPr>
          <a:xfrm>
            <a:off x="7345440" y="2511360"/>
            <a:ext cx="4846680" cy="4346640"/>
          </a:xfrm>
          <a:prstGeom prst="rect">
            <a:avLst/>
          </a:prstGeom>
          <a:ln w="0">
            <a:noFill/>
          </a:ln>
        </p:spPr>
      </p:pic>
      <p:sp>
        <p:nvSpPr>
          <p:cNvPr id="85" name="Rectangle 5"/>
          <p:cNvSpPr/>
          <p:nvPr/>
        </p:nvSpPr>
        <p:spPr>
          <a:xfrm>
            <a:off x="2473200" y="2049480"/>
            <a:ext cx="7245360" cy="2760480"/>
          </a:xfrm>
          <a:prstGeom prst="rect">
            <a:avLst/>
          </a:prstGeom>
          <a:noFill/>
          <a:ln w="38160">
            <a:solidFill>
              <a:srgbClr val="3d735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86" name="图片 16" descr=""/>
          <p:cNvPicPr/>
          <p:nvPr/>
        </p:nvPicPr>
        <p:blipFill>
          <a:blip r:embed="rId2"/>
          <a:srcRect l="17878" t="35014" r="0" b="43149"/>
          <a:stretch/>
        </p:blipFill>
        <p:spPr>
          <a:xfrm>
            <a:off x="0" y="0"/>
            <a:ext cx="5837400" cy="2166840"/>
          </a:xfrm>
          <a:prstGeom prst="rect">
            <a:avLst/>
          </a:prstGeom>
          <a:ln w="0">
            <a:noFill/>
          </a:ln>
        </p:spPr>
      </p:pic>
      <p:grpSp>
        <p:nvGrpSpPr>
          <p:cNvPr id="87" name="组合 29"/>
          <p:cNvGrpSpPr/>
          <p:nvPr/>
        </p:nvGrpSpPr>
        <p:grpSpPr>
          <a:xfrm>
            <a:off x="3621240" y="2793960"/>
            <a:ext cx="4949640" cy="1101240"/>
            <a:chOff x="3621240" y="2793960"/>
            <a:chExt cx="4949640" cy="1101240"/>
          </a:xfrm>
        </p:grpSpPr>
        <p:sp>
          <p:nvSpPr>
            <p:cNvPr id="88" name="文本框 13"/>
            <p:cNvSpPr/>
            <p:nvPr/>
          </p:nvSpPr>
          <p:spPr>
            <a:xfrm>
              <a:off x="4812840" y="2807280"/>
              <a:ext cx="3758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微软雅黑"/>
                  <a:ea typeface="微软雅黑"/>
                </a:rPr>
                <a:t>Warming-up</a:t>
              </a:r>
              <a:endParaRPr b="0" lang="en-US" sz="4000" spc="-1" strike="noStrike">
                <a:solidFill>
                  <a:srgbClr val="000000"/>
                </a:solidFill>
                <a:latin typeface="等线"/>
              </a:endParaRPr>
            </a:p>
          </p:txBody>
        </p:sp>
        <p:sp>
          <p:nvSpPr>
            <p:cNvPr id="89" name="文本框 35"/>
            <p:cNvSpPr/>
            <p:nvPr/>
          </p:nvSpPr>
          <p:spPr>
            <a:xfrm>
              <a:off x="3655080" y="3313800"/>
              <a:ext cx="127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8265"/>
                  </a:solidFill>
                  <a:latin typeface="Impact"/>
                  <a:ea typeface="微软雅黑 Light"/>
                </a:rPr>
                <a:t>PART</a:t>
              </a:r>
              <a:endParaRPr b="0" lang="en-US" sz="3200" spc="-1" strike="noStrike">
                <a:solidFill>
                  <a:srgbClr val="000000"/>
                </a:solidFill>
                <a:latin typeface="等线"/>
              </a:endParaRPr>
            </a:p>
          </p:txBody>
        </p:sp>
        <p:sp>
          <p:nvSpPr>
            <p:cNvPr id="90" name="文本框 36"/>
            <p:cNvSpPr/>
            <p:nvPr/>
          </p:nvSpPr>
          <p:spPr>
            <a:xfrm>
              <a:off x="3621240" y="2793960"/>
              <a:ext cx="1342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8265"/>
                  </a:solidFill>
                  <a:latin typeface="微软雅黑"/>
                  <a:ea typeface="微软雅黑"/>
                </a:rPr>
                <a:t>01</a:t>
              </a:r>
              <a:endParaRPr b="0" lang="en-US" sz="4000" spc="-1" strike="noStrike">
                <a:solidFill>
                  <a:srgbClr val="000000"/>
                </a:solidFill>
                <a:latin typeface="等线"/>
              </a:endParaRPr>
            </a:p>
          </p:txBody>
        </p:sp>
        <p:grpSp>
          <p:nvGrpSpPr>
            <p:cNvPr id="91" name="组合 37"/>
            <p:cNvGrpSpPr/>
            <p:nvPr/>
          </p:nvGrpSpPr>
          <p:grpSpPr>
            <a:xfrm>
              <a:off x="4271040" y="3145680"/>
              <a:ext cx="250200" cy="147240"/>
              <a:chOff x="4271040" y="3145680"/>
              <a:chExt cx="250200" cy="147240"/>
            </a:xfrm>
          </p:grpSpPr>
          <p:sp>
            <p:nvSpPr>
              <p:cNvPr id="92" name="L 形 38"/>
              <p:cNvSpPr/>
              <p:nvPr/>
            </p:nvSpPr>
            <p:spPr>
              <a:xfrm flipH="1" flipV="1" rot="2493600">
                <a:off x="4291920" y="3166560"/>
                <a:ext cx="104400" cy="104400"/>
              </a:xfrm>
              <a:custGeom>
                <a:avLst/>
                <a:gdLst/>
                <a:ahLst/>
                <a:rect l="l" t="t" r="r" b="b"/>
                <a:pathLst>
                  <a:path w="54394" h="54389">
                    <a:moveTo>
                      <a:pt x="0" y="0"/>
                    </a:moveTo>
                    <a:lnTo>
                      <a:pt x="9322" y="0"/>
                    </a:lnTo>
                    <a:lnTo>
                      <a:pt x="9322" y="46149"/>
                    </a:lnTo>
                    <a:lnTo>
                      <a:pt x="54394" y="46149"/>
                    </a:lnTo>
                    <a:lnTo>
                      <a:pt x="54394" y="54389"/>
                    </a:lnTo>
                    <a:lnTo>
                      <a:pt x="0" y="54389"/>
                    </a:lnTo>
                    <a:close/>
                  </a:path>
                </a:pathLst>
              </a:custGeom>
              <a:solidFill>
                <a:srgbClr val="6f8163"/>
              </a:solidFill>
              <a:ln w="12600">
                <a:solidFill>
                  <a:srgbClr val="7082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93" name="L 形 39"/>
              <p:cNvSpPr/>
              <p:nvPr/>
            </p:nvSpPr>
            <p:spPr>
              <a:xfrm flipH="1" flipV="1" rot="2493600">
                <a:off x="4394880" y="3166560"/>
                <a:ext cx="104400" cy="104400"/>
              </a:xfrm>
              <a:custGeom>
                <a:avLst/>
                <a:gdLst/>
                <a:ahLst/>
                <a:rect l="l" t="t" r="r" b="b"/>
                <a:pathLst>
                  <a:path w="54394" h="54389">
                    <a:moveTo>
                      <a:pt x="0" y="0"/>
                    </a:moveTo>
                    <a:lnTo>
                      <a:pt x="9322" y="0"/>
                    </a:lnTo>
                    <a:lnTo>
                      <a:pt x="9322" y="46149"/>
                    </a:lnTo>
                    <a:lnTo>
                      <a:pt x="54394" y="46149"/>
                    </a:lnTo>
                    <a:lnTo>
                      <a:pt x="54394" y="54389"/>
                    </a:lnTo>
                    <a:lnTo>
                      <a:pt x="0" y="54389"/>
                    </a:lnTo>
                    <a:close/>
                  </a:path>
                </a:pathLst>
              </a:custGeom>
              <a:solidFill>
                <a:srgbClr val="6f8163"/>
              </a:solidFill>
              <a:ln w="12600">
                <a:solidFill>
                  <a:srgbClr val="7082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grpSp>
    </p:spTree>
  </p:cSld>
  <p:transition>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等线 Light"/>
            </a:endParaRPr>
          </a:p>
        </p:txBody>
      </p:sp>
      <p:sp>
        <p:nvSpPr>
          <p:cNvPr id="95" name=""/>
          <p:cNvSpPr txBox="1"/>
          <p:nvPr/>
        </p:nvSpPr>
        <p:spPr>
          <a:xfrm>
            <a:off x="809280" y="5345280"/>
            <a:ext cx="10544040" cy="1457280"/>
          </a:xfrm>
          <a:prstGeom prst="rect">
            <a:avLst/>
          </a:prstGeom>
          <a:noFill/>
          <a:ln w="0">
            <a:noFill/>
          </a:ln>
        </p:spPr>
        <p:txBody>
          <a:bodyPr anchor="t">
            <a:normAutofit/>
          </a:bodyPr>
          <a:p>
            <a:pPr marL="227160" indent="-2271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7351"/>
                </a:solidFill>
                <a:latin typeface="微软雅黑"/>
                <a:ea typeface="微软雅黑"/>
              </a:rPr>
              <a:t>Review the classification of phonemes</a:t>
            </a:r>
            <a:endParaRPr b="0" lang="en-US" sz="2400" spc="-1" strike="noStrike">
              <a:solidFill>
                <a:srgbClr val="000000"/>
              </a:solidFill>
              <a:latin typeface="等线"/>
            </a:endParaRPr>
          </a:p>
          <a:p>
            <a:pPr marL="227160" indent="-2271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7351"/>
                </a:solidFill>
                <a:latin typeface="微软雅黑"/>
                <a:ea typeface="微软雅黑"/>
              </a:rPr>
              <a:t>Back vowels include </a:t>
            </a:r>
            <a:r>
              <a:rPr b="0" lang="en-US" sz="2400" spc="-1" strike="noStrike">
                <a:solidFill>
                  <a:srgbClr val="ffc000"/>
                </a:solidFill>
                <a:latin typeface="等线"/>
              </a:rPr>
              <a:t>/ɑ: / / ɒ / / ɔ: / / ʊ / / u: /</a:t>
            </a:r>
            <a:endParaRPr b="0" lang="en-US" sz="2400" spc="-1" strike="noStrike">
              <a:solidFill>
                <a:srgbClr val="000000"/>
              </a:solidFill>
              <a:latin typeface="等线"/>
            </a:endParaRPr>
          </a:p>
        </p:txBody>
      </p:sp>
      <p:sp>
        <p:nvSpPr>
          <p:cNvPr id="96" name="矩形 58"/>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97" name="组合 59" descr=""/>
          <p:cNvPicPr/>
          <p:nvPr/>
        </p:nvPicPr>
        <p:blipFill>
          <a:blip r:embed="rId1"/>
          <a:stretch/>
        </p:blipFill>
        <p:spPr>
          <a:xfrm>
            <a:off x="237960" y="206280"/>
            <a:ext cx="578160" cy="576360"/>
          </a:xfrm>
          <a:prstGeom prst="rect">
            <a:avLst/>
          </a:prstGeom>
          <a:ln w="0">
            <a:noFill/>
          </a:ln>
        </p:spPr>
      </p:pic>
      <p:sp>
        <p:nvSpPr>
          <p:cNvPr id="98" name="文本框 25"/>
          <p:cNvSpPr/>
          <p:nvPr/>
        </p:nvSpPr>
        <p:spPr>
          <a:xfrm>
            <a:off x="942480" y="295200"/>
            <a:ext cx="27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Warming-up</a:t>
            </a:r>
            <a:r>
              <a:rPr b="1" lang="en-US" sz="2400" spc="-1" strike="noStrike">
                <a:solidFill>
                  <a:srgbClr val="3d7351"/>
                </a:solidFill>
                <a:latin typeface="微软雅黑"/>
                <a:ea typeface="微软雅黑"/>
              </a:rPr>
              <a:t> </a:t>
            </a:r>
            <a:endParaRPr b="0" lang="en-US" sz="2400" spc="-1" strike="noStrike">
              <a:solidFill>
                <a:srgbClr val="000000"/>
              </a:solidFill>
              <a:latin typeface="等线"/>
            </a:endParaRPr>
          </a:p>
        </p:txBody>
      </p:sp>
      <p:pic>
        <p:nvPicPr>
          <p:cNvPr id="99" name="图片 3" descr=""/>
          <p:cNvPicPr/>
          <p:nvPr/>
        </p:nvPicPr>
        <p:blipFill>
          <a:blip r:embed="rId2"/>
          <a:stretch/>
        </p:blipFill>
        <p:spPr>
          <a:xfrm>
            <a:off x="6134040" y="1424160"/>
            <a:ext cx="5302440" cy="3608280"/>
          </a:xfrm>
          <a:prstGeom prst="rect">
            <a:avLst/>
          </a:prstGeom>
          <a:ln w="0">
            <a:noFill/>
          </a:ln>
        </p:spPr>
      </p:pic>
      <p:pic>
        <p:nvPicPr>
          <p:cNvPr id="100" name="图片 4" descr="%LJ$IFT%J)OX6@40)X[)9@M"/>
          <p:cNvPicPr/>
          <p:nvPr/>
        </p:nvPicPr>
        <p:blipFill>
          <a:blip r:embed="rId3"/>
          <a:stretch/>
        </p:blipFill>
        <p:spPr>
          <a:xfrm>
            <a:off x="1519200" y="1424160"/>
            <a:ext cx="4614840" cy="3308040"/>
          </a:xfrm>
          <a:prstGeom prst="rect">
            <a:avLst/>
          </a:prstGeom>
          <a:ln w="0">
            <a:noFill/>
          </a:ln>
        </p:spPr>
      </p:pic>
      <p:pic>
        <p:nvPicPr>
          <p:cNvPr id="101" name="图片 5" descr=""/>
          <p:cNvPicPr/>
          <p:nvPr/>
        </p:nvPicPr>
        <p:blipFill>
          <a:blip r:embed="rId4"/>
          <a:stretch/>
        </p:blipFill>
        <p:spPr>
          <a:xfrm>
            <a:off x="2765520" y="1424160"/>
            <a:ext cx="6051600" cy="3495600"/>
          </a:xfrm>
          <a:prstGeom prst="rect">
            <a:avLst/>
          </a:prstGeom>
          <a:ln w="0">
            <a:noFill/>
          </a:ln>
        </p:spPr>
      </p:pic>
    </p:spTree>
  </p:cSld>
  <p:transition>
    <p:push dir="u"/>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2" presetSubtype="4">
                                  <p:stCondLst>
                                    <p:cond delay="0"/>
                                  </p:stCondLst>
                                  <p:childTnLst>
                                    <p:set>
                                      <p:cBhvr>
                                        <p:cTn id="30" dur="1" fill="hold">
                                          <p:stCondLst>
                                            <p:cond delay="0"/>
                                          </p:stCondLst>
                                        </p:cTn>
                                        <p:tgtEl>
                                          <p:spTgt spid="95">
                                            <p:txEl>
                                              <p:pRg st="0" end="0"/>
                                            </p:txEl>
                                          </p:spTgt>
                                        </p:tgtEl>
                                        <p:attrNameLst>
                                          <p:attrName>style.visibility</p:attrName>
                                        </p:attrNameLst>
                                      </p:cBhvr>
                                      <p:to>
                                        <p:strVal val="visible"/>
                                      </p:to>
                                    </p:set>
                                    <p:anim calcmode="lin" valueType="num">
                                      <p:cBhvr additive="repl">
                                        <p:cTn id="31"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2" presetSubtype="4">
                                  <p:stCondLst>
                                    <p:cond delay="0"/>
                                  </p:stCondLst>
                                  <p:childTnLst>
                                    <p:set>
                                      <p:cBhvr>
                                        <p:cTn id="36" dur="1" fill="hold">
                                          <p:stCondLst>
                                            <p:cond delay="0"/>
                                          </p:stCondLst>
                                        </p:cTn>
                                        <p:tgtEl>
                                          <p:spTgt spid="101"/>
                                        </p:tgtEl>
                                        <p:attrNameLst>
                                          <p:attrName>style.visibility</p:attrName>
                                        </p:attrNameLst>
                                      </p:cBhvr>
                                      <p:to>
                                        <p:strVal val="visible"/>
                                      </p:to>
                                    </p:set>
                                    <p:anim calcmode="lin" valueType="num">
                                      <p:cBhvr additive="repl">
                                        <p:cTn id="37" dur="500" fill="hold"/>
                                        <p:tgtEl>
                                          <p:spTgt spid="101"/>
                                        </p:tgtEl>
                                        <p:attrNameLst>
                                          <p:attrName>ppt_x</p:attrName>
                                        </p:attrNameLst>
                                      </p:cBhvr>
                                      <p:tavLst>
                                        <p:tav tm="0">
                                          <p:val>
                                            <p:strVal val="#ppt_x"/>
                                          </p:val>
                                        </p:tav>
                                        <p:tav tm="100000">
                                          <p:val>
                                            <p:strVal val="#ppt_x"/>
                                          </p:val>
                                        </p:tav>
                                      </p:tavLst>
                                    </p:anim>
                                    <p:anim calcmode="lin" valueType="num">
                                      <p:cBhvr additive="repl">
                                        <p:cTn id="38"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xit" presetID="2" presetSubtype="4">
                                  <p:stCondLst>
                                    <p:cond delay="0"/>
                                  </p:stCondLst>
                                  <p:childTnLst>
                                    <p:anim calcmode="lin" valueType="num">
                                      <p:cBhvr additive="repl">
                                        <p:cTn id="42" dur="500"/>
                                        <p:tgtEl>
                                          <p:spTgt spid="101"/>
                                        </p:tgtEl>
                                        <p:attrNameLst>
                                          <p:attrName>ppt_x</p:attrName>
                                        </p:attrNameLst>
                                      </p:cBhvr>
                                      <p:tavLst>
                                        <p:tav tm="0">
                                          <p:val>
                                            <p:strVal val="#ppt_x"/>
                                          </p:val>
                                        </p:tav>
                                        <p:tav tm="100000">
                                          <p:val>
                                            <p:strVal val="#ppt_x"/>
                                          </p:val>
                                        </p:tav>
                                      </p:tavLst>
                                    </p:anim>
                                    <p:anim calcmode="lin" valueType="num">
                                      <p:cBhvr additive="repl">
                                        <p:cTn id="43" dur="500"/>
                                        <p:tgtEl>
                                          <p:spTgt spid="101"/>
                                        </p:tgtEl>
                                        <p:attrNameLst>
                                          <p:attrName>ppt_y</p:attrName>
                                        </p:attrNameLst>
                                      </p:cBhvr>
                                      <p:tavLst>
                                        <p:tav tm="0">
                                          <p:val>
                                            <p:strVal val="#ppt_y"/>
                                          </p:val>
                                        </p:tav>
                                        <p:tav tm="100000">
                                          <p:val>
                                            <p:strVal val="1+#ppt_h/2"/>
                                          </p:val>
                                        </p:tav>
                                      </p:tavLst>
                                    </p:anim>
                                    <p:set>
                                      <p:cBhvr>
                                        <p:cTn id="44" dur="1" fill="hold">
                                          <p:stCondLst>
                                            <p:cond delay="499"/>
                                          </p:stCondLst>
                                        </p:cTn>
                                        <p:tgtEl>
                                          <p:spTgt spid="101"/>
                                        </p:tgtEl>
                                        <p:attrNameLst>
                                          <p:attrName>style.visibility</p:attrName>
                                        </p:attrNameLst>
                                      </p:cBhvr>
                                      <p:to>
                                        <p:strVal val="hidden"/>
                                      </p:to>
                                    </p:se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 presetSubtype="4">
                                  <p:stCondLst>
                                    <p:cond delay="0"/>
                                  </p:stCondLst>
                                  <p:childTnLst>
                                    <p:set>
                                      <p:cBhvr>
                                        <p:cTn id="48" dur="1" fill="hold">
                                          <p:stCondLst>
                                            <p:cond delay="0"/>
                                          </p:stCondLst>
                                        </p:cTn>
                                        <p:tgtEl>
                                          <p:spTgt spid="100"/>
                                        </p:tgtEl>
                                        <p:attrNameLst>
                                          <p:attrName>style.visibility</p:attrName>
                                        </p:attrNameLst>
                                      </p:cBhvr>
                                      <p:to>
                                        <p:strVal val="visible"/>
                                      </p:to>
                                    </p:set>
                                    <p:anim calcmode="lin" valueType="num">
                                      <p:cBhvr additive="repl">
                                        <p:cTn id="49" dur="500" fill="hold"/>
                                        <p:tgtEl>
                                          <p:spTgt spid="100"/>
                                        </p:tgtEl>
                                        <p:attrNameLst>
                                          <p:attrName>ppt_x</p:attrName>
                                        </p:attrNameLst>
                                      </p:cBhvr>
                                      <p:tavLst>
                                        <p:tav tm="0">
                                          <p:val>
                                            <p:strVal val="#ppt_x"/>
                                          </p:val>
                                        </p:tav>
                                        <p:tav tm="100000">
                                          <p:val>
                                            <p:strVal val="#ppt_x"/>
                                          </p:val>
                                        </p:tav>
                                      </p:tavLst>
                                    </p:anim>
                                    <p:anim calcmode="lin" valueType="num">
                                      <p:cBhvr additive="repl">
                                        <p:cTn id="5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 presetSubtype="4">
                                  <p:stCondLst>
                                    <p:cond delay="0"/>
                                  </p:stCondLst>
                                  <p:childTnLst>
                                    <p:set>
                                      <p:cBhvr>
                                        <p:cTn id="54" dur="1" fill="hold">
                                          <p:stCondLst>
                                            <p:cond delay="0"/>
                                          </p:stCondLst>
                                        </p:cTn>
                                        <p:tgtEl>
                                          <p:spTgt spid="99"/>
                                        </p:tgtEl>
                                        <p:attrNameLst>
                                          <p:attrName>style.visibility</p:attrName>
                                        </p:attrNameLst>
                                      </p:cBhvr>
                                      <p:to>
                                        <p:strVal val="visible"/>
                                      </p:to>
                                    </p:set>
                                    <p:anim calcmode="lin" valueType="num">
                                      <p:cBhvr additive="repl">
                                        <p:cTn id="55" dur="500" fill="hold"/>
                                        <p:tgtEl>
                                          <p:spTgt spid="99"/>
                                        </p:tgtEl>
                                        <p:attrNameLst>
                                          <p:attrName>ppt_x</p:attrName>
                                        </p:attrNameLst>
                                      </p:cBhvr>
                                      <p:tavLst>
                                        <p:tav tm="0">
                                          <p:val>
                                            <p:strVal val="#ppt_x"/>
                                          </p:val>
                                        </p:tav>
                                        <p:tav tm="100000">
                                          <p:val>
                                            <p:strVal val="#ppt_x"/>
                                          </p:val>
                                        </p:tav>
                                      </p:tavLst>
                                    </p:anim>
                                    <p:anim calcmode="lin" valueType="num">
                                      <p:cBhvr additive="repl">
                                        <p:cTn id="56"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2" presetSubtype="4">
                                  <p:stCondLst>
                                    <p:cond delay="0"/>
                                  </p:stCondLst>
                                  <p:childTnLst>
                                    <p:set>
                                      <p:cBhvr>
                                        <p:cTn id="60" dur="1" fill="hold">
                                          <p:stCondLst>
                                            <p:cond delay="0"/>
                                          </p:stCondLst>
                                        </p:cTn>
                                        <p:tgtEl>
                                          <p:spTgt spid="95">
                                            <p:txEl>
                                              <p:pRg st="1" end="1"/>
                                            </p:txEl>
                                          </p:spTgt>
                                        </p:tgtEl>
                                        <p:attrNameLst>
                                          <p:attrName>style.visibility</p:attrName>
                                        </p:attrNameLst>
                                      </p:cBhvr>
                                      <p:to>
                                        <p:strVal val="visible"/>
                                      </p:to>
                                    </p:set>
                                    <p:anim calcmode="lin" valueType="num">
                                      <p:cBhvr additive="repl">
                                        <p:cTn id="61"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等线 Light"/>
            </a:endParaRPr>
          </a:p>
        </p:txBody>
      </p:sp>
      <p:sp>
        <p:nvSpPr>
          <p:cNvPr id="103" name=""/>
          <p:cNvSpPr txBox="1"/>
          <p:nvPr/>
        </p:nvSpPr>
        <p:spPr>
          <a:xfrm>
            <a:off x="633240" y="5745240"/>
            <a:ext cx="10450800" cy="1014480"/>
          </a:xfrm>
          <a:prstGeom prst="rect">
            <a:avLst/>
          </a:prstGeom>
          <a:noFill/>
          <a:ln w="0">
            <a:noFill/>
          </a:ln>
        </p:spPr>
        <p:txBody>
          <a:bodyPr anchor="t">
            <a:normAutofit/>
          </a:bodyPr>
          <a:p>
            <a:pPr marL="227160" indent="-2271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7351"/>
                </a:solidFill>
                <a:latin typeface="微软雅黑"/>
                <a:ea typeface="微软雅黑"/>
              </a:rPr>
              <a:t>CLICK, watch the video of </a:t>
            </a:r>
            <a:r>
              <a:rPr b="0" i="1" lang="en-US" sz="2400" spc="-1" strike="noStrike">
                <a:solidFill>
                  <a:srgbClr val="3d7351"/>
                </a:solidFill>
                <a:latin typeface="微软雅黑"/>
                <a:ea typeface="微软雅黑"/>
              </a:rPr>
              <a:t>Edelweiss,</a:t>
            </a:r>
            <a:r>
              <a:rPr b="0" lang="en-US" sz="2400" spc="-1" strike="noStrike">
                <a:solidFill>
                  <a:srgbClr val="3d7351"/>
                </a:solidFill>
                <a:latin typeface="微软雅黑"/>
                <a:ea typeface="微软雅黑"/>
              </a:rPr>
              <a:t> a song containing many back vowels. Figure out the words containing back vowels.</a:t>
            </a:r>
            <a:endParaRPr b="0" lang="en-US" sz="2400" spc="-1" strike="noStrike">
              <a:solidFill>
                <a:srgbClr val="000000"/>
              </a:solidFill>
              <a:latin typeface="等线"/>
            </a:endParaRPr>
          </a:p>
        </p:txBody>
      </p:sp>
      <p:sp>
        <p:nvSpPr>
          <p:cNvPr id="104" name="矩形 18"/>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105" name="组合 23" descr=""/>
          <p:cNvPicPr/>
          <p:nvPr/>
        </p:nvPicPr>
        <p:blipFill>
          <a:blip r:embed="rId1"/>
          <a:stretch/>
        </p:blipFill>
        <p:spPr>
          <a:xfrm>
            <a:off x="237960" y="206280"/>
            <a:ext cx="578160" cy="576360"/>
          </a:xfrm>
          <a:prstGeom prst="rect">
            <a:avLst/>
          </a:prstGeom>
          <a:ln w="0">
            <a:noFill/>
          </a:ln>
        </p:spPr>
      </p:pic>
      <p:sp>
        <p:nvSpPr>
          <p:cNvPr id="106" name="文本框 25"/>
          <p:cNvSpPr/>
          <p:nvPr/>
        </p:nvSpPr>
        <p:spPr>
          <a:xfrm>
            <a:off x="936720" y="212760"/>
            <a:ext cx="270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Warming-up</a:t>
            </a:r>
            <a:endParaRPr b="0" lang="en-US" sz="3200" spc="-1" strike="noStrike">
              <a:solidFill>
                <a:srgbClr val="000000"/>
              </a:solidFill>
              <a:latin typeface="等线"/>
            </a:endParaRPr>
          </a:p>
        </p:txBody>
      </p:sp>
      <p:pic>
        <p:nvPicPr>
          <p:cNvPr id="107" name="《音乐之声》《雪绒花》插曲_高清.mp4" descr=""/>
          <p:cNvPicPr/>
          <p:nvPr/>
        </p:nvPicPr>
        <p:blipFill>
          <a:blip r:embed="rId2"/>
          <a:stretch/>
        </p:blipFill>
        <p:spPr>
          <a:xfrm>
            <a:off x="369720" y="1265400"/>
            <a:ext cx="7391520" cy="4022640"/>
          </a:xfrm>
          <a:prstGeom prst="rect">
            <a:avLst/>
          </a:prstGeom>
          <a:ln w="0">
            <a:noFill/>
          </a:ln>
        </p:spPr>
      </p:pic>
      <p:sp>
        <p:nvSpPr>
          <p:cNvPr id="108" name="文本框 8"/>
          <p:cNvSpPr/>
          <p:nvPr/>
        </p:nvSpPr>
        <p:spPr>
          <a:xfrm>
            <a:off x="8238960" y="1392120"/>
            <a:ext cx="3565800" cy="4074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宋体"/>
              </a:rPr>
              <a:t>Edelweiss</a:t>
            </a:r>
            <a:endParaRPr b="0" lang="en-US" sz="2400" spc="-1" strike="noStrike">
              <a:solidFill>
                <a:srgbClr val="000000"/>
              </a:solidFill>
              <a:latin typeface="等线"/>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delweiss, edelweiss, </a:t>
            </a:r>
            <a:endParaRPr b="0" lang="en-US" sz="2000" spc="-1" strike="noStrike">
              <a:solidFill>
                <a:srgbClr val="000000"/>
              </a:solidFill>
              <a:latin typeface="等线"/>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very m</a:t>
            </a:r>
            <a:r>
              <a:rPr b="0" lang="en-US" sz="2000" spc="-1" strike="noStrike">
                <a:solidFill>
                  <a:srgbClr val="ff0000"/>
                </a:solidFill>
                <a:latin typeface="Comic Sans MS"/>
                <a:ea typeface="宋体"/>
              </a:rPr>
              <a:t>or</a:t>
            </a:r>
            <a:r>
              <a:rPr b="0" lang="en-US" sz="2000" spc="-1" strike="noStrike">
                <a:solidFill>
                  <a:srgbClr val="000000"/>
                </a:solidFill>
                <a:latin typeface="Comic Sans MS"/>
                <a:ea typeface="宋体"/>
              </a:rPr>
              <a:t>ning  y</a:t>
            </a:r>
            <a:r>
              <a:rPr b="0" lang="en-US" sz="2000" spc="-1" strike="noStrike">
                <a:solidFill>
                  <a:srgbClr val="ff0000"/>
                </a:solidFill>
                <a:latin typeface="Comic Sans MS"/>
                <a:ea typeface="宋体"/>
              </a:rPr>
              <a:t>ou</a:t>
            </a:r>
            <a:r>
              <a:rPr b="0" lang="en-US" sz="2000" spc="-1" strike="noStrike">
                <a:solidFill>
                  <a:srgbClr val="000000"/>
                </a:solidFill>
                <a:latin typeface="Comic Sans MS"/>
                <a:ea typeface="宋体"/>
              </a:rPr>
              <a:t> greet me.</a:t>
            </a:r>
            <a:endParaRPr b="0" lang="en-US" sz="2000" spc="-1" strike="noStrike">
              <a:solidFill>
                <a:srgbClr val="000000"/>
              </a:solidFill>
              <a:latin typeface="等线"/>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a:t>
            </a:r>
            <a:r>
              <a:rPr b="0" lang="en-US" sz="2000" spc="-1" strike="noStrike">
                <a:solidFill>
                  <a:srgbClr val="ff0000"/>
                </a:solidFill>
                <a:latin typeface="Comic Sans MS"/>
                <a:ea typeface="宋体"/>
              </a:rPr>
              <a:t>al</a:t>
            </a:r>
            <a:r>
              <a:rPr b="0" lang="en-US" sz="2000" spc="-1" strike="noStrike">
                <a:solidFill>
                  <a:srgbClr val="000000"/>
                </a:solidFill>
                <a:latin typeface="Comic Sans MS"/>
                <a:ea typeface="宋体"/>
              </a:rPr>
              <a:t>l and white,</a:t>
            </a:r>
            <a:endParaRPr b="0" lang="en-US" sz="2000" spc="-1" strike="noStrike">
              <a:solidFill>
                <a:srgbClr val="000000"/>
              </a:solidFill>
              <a:latin typeface="等线"/>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ean and bright.</a:t>
            </a:r>
            <a:endParaRPr b="0" lang="en-US" sz="2000" spc="-1" strike="noStrike">
              <a:solidFill>
                <a:srgbClr val="000000"/>
              </a:solidFill>
              <a:latin typeface="等线"/>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Y</a:t>
            </a:r>
            <a:r>
              <a:rPr b="0" lang="en-US" sz="2000" spc="-1" strike="noStrike">
                <a:solidFill>
                  <a:srgbClr val="ff0000"/>
                </a:solidFill>
                <a:latin typeface="Comic Sans MS"/>
                <a:ea typeface="宋体"/>
              </a:rPr>
              <a:t>ou</a:t>
            </a:r>
            <a:r>
              <a:rPr b="0" lang="en-US" sz="2000" spc="-1" strike="noStrike">
                <a:solidFill>
                  <a:srgbClr val="000000"/>
                </a:solidFill>
                <a:latin typeface="Comic Sans MS"/>
                <a:ea typeface="宋体"/>
              </a:rPr>
              <a:t> l</a:t>
            </a:r>
            <a:r>
              <a:rPr b="0" lang="en-US" sz="2000" spc="-1" strike="noStrike">
                <a:solidFill>
                  <a:srgbClr val="ff0000"/>
                </a:solidFill>
                <a:latin typeface="Comic Sans MS"/>
                <a:ea typeface="宋体"/>
              </a:rPr>
              <a:t>oo</a:t>
            </a:r>
            <a:r>
              <a:rPr b="0" lang="en-US" sz="2000" spc="-1" strike="noStrike">
                <a:solidFill>
                  <a:srgbClr val="000000"/>
                </a:solidFill>
                <a:latin typeface="Comic Sans MS"/>
                <a:ea typeface="宋体"/>
              </a:rPr>
              <a:t>k happy t</a:t>
            </a:r>
            <a:r>
              <a:rPr b="0" lang="en-US" sz="2000" spc="-1" strike="noStrike">
                <a:solidFill>
                  <a:srgbClr val="ff0000"/>
                </a:solidFill>
                <a:latin typeface="Comic Sans MS"/>
                <a:ea typeface="宋体"/>
              </a:rPr>
              <a:t>o</a:t>
            </a:r>
            <a:r>
              <a:rPr b="0" lang="en-US" sz="2000" spc="-1" strike="noStrike">
                <a:solidFill>
                  <a:srgbClr val="000000"/>
                </a:solidFill>
                <a:latin typeface="Comic Sans MS"/>
                <a:ea typeface="宋体"/>
              </a:rPr>
              <a:t> meet me.</a:t>
            </a:r>
            <a:endParaRPr b="0" lang="en-US" sz="2000" spc="-1" strike="noStrike">
              <a:solidFill>
                <a:srgbClr val="000000"/>
              </a:solidFill>
              <a:latin typeface="等线"/>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lossom of snow,</a:t>
            </a:r>
            <a:endParaRPr b="0" lang="en-US" sz="2000" spc="-1" strike="noStrike">
              <a:solidFill>
                <a:srgbClr val="000000"/>
              </a:solidFill>
              <a:latin typeface="等线"/>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y y</a:t>
            </a:r>
            <a:r>
              <a:rPr b="0" lang="en-US" sz="2000" spc="-1" strike="noStrike">
                <a:solidFill>
                  <a:srgbClr val="ff0000"/>
                </a:solidFill>
                <a:latin typeface="Comic Sans MS"/>
                <a:ea typeface="宋体"/>
              </a:rPr>
              <a:t>ou</a:t>
            </a:r>
            <a:r>
              <a:rPr b="0" lang="en-US" sz="2000" spc="-1" strike="noStrike">
                <a:solidFill>
                  <a:srgbClr val="000000"/>
                </a:solidFill>
                <a:latin typeface="Comic Sans MS"/>
                <a:ea typeface="宋体"/>
              </a:rPr>
              <a:t> bl</a:t>
            </a:r>
            <a:r>
              <a:rPr b="0" lang="en-US" sz="2000" spc="-1" strike="noStrike">
                <a:solidFill>
                  <a:srgbClr val="ff0000"/>
                </a:solidFill>
                <a:latin typeface="Comic Sans MS"/>
                <a:ea typeface="宋体"/>
              </a:rPr>
              <a:t>oo</a:t>
            </a:r>
            <a:r>
              <a:rPr b="0" lang="en-US" sz="2000" spc="-1" strike="noStrike">
                <a:solidFill>
                  <a:srgbClr val="000000"/>
                </a:solidFill>
                <a:latin typeface="Comic Sans MS"/>
                <a:ea typeface="宋体"/>
              </a:rPr>
              <a:t>m and gr</a:t>
            </a:r>
            <a:r>
              <a:rPr b="0" lang="en-US" sz="2000" spc="-1" strike="noStrike">
                <a:solidFill>
                  <a:srgbClr val="ff0000"/>
                </a:solidFill>
                <a:latin typeface="Comic Sans MS"/>
                <a:ea typeface="宋体"/>
              </a:rPr>
              <a:t>ow</a:t>
            </a:r>
            <a:r>
              <a:rPr b="0" lang="en-US" sz="2000" spc="-1" strike="noStrike">
                <a:solidFill>
                  <a:srgbClr val="000000"/>
                </a:solidFill>
                <a:latin typeface="Comic Sans MS"/>
                <a:ea typeface="宋体"/>
              </a:rPr>
              <a:t>,</a:t>
            </a:r>
            <a:endParaRPr b="0" lang="en-US" sz="2000" spc="-1" strike="noStrike">
              <a:solidFill>
                <a:srgbClr val="000000"/>
              </a:solidFill>
              <a:latin typeface="等线"/>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l</a:t>
            </a:r>
            <a:r>
              <a:rPr b="0" lang="en-US" sz="2000" spc="-1" strike="noStrike">
                <a:solidFill>
                  <a:srgbClr val="ff0000"/>
                </a:solidFill>
                <a:latin typeface="Comic Sans MS"/>
                <a:ea typeface="宋体"/>
              </a:rPr>
              <a:t>oo</a:t>
            </a:r>
            <a:r>
              <a:rPr b="0" lang="en-US" sz="2000" spc="-1" strike="noStrike">
                <a:solidFill>
                  <a:srgbClr val="000000"/>
                </a:solidFill>
                <a:latin typeface="Comic Sans MS"/>
                <a:ea typeface="宋体"/>
              </a:rPr>
              <a:t>m and grow f</a:t>
            </a:r>
            <a:r>
              <a:rPr b="0" lang="en-US" sz="2000" spc="-1" strike="noStrike">
                <a:solidFill>
                  <a:srgbClr val="ff0000"/>
                </a:solidFill>
                <a:latin typeface="Comic Sans MS"/>
                <a:ea typeface="宋体"/>
              </a:rPr>
              <a:t>or</a:t>
            </a:r>
            <a:r>
              <a:rPr b="0" lang="en-US" sz="2000" spc="-1" strike="noStrike">
                <a:solidFill>
                  <a:srgbClr val="000000"/>
                </a:solidFill>
                <a:latin typeface="Comic Sans MS"/>
                <a:ea typeface="宋体"/>
              </a:rPr>
              <a:t>ever.</a:t>
            </a:r>
            <a:endParaRPr b="0" lang="en-US" sz="2000" spc="-1" strike="noStrike">
              <a:solidFill>
                <a:srgbClr val="000000"/>
              </a:solidFill>
              <a:latin typeface="等线"/>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delweiss, edelweiss,</a:t>
            </a:r>
            <a:endParaRPr b="0" lang="en-US" sz="2000" spc="-1" strike="noStrike">
              <a:solidFill>
                <a:srgbClr val="000000"/>
              </a:solidFill>
              <a:latin typeface="等线"/>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less my homeland f</a:t>
            </a:r>
            <a:r>
              <a:rPr b="0" lang="en-US" sz="2000" spc="-1" strike="noStrike">
                <a:solidFill>
                  <a:srgbClr val="ff0000"/>
                </a:solidFill>
                <a:latin typeface="Comic Sans MS"/>
                <a:ea typeface="宋体"/>
              </a:rPr>
              <a:t>or</a:t>
            </a:r>
            <a:r>
              <a:rPr b="0" lang="en-US" sz="2000" spc="-1" strike="noStrike">
                <a:solidFill>
                  <a:srgbClr val="000000"/>
                </a:solidFill>
                <a:latin typeface="Comic Sans MS"/>
                <a:ea typeface="宋体"/>
              </a:rPr>
              <a:t>ever. </a:t>
            </a:r>
            <a:endParaRPr b="0" lang="en-US" sz="2000" spc="-1" strike="noStrike">
              <a:solidFill>
                <a:srgbClr val="000000"/>
              </a:solidFill>
              <a:latin typeface="等线"/>
            </a:endParaRPr>
          </a:p>
        </p:txBody>
      </p:sp>
      <p:sp>
        <p:nvSpPr>
          <p:cNvPr id="109" name=" 13"/>
          <p:cNvSpPr/>
          <p:nvPr/>
        </p:nvSpPr>
        <p:spPr>
          <a:xfrm>
            <a:off x="496800" y="5029200"/>
            <a:ext cx="395280" cy="593640"/>
          </a:xfrm>
          <a:custGeom>
            <a:avLst/>
            <a:gdLst/>
            <a:ahLst/>
            <a:rect l="l" t="t" r="r" b="b"/>
            <a:pathLst>
              <a:path w="1646238" h="2433638">
                <a:moveTo>
                  <a:pt x="577732" y="161925"/>
                </a:moveTo>
                <a:lnTo>
                  <a:pt x="586070" y="162719"/>
                </a:lnTo>
                <a:lnTo>
                  <a:pt x="593614" y="163910"/>
                </a:lnTo>
                <a:lnTo>
                  <a:pt x="597585" y="164703"/>
                </a:lnTo>
                <a:lnTo>
                  <a:pt x="601953" y="165894"/>
                </a:lnTo>
                <a:lnTo>
                  <a:pt x="605526" y="167482"/>
                </a:lnTo>
                <a:lnTo>
                  <a:pt x="609100" y="169069"/>
                </a:lnTo>
                <a:lnTo>
                  <a:pt x="612674" y="171053"/>
                </a:lnTo>
                <a:lnTo>
                  <a:pt x="616247" y="173435"/>
                </a:lnTo>
                <a:lnTo>
                  <a:pt x="619821" y="176610"/>
                </a:lnTo>
                <a:lnTo>
                  <a:pt x="623394" y="179388"/>
                </a:lnTo>
                <a:lnTo>
                  <a:pt x="626968" y="182563"/>
                </a:lnTo>
                <a:lnTo>
                  <a:pt x="630145" y="186135"/>
                </a:lnTo>
                <a:lnTo>
                  <a:pt x="633321" y="190103"/>
                </a:lnTo>
                <a:lnTo>
                  <a:pt x="636498" y="194469"/>
                </a:lnTo>
                <a:lnTo>
                  <a:pt x="639674" y="199232"/>
                </a:lnTo>
                <a:lnTo>
                  <a:pt x="642454" y="204788"/>
                </a:lnTo>
                <a:lnTo>
                  <a:pt x="645233" y="210344"/>
                </a:lnTo>
                <a:lnTo>
                  <a:pt x="648013" y="216297"/>
                </a:lnTo>
                <a:lnTo>
                  <a:pt x="650792" y="222647"/>
                </a:lnTo>
                <a:lnTo>
                  <a:pt x="653969" y="229394"/>
                </a:lnTo>
                <a:lnTo>
                  <a:pt x="656351" y="237332"/>
                </a:lnTo>
                <a:lnTo>
                  <a:pt x="658733" y="245269"/>
                </a:lnTo>
                <a:lnTo>
                  <a:pt x="838208" y="927100"/>
                </a:lnTo>
                <a:lnTo>
                  <a:pt x="840193" y="928291"/>
                </a:lnTo>
                <a:lnTo>
                  <a:pt x="841781" y="933450"/>
                </a:lnTo>
                <a:lnTo>
                  <a:pt x="899356" y="921941"/>
                </a:lnTo>
                <a:lnTo>
                  <a:pt x="911665" y="922338"/>
                </a:lnTo>
                <a:lnTo>
                  <a:pt x="923180" y="923529"/>
                </a:lnTo>
                <a:lnTo>
                  <a:pt x="935489" y="924719"/>
                </a:lnTo>
                <a:lnTo>
                  <a:pt x="946607" y="926704"/>
                </a:lnTo>
                <a:lnTo>
                  <a:pt x="957725" y="929482"/>
                </a:lnTo>
                <a:lnTo>
                  <a:pt x="969240" y="932657"/>
                </a:lnTo>
                <a:lnTo>
                  <a:pt x="979960" y="936229"/>
                </a:lnTo>
                <a:lnTo>
                  <a:pt x="991078" y="939800"/>
                </a:lnTo>
                <a:lnTo>
                  <a:pt x="1001402" y="944166"/>
                </a:lnTo>
                <a:lnTo>
                  <a:pt x="1011726" y="948929"/>
                </a:lnTo>
                <a:lnTo>
                  <a:pt x="1022049" y="954485"/>
                </a:lnTo>
                <a:lnTo>
                  <a:pt x="1031976" y="960438"/>
                </a:lnTo>
                <a:lnTo>
                  <a:pt x="1041506" y="966788"/>
                </a:lnTo>
                <a:lnTo>
                  <a:pt x="1051432" y="973535"/>
                </a:lnTo>
                <a:lnTo>
                  <a:pt x="1060565" y="980679"/>
                </a:lnTo>
                <a:lnTo>
                  <a:pt x="1069697" y="988616"/>
                </a:lnTo>
                <a:lnTo>
                  <a:pt x="1076050" y="994172"/>
                </a:lnTo>
                <a:lnTo>
                  <a:pt x="1081212" y="999729"/>
                </a:lnTo>
                <a:lnTo>
                  <a:pt x="1086374" y="1005682"/>
                </a:lnTo>
                <a:lnTo>
                  <a:pt x="1090345" y="1012032"/>
                </a:lnTo>
                <a:lnTo>
                  <a:pt x="1126478" y="1071960"/>
                </a:lnTo>
                <a:lnTo>
                  <a:pt x="1183258" y="1074341"/>
                </a:lnTo>
                <a:lnTo>
                  <a:pt x="1184847" y="1075532"/>
                </a:lnTo>
                <a:lnTo>
                  <a:pt x="1199538" y="1077913"/>
                </a:lnTo>
                <a:lnTo>
                  <a:pt x="1214230" y="1081088"/>
                </a:lnTo>
                <a:lnTo>
                  <a:pt x="1228524" y="1085057"/>
                </a:lnTo>
                <a:lnTo>
                  <a:pt x="1242818" y="1089422"/>
                </a:lnTo>
                <a:lnTo>
                  <a:pt x="1256716" y="1094582"/>
                </a:lnTo>
                <a:lnTo>
                  <a:pt x="1271010" y="1100932"/>
                </a:lnTo>
                <a:lnTo>
                  <a:pt x="1284510" y="1106885"/>
                </a:lnTo>
                <a:lnTo>
                  <a:pt x="1298011" y="1114029"/>
                </a:lnTo>
                <a:lnTo>
                  <a:pt x="1310717" y="1121172"/>
                </a:lnTo>
                <a:lnTo>
                  <a:pt x="1323820" y="1129507"/>
                </a:lnTo>
                <a:lnTo>
                  <a:pt x="1336129" y="1137444"/>
                </a:lnTo>
                <a:lnTo>
                  <a:pt x="1348041" y="1146175"/>
                </a:lnTo>
                <a:lnTo>
                  <a:pt x="1359953" y="1155700"/>
                </a:lnTo>
                <a:lnTo>
                  <a:pt x="1371071" y="1165225"/>
                </a:lnTo>
                <a:lnTo>
                  <a:pt x="1381792" y="1175147"/>
                </a:lnTo>
                <a:lnTo>
                  <a:pt x="1392115" y="1185863"/>
                </a:lnTo>
                <a:lnTo>
                  <a:pt x="1408792" y="1204119"/>
                </a:lnTo>
                <a:lnTo>
                  <a:pt x="1424278" y="1223566"/>
                </a:lnTo>
                <a:lnTo>
                  <a:pt x="1439763" y="1243410"/>
                </a:lnTo>
                <a:lnTo>
                  <a:pt x="1454058" y="1263254"/>
                </a:lnTo>
                <a:lnTo>
                  <a:pt x="1467955" y="1283891"/>
                </a:lnTo>
                <a:lnTo>
                  <a:pt x="1480264" y="1305322"/>
                </a:lnTo>
                <a:lnTo>
                  <a:pt x="1492970" y="1327150"/>
                </a:lnTo>
                <a:lnTo>
                  <a:pt x="1504088" y="1348582"/>
                </a:lnTo>
                <a:lnTo>
                  <a:pt x="1505279" y="1351360"/>
                </a:lnTo>
                <a:lnTo>
                  <a:pt x="1506471" y="1352154"/>
                </a:lnTo>
                <a:lnTo>
                  <a:pt x="1508059" y="1352550"/>
                </a:lnTo>
                <a:lnTo>
                  <a:pt x="1518780" y="1353344"/>
                </a:lnTo>
                <a:lnTo>
                  <a:pt x="1528309" y="1355329"/>
                </a:lnTo>
                <a:lnTo>
                  <a:pt x="1537839" y="1357710"/>
                </a:lnTo>
                <a:lnTo>
                  <a:pt x="1546971" y="1360885"/>
                </a:lnTo>
                <a:lnTo>
                  <a:pt x="1555707" y="1364457"/>
                </a:lnTo>
                <a:lnTo>
                  <a:pt x="1563648" y="1368822"/>
                </a:lnTo>
                <a:lnTo>
                  <a:pt x="1571590" y="1373982"/>
                </a:lnTo>
                <a:lnTo>
                  <a:pt x="1578737" y="1379935"/>
                </a:lnTo>
                <a:lnTo>
                  <a:pt x="1585487" y="1385888"/>
                </a:lnTo>
                <a:lnTo>
                  <a:pt x="1591840" y="1392238"/>
                </a:lnTo>
                <a:lnTo>
                  <a:pt x="1597796" y="1398985"/>
                </a:lnTo>
                <a:lnTo>
                  <a:pt x="1603752" y="1406525"/>
                </a:lnTo>
                <a:lnTo>
                  <a:pt x="1608914" y="1413669"/>
                </a:lnTo>
                <a:lnTo>
                  <a:pt x="1613678" y="1421607"/>
                </a:lnTo>
                <a:lnTo>
                  <a:pt x="1618046" y="1429544"/>
                </a:lnTo>
                <a:lnTo>
                  <a:pt x="1622017" y="1437879"/>
                </a:lnTo>
                <a:lnTo>
                  <a:pt x="1625988" y="1446213"/>
                </a:lnTo>
                <a:lnTo>
                  <a:pt x="1629561" y="1454547"/>
                </a:lnTo>
                <a:lnTo>
                  <a:pt x="1632738" y="1463279"/>
                </a:lnTo>
                <a:lnTo>
                  <a:pt x="1635517" y="1471613"/>
                </a:lnTo>
                <a:lnTo>
                  <a:pt x="1637900" y="1479947"/>
                </a:lnTo>
                <a:lnTo>
                  <a:pt x="1639885" y="1488282"/>
                </a:lnTo>
                <a:lnTo>
                  <a:pt x="1641473" y="1497013"/>
                </a:lnTo>
                <a:lnTo>
                  <a:pt x="1643062" y="1504950"/>
                </a:lnTo>
                <a:lnTo>
                  <a:pt x="1644253" y="1512491"/>
                </a:lnTo>
                <a:lnTo>
                  <a:pt x="1645047" y="1520429"/>
                </a:lnTo>
                <a:lnTo>
                  <a:pt x="1645841" y="1527969"/>
                </a:lnTo>
                <a:lnTo>
                  <a:pt x="1646238" y="1534716"/>
                </a:lnTo>
                <a:lnTo>
                  <a:pt x="1646238" y="1541463"/>
                </a:lnTo>
                <a:lnTo>
                  <a:pt x="1646238" y="1548210"/>
                </a:lnTo>
                <a:lnTo>
                  <a:pt x="1645841" y="1553766"/>
                </a:lnTo>
                <a:lnTo>
                  <a:pt x="1645444" y="1558925"/>
                </a:lnTo>
                <a:lnTo>
                  <a:pt x="1643458" y="1570832"/>
                </a:lnTo>
                <a:lnTo>
                  <a:pt x="1642267" y="1583532"/>
                </a:lnTo>
                <a:lnTo>
                  <a:pt x="1641473" y="1595835"/>
                </a:lnTo>
                <a:lnTo>
                  <a:pt x="1640679" y="1608535"/>
                </a:lnTo>
                <a:lnTo>
                  <a:pt x="1634723" y="1749029"/>
                </a:lnTo>
                <a:lnTo>
                  <a:pt x="1628370" y="1889126"/>
                </a:lnTo>
                <a:lnTo>
                  <a:pt x="1627973" y="1902222"/>
                </a:lnTo>
                <a:lnTo>
                  <a:pt x="1626385" y="1915716"/>
                </a:lnTo>
                <a:lnTo>
                  <a:pt x="1625194" y="1928416"/>
                </a:lnTo>
                <a:lnTo>
                  <a:pt x="1623208" y="1941910"/>
                </a:lnTo>
                <a:lnTo>
                  <a:pt x="1621223" y="1954610"/>
                </a:lnTo>
                <a:lnTo>
                  <a:pt x="1618840" y="1968104"/>
                </a:lnTo>
                <a:lnTo>
                  <a:pt x="1616061" y="1980804"/>
                </a:lnTo>
                <a:lnTo>
                  <a:pt x="1612884" y="1993504"/>
                </a:lnTo>
                <a:lnTo>
                  <a:pt x="1604546" y="2026444"/>
                </a:lnTo>
                <a:lnTo>
                  <a:pt x="1595414" y="2058988"/>
                </a:lnTo>
                <a:lnTo>
                  <a:pt x="1586281" y="2091532"/>
                </a:lnTo>
                <a:lnTo>
                  <a:pt x="1577148" y="2123679"/>
                </a:lnTo>
                <a:lnTo>
                  <a:pt x="1579134" y="2125663"/>
                </a:lnTo>
                <a:lnTo>
                  <a:pt x="1617252" y="2294732"/>
                </a:lnTo>
                <a:lnTo>
                  <a:pt x="1571590" y="2303463"/>
                </a:lnTo>
                <a:lnTo>
                  <a:pt x="1487411" y="2318147"/>
                </a:lnTo>
                <a:lnTo>
                  <a:pt x="1251951" y="2359026"/>
                </a:lnTo>
                <a:lnTo>
                  <a:pt x="1000608" y="2402285"/>
                </a:lnTo>
                <a:lnTo>
                  <a:pt x="897370" y="2420541"/>
                </a:lnTo>
                <a:lnTo>
                  <a:pt x="824310" y="2433638"/>
                </a:lnTo>
                <a:lnTo>
                  <a:pt x="785398" y="2236391"/>
                </a:lnTo>
                <a:lnTo>
                  <a:pt x="781030" y="2228851"/>
                </a:lnTo>
                <a:lnTo>
                  <a:pt x="776662" y="2221707"/>
                </a:lnTo>
                <a:lnTo>
                  <a:pt x="771897" y="2214563"/>
                </a:lnTo>
                <a:lnTo>
                  <a:pt x="767133" y="2207816"/>
                </a:lnTo>
                <a:lnTo>
                  <a:pt x="761574" y="2201069"/>
                </a:lnTo>
                <a:lnTo>
                  <a:pt x="756015" y="2194719"/>
                </a:lnTo>
                <a:lnTo>
                  <a:pt x="750456" y="2188369"/>
                </a:lnTo>
                <a:lnTo>
                  <a:pt x="744897" y="2182416"/>
                </a:lnTo>
                <a:lnTo>
                  <a:pt x="738544" y="2176463"/>
                </a:lnTo>
                <a:lnTo>
                  <a:pt x="732191" y="2170907"/>
                </a:lnTo>
                <a:lnTo>
                  <a:pt x="725441" y="2165351"/>
                </a:lnTo>
                <a:lnTo>
                  <a:pt x="719088" y="2159794"/>
                </a:lnTo>
                <a:lnTo>
                  <a:pt x="711940" y="2155032"/>
                </a:lnTo>
                <a:lnTo>
                  <a:pt x="704396" y="2149873"/>
                </a:lnTo>
                <a:lnTo>
                  <a:pt x="697249" y="2145507"/>
                </a:lnTo>
                <a:lnTo>
                  <a:pt x="689705" y="2141141"/>
                </a:lnTo>
                <a:lnTo>
                  <a:pt x="678984" y="2135585"/>
                </a:lnTo>
                <a:lnTo>
                  <a:pt x="668660" y="2130029"/>
                </a:lnTo>
                <a:lnTo>
                  <a:pt x="648807" y="2118519"/>
                </a:lnTo>
                <a:lnTo>
                  <a:pt x="630145" y="2106216"/>
                </a:lnTo>
                <a:lnTo>
                  <a:pt x="611482" y="2093119"/>
                </a:lnTo>
                <a:lnTo>
                  <a:pt x="593217" y="2080022"/>
                </a:lnTo>
                <a:lnTo>
                  <a:pt x="576144" y="2065735"/>
                </a:lnTo>
                <a:lnTo>
                  <a:pt x="559070" y="2051447"/>
                </a:lnTo>
                <a:lnTo>
                  <a:pt x="543187" y="2035969"/>
                </a:lnTo>
                <a:lnTo>
                  <a:pt x="526907" y="2020491"/>
                </a:lnTo>
                <a:lnTo>
                  <a:pt x="511422" y="2004616"/>
                </a:lnTo>
                <a:lnTo>
                  <a:pt x="496333" y="1988344"/>
                </a:lnTo>
                <a:lnTo>
                  <a:pt x="481245" y="1971676"/>
                </a:lnTo>
                <a:lnTo>
                  <a:pt x="466951" y="1954610"/>
                </a:lnTo>
                <a:lnTo>
                  <a:pt x="452259" y="1937147"/>
                </a:lnTo>
                <a:lnTo>
                  <a:pt x="424067" y="1902222"/>
                </a:lnTo>
                <a:lnTo>
                  <a:pt x="418111" y="1894285"/>
                </a:lnTo>
                <a:lnTo>
                  <a:pt x="412552" y="1886744"/>
                </a:lnTo>
                <a:lnTo>
                  <a:pt x="401435" y="1870472"/>
                </a:lnTo>
                <a:lnTo>
                  <a:pt x="391508" y="1853804"/>
                </a:lnTo>
                <a:lnTo>
                  <a:pt x="381978" y="1837532"/>
                </a:lnTo>
                <a:lnTo>
                  <a:pt x="372846" y="1820069"/>
                </a:lnTo>
                <a:lnTo>
                  <a:pt x="364110" y="1803401"/>
                </a:lnTo>
                <a:lnTo>
                  <a:pt x="356169" y="1785541"/>
                </a:lnTo>
                <a:lnTo>
                  <a:pt x="348228" y="1768079"/>
                </a:lnTo>
                <a:lnTo>
                  <a:pt x="332345" y="1733551"/>
                </a:lnTo>
                <a:lnTo>
                  <a:pt x="324404" y="1716485"/>
                </a:lnTo>
                <a:lnTo>
                  <a:pt x="316065" y="1699022"/>
                </a:lnTo>
                <a:lnTo>
                  <a:pt x="307727" y="1682354"/>
                </a:lnTo>
                <a:lnTo>
                  <a:pt x="298991" y="1666082"/>
                </a:lnTo>
                <a:lnTo>
                  <a:pt x="289462" y="1649413"/>
                </a:lnTo>
                <a:lnTo>
                  <a:pt x="279535" y="1633935"/>
                </a:lnTo>
                <a:lnTo>
                  <a:pt x="275962" y="1624410"/>
                </a:lnTo>
                <a:lnTo>
                  <a:pt x="271594" y="1614885"/>
                </a:lnTo>
                <a:lnTo>
                  <a:pt x="266829" y="1605360"/>
                </a:lnTo>
                <a:lnTo>
                  <a:pt x="261667" y="1595835"/>
                </a:lnTo>
                <a:lnTo>
                  <a:pt x="256505" y="1586310"/>
                </a:lnTo>
                <a:lnTo>
                  <a:pt x="250946" y="1577182"/>
                </a:lnTo>
                <a:lnTo>
                  <a:pt x="239431" y="1558132"/>
                </a:lnTo>
                <a:lnTo>
                  <a:pt x="227122" y="1539479"/>
                </a:lnTo>
                <a:lnTo>
                  <a:pt x="214813" y="1521619"/>
                </a:lnTo>
                <a:lnTo>
                  <a:pt x="190592" y="1486694"/>
                </a:lnTo>
                <a:lnTo>
                  <a:pt x="185827" y="1479154"/>
                </a:lnTo>
                <a:lnTo>
                  <a:pt x="181063" y="1470422"/>
                </a:lnTo>
                <a:lnTo>
                  <a:pt x="170342" y="1450579"/>
                </a:lnTo>
                <a:lnTo>
                  <a:pt x="164783" y="1441054"/>
                </a:lnTo>
                <a:lnTo>
                  <a:pt x="159224" y="1431132"/>
                </a:lnTo>
                <a:lnTo>
                  <a:pt x="156444" y="1427163"/>
                </a:lnTo>
                <a:lnTo>
                  <a:pt x="153268" y="1423194"/>
                </a:lnTo>
                <a:lnTo>
                  <a:pt x="149694" y="1419622"/>
                </a:lnTo>
                <a:lnTo>
                  <a:pt x="146518" y="1416447"/>
                </a:lnTo>
                <a:lnTo>
                  <a:pt x="143738" y="1413272"/>
                </a:lnTo>
                <a:lnTo>
                  <a:pt x="140959" y="1409304"/>
                </a:lnTo>
                <a:lnTo>
                  <a:pt x="138576" y="1404541"/>
                </a:lnTo>
                <a:lnTo>
                  <a:pt x="136591" y="1398985"/>
                </a:lnTo>
                <a:lnTo>
                  <a:pt x="134209" y="1393429"/>
                </a:lnTo>
                <a:lnTo>
                  <a:pt x="132620" y="1387475"/>
                </a:lnTo>
                <a:lnTo>
                  <a:pt x="129047" y="1373982"/>
                </a:lnTo>
                <a:lnTo>
                  <a:pt x="125870" y="1360488"/>
                </a:lnTo>
                <a:lnTo>
                  <a:pt x="122694" y="1346994"/>
                </a:lnTo>
                <a:lnTo>
                  <a:pt x="120311" y="1335485"/>
                </a:lnTo>
                <a:lnTo>
                  <a:pt x="117532" y="1325563"/>
                </a:lnTo>
                <a:lnTo>
                  <a:pt x="109194" y="1300560"/>
                </a:lnTo>
                <a:lnTo>
                  <a:pt x="100458" y="1276350"/>
                </a:lnTo>
                <a:lnTo>
                  <a:pt x="95296" y="1264047"/>
                </a:lnTo>
                <a:lnTo>
                  <a:pt x="90531" y="1252538"/>
                </a:lnTo>
                <a:lnTo>
                  <a:pt x="85767" y="1241425"/>
                </a:lnTo>
                <a:lnTo>
                  <a:pt x="80208" y="1229916"/>
                </a:lnTo>
                <a:lnTo>
                  <a:pt x="77031" y="1223566"/>
                </a:lnTo>
                <a:lnTo>
                  <a:pt x="73458" y="1217216"/>
                </a:lnTo>
                <a:lnTo>
                  <a:pt x="65119" y="1203722"/>
                </a:lnTo>
                <a:lnTo>
                  <a:pt x="55987" y="1190625"/>
                </a:lnTo>
                <a:lnTo>
                  <a:pt x="46457" y="1177132"/>
                </a:lnTo>
                <a:lnTo>
                  <a:pt x="26207" y="1150938"/>
                </a:lnTo>
                <a:lnTo>
                  <a:pt x="6353" y="1125538"/>
                </a:lnTo>
                <a:lnTo>
                  <a:pt x="3574" y="1121172"/>
                </a:lnTo>
                <a:lnTo>
                  <a:pt x="1589" y="1116410"/>
                </a:lnTo>
                <a:lnTo>
                  <a:pt x="397" y="1111250"/>
                </a:lnTo>
                <a:lnTo>
                  <a:pt x="0" y="1106091"/>
                </a:lnTo>
                <a:lnTo>
                  <a:pt x="0" y="1100535"/>
                </a:lnTo>
                <a:lnTo>
                  <a:pt x="794" y="1094582"/>
                </a:lnTo>
                <a:lnTo>
                  <a:pt x="1986" y="1088629"/>
                </a:lnTo>
                <a:lnTo>
                  <a:pt x="3574" y="1083072"/>
                </a:lnTo>
                <a:lnTo>
                  <a:pt x="5559" y="1077516"/>
                </a:lnTo>
                <a:lnTo>
                  <a:pt x="8339" y="1071960"/>
                </a:lnTo>
                <a:lnTo>
                  <a:pt x="11118" y="1066404"/>
                </a:lnTo>
                <a:lnTo>
                  <a:pt x="14295" y="1061641"/>
                </a:lnTo>
                <a:lnTo>
                  <a:pt x="17868" y="1056879"/>
                </a:lnTo>
                <a:lnTo>
                  <a:pt x="21045" y="1052910"/>
                </a:lnTo>
                <a:lnTo>
                  <a:pt x="24618" y="1048941"/>
                </a:lnTo>
                <a:lnTo>
                  <a:pt x="28192" y="1045766"/>
                </a:lnTo>
                <a:lnTo>
                  <a:pt x="33751" y="1041400"/>
                </a:lnTo>
                <a:lnTo>
                  <a:pt x="39310" y="1037432"/>
                </a:lnTo>
                <a:lnTo>
                  <a:pt x="45663" y="1034257"/>
                </a:lnTo>
                <a:lnTo>
                  <a:pt x="52016" y="1031479"/>
                </a:lnTo>
                <a:lnTo>
                  <a:pt x="58369" y="1029097"/>
                </a:lnTo>
                <a:lnTo>
                  <a:pt x="64722" y="1027113"/>
                </a:lnTo>
                <a:lnTo>
                  <a:pt x="71869" y="1025922"/>
                </a:lnTo>
                <a:lnTo>
                  <a:pt x="78619" y="1024732"/>
                </a:lnTo>
                <a:lnTo>
                  <a:pt x="85767" y="1023938"/>
                </a:lnTo>
                <a:lnTo>
                  <a:pt x="92517" y="1023541"/>
                </a:lnTo>
                <a:lnTo>
                  <a:pt x="100061" y="1023938"/>
                </a:lnTo>
                <a:lnTo>
                  <a:pt x="107208" y="1024335"/>
                </a:lnTo>
                <a:lnTo>
                  <a:pt x="114355" y="1024732"/>
                </a:lnTo>
                <a:lnTo>
                  <a:pt x="121503" y="1025922"/>
                </a:lnTo>
                <a:lnTo>
                  <a:pt x="129047" y="1027510"/>
                </a:lnTo>
                <a:lnTo>
                  <a:pt x="136194" y="1029097"/>
                </a:lnTo>
                <a:lnTo>
                  <a:pt x="143341" y="1031082"/>
                </a:lnTo>
                <a:lnTo>
                  <a:pt x="150488" y="1033066"/>
                </a:lnTo>
                <a:lnTo>
                  <a:pt x="157636" y="1035844"/>
                </a:lnTo>
                <a:lnTo>
                  <a:pt x="164783" y="1038622"/>
                </a:lnTo>
                <a:lnTo>
                  <a:pt x="171533" y="1041400"/>
                </a:lnTo>
                <a:lnTo>
                  <a:pt x="177886" y="1044972"/>
                </a:lnTo>
                <a:lnTo>
                  <a:pt x="185033" y="1048544"/>
                </a:lnTo>
                <a:lnTo>
                  <a:pt x="191386" y="1052116"/>
                </a:lnTo>
                <a:lnTo>
                  <a:pt x="197739" y="1055688"/>
                </a:lnTo>
                <a:lnTo>
                  <a:pt x="203695" y="1059657"/>
                </a:lnTo>
                <a:lnTo>
                  <a:pt x="209651" y="1064022"/>
                </a:lnTo>
                <a:lnTo>
                  <a:pt x="215210" y="1067991"/>
                </a:lnTo>
                <a:lnTo>
                  <a:pt x="220769" y="1072754"/>
                </a:lnTo>
                <a:lnTo>
                  <a:pt x="225534" y="1077516"/>
                </a:lnTo>
                <a:lnTo>
                  <a:pt x="230299" y="1081882"/>
                </a:lnTo>
                <a:lnTo>
                  <a:pt x="235064" y="1086644"/>
                </a:lnTo>
                <a:lnTo>
                  <a:pt x="239828" y="1092200"/>
                </a:lnTo>
                <a:lnTo>
                  <a:pt x="244593" y="1097757"/>
                </a:lnTo>
                <a:lnTo>
                  <a:pt x="252932" y="1109663"/>
                </a:lnTo>
                <a:lnTo>
                  <a:pt x="260873" y="1121966"/>
                </a:lnTo>
                <a:lnTo>
                  <a:pt x="268814" y="1135063"/>
                </a:lnTo>
                <a:lnTo>
                  <a:pt x="283903" y="1160463"/>
                </a:lnTo>
                <a:lnTo>
                  <a:pt x="291447" y="1173163"/>
                </a:lnTo>
                <a:lnTo>
                  <a:pt x="299388" y="1185069"/>
                </a:lnTo>
                <a:lnTo>
                  <a:pt x="306139" y="1195785"/>
                </a:lnTo>
                <a:lnTo>
                  <a:pt x="312889" y="1206897"/>
                </a:lnTo>
                <a:lnTo>
                  <a:pt x="327580" y="1230710"/>
                </a:lnTo>
                <a:lnTo>
                  <a:pt x="342272" y="1255713"/>
                </a:lnTo>
                <a:lnTo>
                  <a:pt x="357757" y="1281113"/>
                </a:lnTo>
                <a:lnTo>
                  <a:pt x="365699" y="1293416"/>
                </a:lnTo>
                <a:lnTo>
                  <a:pt x="373640" y="1305719"/>
                </a:lnTo>
                <a:lnTo>
                  <a:pt x="382375" y="1317229"/>
                </a:lnTo>
                <a:lnTo>
                  <a:pt x="390714" y="1328738"/>
                </a:lnTo>
                <a:lnTo>
                  <a:pt x="399846" y="1339454"/>
                </a:lnTo>
                <a:lnTo>
                  <a:pt x="409376" y="1348979"/>
                </a:lnTo>
                <a:lnTo>
                  <a:pt x="418905" y="1358504"/>
                </a:lnTo>
                <a:lnTo>
                  <a:pt x="423670" y="1362472"/>
                </a:lnTo>
                <a:lnTo>
                  <a:pt x="428832" y="1366441"/>
                </a:lnTo>
                <a:lnTo>
                  <a:pt x="437171" y="1372791"/>
                </a:lnTo>
                <a:lnTo>
                  <a:pt x="445112" y="1378744"/>
                </a:lnTo>
                <a:lnTo>
                  <a:pt x="453450" y="1383904"/>
                </a:lnTo>
                <a:lnTo>
                  <a:pt x="462186" y="1388666"/>
                </a:lnTo>
                <a:lnTo>
                  <a:pt x="470921" y="1392635"/>
                </a:lnTo>
                <a:lnTo>
                  <a:pt x="479260" y="1396207"/>
                </a:lnTo>
                <a:lnTo>
                  <a:pt x="488789" y="1399382"/>
                </a:lnTo>
                <a:lnTo>
                  <a:pt x="497525" y="1402160"/>
                </a:lnTo>
                <a:lnTo>
                  <a:pt x="506657" y="1404144"/>
                </a:lnTo>
                <a:lnTo>
                  <a:pt x="516187" y="1405732"/>
                </a:lnTo>
                <a:lnTo>
                  <a:pt x="525716" y="1407319"/>
                </a:lnTo>
                <a:lnTo>
                  <a:pt x="535246" y="1408113"/>
                </a:lnTo>
                <a:lnTo>
                  <a:pt x="545172" y="1408113"/>
                </a:lnTo>
                <a:lnTo>
                  <a:pt x="555099" y="1407716"/>
                </a:lnTo>
                <a:lnTo>
                  <a:pt x="565423" y="1406922"/>
                </a:lnTo>
                <a:lnTo>
                  <a:pt x="575746" y="1404938"/>
                </a:lnTo>
                <a:lnTo>
                  <a:pt x="578923" y="1404541"/>
                </a:lnTo>
                <a:lnTo>
                  <a:pt x="582497" y="1402954"/>
                </a:lnTo>
                <a:lnTo>
                  <a:pt x="586467" y="1401366"/>
                </a:lnTo>
                <a:lnTo>
                  <a:pt x="590041" y="1398985"/>
                </a:lnTo>
                <a:lnTo>
                  <a:pt x="594012" y="1395810"/>
                </a:lnTo>
                <a:lnTo>
                  <a:pt x="597585" y="1392635"/>
                </a:lnTo>
                <a:lnTo>
                  <a:pt x="601556" y="1389460"/>
                </a:lnTo>
                <a:lnTo>
                  <a:pt x="604335" y="1385491"/>
                </a:lnTo>
                <a:lnTo>
                  <a:pt x="609894" y="1379141"/>
                </a:lnTo>
                <a:lnTo>
                  <a:pt x="614659" y="1372394"/>
                </a:lnTo>
                <a:lnTo>
                  <a:pt x="619424" y="1365647"/>
                </a:lnTo>
                <a:lnTo>
                  <a:pt x="623394" y="1358900"/>
                </a:lnTo>
                <a:lnTo>
                  <a:pt x="627762" y="1352154"/>
                </a:lnTo>
                <a:lnTo>
                  <a:pt x="631336" y="1344613"/>
                </a:lnTo>
                <a:lnTo>
                  <a:pt x="634512" y="1337469"/>
                </a:lnTo>
                <a:lnTo>
                  <a:pt x="637292" y="1330325"/>
                </a:lnTo>
                <a:lnTo>
                  <a:pt x="640071" y="1323182"/>
                </a:lnTo>
                <a:lnTo>
                  <a:pt x="642057" y="1315244"/>
                </a:lnTo>
                <a:lnTo>
                  <a:pt x="644042" y="1307704"/>
                </a:lnTo>
                <a:lnTo>
                  <a:pt x="645233" y="1299766"/>
                </a:lnTo>
                <a:lnTo>
                  <a:pt x="646424" y="1291829"/>
                </a:lnTo>
                <a:lnTo>
                  <a:pt x="647218" y="1283891"/>
                </a:lnTo>
                <a:lnTo>
                  <a:pt x="647616" y="1275557"/>
                </a:lnTo>
                <a:lnTo>
                  <a:pt x="648013" y="1267619"/>
                </a:lnTo>
                <a:lnTo>
                  <a:pt x="647616" y="1259682"/>
                </a:lnTo>
                <a:lnTo>
                  <a:pt x="647218" y="1252538"/>
                </a:lnTo>
                <a:lnTo>
                  <a:pt x="646424" y="1245394"/>
                </a:lnTo>
                <a:lnTo>
                  <a:pt x="645233" y="1237457"/>
                </a:lnTo>
                <a:lnTo>
                  <a:pt x="466951" y="280988"/>
                </a:lnTo>
                <a:lnTo>
                  <a:pt x="465362" y="271463"/>
                </a:lnTo>
                <a:lnTo>
                  <a:pt x="464568" y="263128"/>
                </a:lnTo>
                <a:lnTo>
                  <a:pt x="464568" y="254397"/>
                </a:lnTo>
                <a:lnTo>
                  <a:pt x="464965" y="246857"/>
                </a:lnTo>
                <a:lnTo>
                  <a:pt x="465759" y="239316"/>
                </a:lnTo>
                <a:lnTo>
                  <a:pt x="467348" y="232569"/>
                </a:lnTo>
                <a:lnTo>
                  <a:pt x="468936" y="225822"/>
                </a:lnTo>
                <a:lnTo>
                  <a:pt x="471318" y="219869"/>
                </a:lnTo>
                <a:lnTo>
                  <a:pt x="473701" y="214313"/>
                </a:lnTo>
                <a:lnTo>
                  <a:pt x="476480" y="209153"/>
                </a:lnTo>
                <a:lnTo>
                  <a:pt x="479657" y="204391"/>
                </a:lnTo>
                <a:lnTo>
                  <a:pt x="482833" y="199628"/>
                </a:lnTo>
                <a:lnTo>
                  <a:pt x="486407" y="195263"/>
                </a:lnTo>
                <a:lnTo>
                  <a:pt x="490775" y="191691"/>
                </a:lnTo>
                <a:lnTo>
                  <a:pt x="494348" y="188119"/>
                </a:lnTo>
                <a:lnTo>
                  <a:pt x="498319" y="184944"/>
                </a:lnTo>
                <a:lnTo>
                  <a:pt x="502289" y="182166"/>
                </a:lnTo>
                <a:lnTo>
                  <a:pt x="506657" y="179785"/>
                </a:lnTo>
                <a:lnTo>
                  <a:pt x="514201" y="175419"/>
                </a:lnTo>
                <a:lnTo>
                  <a:pt x="522143" y="171450"/>
                </a:lnTo>
                <a:lnTo>
                  <a:pt x="528893" y="169069"/>
                </a:lnTo>
                <a:lnTo>
                  <a:pt x="534849" y="167482"/>
                </a:lnTo>
                <a:lnTo>
                  <a:pt x="539614" y="166291"/>
                </a:lnTo>
                <a:lnTo>
                  <a:pt x="543981" y="165497"/>
                </a:lnTo>
                <a:lnTo>
                  <a:pt x="552320" y="163910"/>
                </a:lnTo>
                <a:lnTo>
                  <a:pt x="561055" y="162719"/>
                </a:lnTo>
                <a:lnTo>
                  <a:pt x="569393" y="162322"/>
                </a:lnTo>
                <a:lnTo>
                  <a:pt x="577732" y="161925"/>
                </a:lnTo>
                <a:close/>
                <a:moveTo>
                  <a:pt x="576263" y="0"/>
                </a:moveTo>
                <a:lnTo>
                  <a:pt x="594539" y="397"/>
                </a:lnTo>
                <a:lnTo>
                  <a:pt x="612419" y="1589"/>
                </a:lnTo>
                <a:lnTo>
                  <a:pt x="630298" y="3973"/>
                </a:lnTo>
                <a:lnTo>
                  <a:pt x="647780" y="7151"/>
                </a:lnTo>
                <a:lnTo>
                  <a:pt x="664864" y="10727"/>
                </a:lnTo>
                <a:lnTo>
                  <a:pt x="681551" y="15098"/>
                </a:lnTo>
                <a:lnTo>
                  <a:pt x="697841" y="20263"/>
                </a:lnTo>
                <a:lnTo>
                  <a:pt x="714131" y="26620"/>
                </a:lnTo>
                <a:lnTo>
                  <a:pt x="729626" y="33374"/>
                </a:lnTo>
                <a:lnTo>
                  <a:pt x="745122" y="41321"/>
                </a:lnTo>
                <a:lnTo>
                  <a:pt x="759822" y="50062"/>
                </a:lnTo>
                <a:lnTo>
                  <a:pt x="774920" y="59200"/>
                </a:lnTo>
                <a:lnTo>
                  <a:pt x="788826" y="69530"/>
                </a:lnTo>
                <a:lnTo>
                  <a:pt x="803130" y="80655"/>
                </a:lnTo>
                <a:lnTo>
                  <a:pt x="816638" y="92575"/>
                </a:lnTo>
                <a:lnTo>
                  <a:pt x="830147" y="105289"/>
                </a:lnTo>
                <a:lnTo>
                  <a:pt x="842464" y="118798"/>
                </a:lnTo>
                <a:lnTo>
                  <a:pt x="854780" y="132307"/>
                </a:lnTo>
                <a:lnTo>
                  <a:pt x="865508" y="146610"/>
                </a:lnTo>
                <a:lnTo>
                  <a:pt x="876235" y="160516"/>
                </a:lnTo>
                <a:lnTo>
                  <a:pt x="885374" y="175615"/>
                </a:lnTo>
                <a:lnTo>
                  <a:pt x="894115" y="190315"/>
                </a:lnTo>
                <a:lnTo>
                  <a:pt x="901664" y="205811"/>
                </a:lnTo>
                <a:lnTo>
                  <a:pt x="908815" y="221306"/>
                </a:lnTo>
                <a:lnTo>
                  <a:pt x="915172" y="237596"/>
                </a:lnTo>
                <a:lnTo>
                  <a:pt x="920337" y="253886"/>
                </a:lnTo>
                <a:lnTo>
                  <a:pt x="924708" y="270574"/>
                </a:lnTo>
                <a:lnTo>
                  <a:pt x="928284" y="287658"/>
                </a:lnTo>
                <a:lnTo>
                  <a:pt x="931462" y="304743"/>
                </a:lnTo>
                <a:lnTo>
                  <a:pt x="933449" y="322622"/>
                </a:lnTo>
                <a:lnTo>
                  <a:pt x="934641" y="340502"/>
                </a:lnTo>
                <a:lnTo>
                  <a:pt x="935038" y="359175"/>
                </a:lnTo>
                <a:lnTo>
                  <a:pt x="934641" y="377452"/>
                </a:lnTo>
                <a:lnTo>
                  <a:pt x="933449" y="395331"/>
                </a:lnTo>
                <a:lnTo>
                  <a:pt x="931462" y="413211"/>
                </a:lnTo>
                <a:lnTo>
                  <a:pt x="928284" y="430693"/>
                </a:lnTo>
                <a:lnTo>
                  <a:pt x="924708" y="447777"/>
                </a:lnTo>
                <a:lnTo>
                  <a:pt x="920337" y="464465"/>
                </a:lnTo>
                <a:lnTo>
                  <a:pt x="915172" y="480755"/>
                </a:lnTo>
                <a:lnTo>
                  <a:pt x="908815" y="496647"/>
                </a:lnTo>
                <a:lnTo>
                  <a:pt x="901664" y="512540"/>
                </a:lnTo>
                <a:lnTo>
                  <a:pt x="894115" y="527638"/>
                </a:lnTo>
                <a:lnTo>
                  <a:pt x="885374" y="543134"/>
                </a:lnTo>
                <a:lnTo>
                  <a:pt x="876235" y="557437"/>
                </a:lnTo>
                <a:lnTo>
                  <a:pt x="865508" y="572138"/>
                </a:lnTo>
                <a:lnTo>
                  <a:pt x="854780" y="585647"/>
                </a:lnTo>
                <a:lnTo>
                  <a:pt x="842464" y="599553"/>
                </a:lnTo>
                <a:lnTo>
                  <a:pt x="830147" y="612664"/>
                </a:lnTo>
                <a:lnTo>
                  <a:pt x="830147" y="613061"/>
                </a:lnTo>
                <a:lnTo>
                  <a:pt x="822201" y="620611"/>
                </a:lnTo>
                <a:lnTo>
                  <a:pt x="813857" y="628160"/>
                </a:lnTo>
                <a:lnTo>
                  <a:pt x="805911" y="634914"/>
                </a:lnTo>
                <a:lnTo>
                  <a:pt x="797964" y="641668"/>
                </a:lnTo>
                <a:lnTo>
                  <a:pt x="791607" y="619419"/>
                </a:lnTo>
                <a:lnTo>
                  <a:pt x="785250" y="597963"/>
                </a:lnTo>
                <a:lnTo>
                  <a:pt x="778496" y="576111"/>
                </a:lnTo>
                <a:lnTo>
                  <a:pt x="771344" y="553861"/>
                </a:lnTo>
                <a:lnTo>
                  <a:pt x="780880" y="543928"/>
                </a:lnTo>
                <a:lnTo>
                  <a:pt x="790018" y="533201"/>
                </a:lnTo>
                <a:lnTo>
                  <a:pt x="798759" y="522473"/>
                </a:lnTo>
                <a:lnTo>
                  <a:pt x="806705" y="511745"/>
                </a:lnTo>
                <a:lnTo>
                  <a:pt x="813857" y="500223"/>
                </a:lnTo>
                <a:lnTo>
                  <a:pt x="820611" y="488701"/>
                </a:lnTo>
                <a:lnTo>
                  <a:pt x="826571" y="476782"/>
                </a:lnTo>
                <a:lnTo>
                  <a:pt x="831736" y="464862"/>
                </a:lnTo>
                <a:lnTo>
                  <a:pt x="836504" y="452545"/>
                </a:lnTo>
                <a:lnTo>
                  <a:pt x="840477" y="439831"/>
                </a:lnTo>
                <a:lnTo>
                  <a:pt x="844053" y="427117"/>
                </a:lnTo>
                <a:lnTo>
                  <a:pt x="846834" y="414005"/>
                </a:lnTo>
                <a:lnTo>
                  <a:pt x="849218" y="400894"/>
                </a:lnTo>
                <a:lnTo>
                  <a:pt x="850807" y="386988"/>
                </a:lnTo>
                <a:lnTo>
                  <a:pt x="851602" y="373479"/>
                </a:lnTo>
                <a:lnTo>
                  <a:pt x="851999" y="359175"/>
                </a:lnTo>
                <a:lnTo>
                  <a:pt x="851602" y="344872"/>
                </a:lnTo>
                <a:lnTo>
                  <a:pt x="850807" y="330966"/>
                </a:lnTo>
                <a:lnTo>
                  <a:pt x="849218" y="317457"/>
                </a:lnTo>
                <a:lnTo>
                  <a:pt x="846834" y="303948"/>
                </a:lnTo>
                <a:lnTo>
                  <a:pt x="844053" y="291234"/>
                </a:lnTo>
                <a:lnTo>
                  <a:pt x="840477" y="278123"/>
                </a:lnTo>
                <a:lnTo>
                  <a:pt x="836504" y="265806"/>
                </a:lnTo>
                <a:lnTo>
                  <a:pt x="831736" y="253092"/>
                </a:lnTo>
                <a:lnTo>
                  <a:pt x="826571" y="241172"/>
                </a:lnTo>
                <a:lnTo>
                  <a:pt x="820611" y="229253"/>
                </a:lnTo>
                <a:lnTo>
                  <a:pt x="813460" y="217730"/>
                </a:lnTo>
                <a:lnTo>
                  <a:pt x="806308" y="206605"/>
                </a:lnTo>
                <a:lnTo>
                  <a:pt x="798759" y="195481"/>
                </a:lnTo>
                <a:lnTo>
                  <a:pt x="789621" y="185150"/>
                </a:lnTo>
                <a:lnTo>
                  <a:pt x="780880" y="174820"/>
                </a:lnTo>
                <a:lnTo>
                  <a:pt x="770947" y="164092"/>
                </a:lnTo>
                <a:lnTo>
                  <a:pt x="760617" y="154556"/>
                </a:lnTo>
                <a:lnTo>
                  <a:pt x="750287" y="145021"/>
                </a:lnTo>
                <a:lnTo>
                  <a:pt x="739559" y="136677"/>
                </a:lnTo>
                <a:lnTo>
                  <a:pt x="728434" y="129128"/>
                </a:lnTo>
                <a:lnTo>
                  <a:pt x="717310" y="121976"/>
                </a:lnTo>
                <a:lnTo>
                  <a:pt x="705788" y="114825"/>
                </a:lnTo>
                <a:lnTo>
                  <a:pt x="693868" y="108865"/>
                </a:lnTo>
                <a:lnTo>
                  <a:pt x="682346" y="103700"/>
                </a:lnTo>
                <a:lnTo>
                  <a:pt x="669632" y="98932"/>
                </a:lnTo>
                <a:lnTo>
                  <a:pt x="657315" y="94959"/>
                </a:lnTo>
                <a:lnTo>
                  <a:pt x="644204" y="91383"/>
                </a:lnTo>
                <a:lnTo>
                  <a:pt x="631490" y="88204"/>
                </a:lnTo>
                <a:lnTo>
                  <a:pt x="617584" y="86218"/>
                </a:lnTo>
                <a:lnTo>
                  <a:pt x="604472" y="84628"/>
                </a:lnTo>
                <a:lnTo>
                  <a:pt x="590169" y="83436"/>
                </a:lnTo>
                <a:lnTo>
                  <a:pt x="576263" y="83436"/>
                </a:lnTo>
                <a:lnTo>
                  <a:pt x="561960" y="83436"/>
                </a:lnTo>
                <a:lnTo>
                  <a:pt x="548451" y="84628"/>
                </a:lnTo>
                <a:lnTo>
                  <a:pt x="534545" y="86218"/>
                </a:lnTo>
                <a:lnTo>
                  <a:pt x="521434" y="88204"/>
                </a:lnTo>
                <a:lnTo>
                  <a:pt x="507925" y="91383"/>
                </a:lnTo>
                <a:lnTo>
                  <a:pt x="495211" y="94959"/>
                </a:lnTo>
                <a:lnTo>
                  <a:pt x="482497" y="98932"/>
                </a:lnTo>
                <a:lnTo>
                  <a:pt x="470578" y="103700"/>
                </a:lnTo>
                <a:lnTo>
                  <a:pt x="458658" y="108865"/>
                </a:lnTo>
                <a:lnTo>
                  <a:pt x="446341" y="114825"/>
                </a:lnTo>
                <a:lnTo>
                  <a:pt x="435217" y="121976"/>
                </a:lnTo>
                <a:lnTo>
                  <a:pt x="423694" y="129128"/>
                </a:lnTo>
                <a:lnTo>
                  <a:pt x="412967" y="136677"/>
                </a:lnTo>
                <a:lnTo>
                  <a:pt x="401842" y="145021"/>
                </a:lnTo>
                <a:lnTo>
                  <a:pt x="391512" y="154556"/>
                </a:lnTo>
                <a:lnTo>
                  <a:pt x="381579" y="164092"/>
                </a:lnTo>
                <a:lnTo>
                  <a:pt x="381182" y="164092"/>
                </a:lnTo>
                <a:lnTo>
                  <a:pt x="371249" y="174820"/>
                </a:lnTo>
                <a:lnTo>
                  <a:pt x="362111" y="185150"/>
                </a:lnTo>
                <a:lnTo>
                  <a:pt x="353767" y="195481"/>
                </a:lnTo>
                <a:lnTo>
                  <a:pt x="345821" y="207003"/>
                </a:lnTo>
                <a:lnTo>
                  <a:pt x="338669" y="218128"/>
                </a:lnTo>
                <a:lnTo>
                  <a:pt x="331915" y="229253"/>
                </a:lnTo>
                <a:lnTo>
                  <a:pt x="325955" y="241172"/>
                </a:lnTo>
                <a:lnTo>
                  <a:pt x="320790" y="253092"/>
                </a:lnTo>
                <a:lnTo>
                  <a:pt x="315625" y="265806"/>
                </a:lnTo>
                <a:lnTo>
                  <a:pt x="311652" y="278123"/>
                </a:lnTo>
                <a:lnTo>
                  <a:pt x="308473" y="291234"/>
                </a:lnTo>
                <a:lnTo>
                  <a:pt x="305692" y="303948"/>
                </a:lnTo>
                <a:lnTo>
                  <a:pt x="303308" y="317457"/>
                </a:lnTo>
                <a:lnTo>
                  <a:pt x="301719" y="330966"/>
                </a:lnTo>
                <a:lnTo>
                  <a:pt x="300924" y="345269"/>
                </a:lnTo>
                <a:lnTo>
                  <a:pt x="300527" y="359175"/>
                </a:lnTo>
                <a:lnTo>
                  <a:pt x="300924" y="373479"/>
                </a:lnTo>
                <a:lnTo>
                  <a:pt x="301719" y="386988"/>
                </a:lnTo>
                <a:lnTo>
                  <a:pt x="303308" y="400894"/>
                </a:lnTo>
                <a:lnTo>
                  <a:pt x="305692" y="414005"/>
                </a:lnTo>
                <a:lnTo>
                  <a:pt x="308473" y="427514"/>
                </a:lnTo>
                <a:lnTo>
                  <a:pt x="311652" y="440228"/>
                </a:lnTo>
                <a:lnTo>
                  <a:pt x="315625" y="452545"/>
                </a:lnTo>
                <a:lnTo>
                  <a:pt x="320790" y="464862"/>
                </a:lnTo>
                <a:lnTo>
                  <a:pt x="325955" y="476782"/>
                </a:lnTo>
                <a:lnTo>
                  <a:pt x="331915" y="489098"/>
                </a:lnTo>
                <a:lnTo>
                  <a:pt x="338669" y="500223"/>
                </a:lnTo>
                <a:lnTo>
                  <a:pt x="345821" y="511745"/>
                </a:lnTo>
                <a:lnTo>
                  <a:pt x="353767" y="522870"/>
                </a:lnTo>
                <a:lnTo>
                  <a:pt x="362111" y="533201"/>
                </a:lnTo>
                <a:lnTo>
                  <a:pt x="371249" y="543928"/>
                </a:lnTo>
                <a:lnTo>
                  <a:pt x="381182" y="554258"/>
                </a:lnTo>
                <a:lnTo>
                  <a:pt x="387539" y="560218"/>
                </a:lnTo>
                <a:lnTo>
                  <a:pt x="393896" y="566575"/>
                </a:lnTo>
                <a:lnTo>
                  <a:pt x="400650" y="572138"/>
                </a:lnTo>
                <a:lnTo>
                  <a:pt x="407405" y="577700"/>
                </a:lnTo>
                <a:lnTo>
                  <a:pt x="414159" y="582468"/>
                </a:lnTo>
                <a:lnTo>
                  <a:pt x="420913" y="587633"/>
                </a:lnTo>
                <a:lnTo>
                  <a:pt x="428065" y="592401"/>
                </a:lnTo>
                <a:lnTo>
                  <a:pt x="435614" y="597169"/>
                </a:lnTo>
                <a:lnTo>
                  <a:pt x="442368" y="601142"/>
                </a:lnTo>
                <a:lnTo>
                  <a:pt x="449917" y="605115"/>
                </a:lnTo>
                <a:lnTo>
                  <a:pt x="457069" y="608691"/>
                </a:lnTo>
                <a:lnTo>
                  <a:pt x="465015" y="612267"/>
                </a:lnTo>
                <a:lnTo>
                  <a:pt x="472564" y="615445"/>
                </a:lnTo>
                <a:lnTo>
                  <a:pt x="480113" y="618227"/>
                </a:lnTo>
                <a:lnTo>
                  <a:pt x="488457" y="621008"/>
                </a:lnTo>
                <a:lnTo>
                  <a:pt x="496403" y="623789"/>
                </a:lnTo>
                <a:lnTo>
                  <a:pt x="498787" y="634914"/>
                </a:lnTo>
                <a:lnTo>
                  <a:pt x="501171" y="645642"/>
                </a:lnTo>
                <a:lnTo>
                  <a:pt x="505541" y="667891"/>
                </a:lnTo>
                <a:lnTo>
                  <a:pt x="508720" y="690141"/>
                </a:lnTo>
                <a:lnTo>
                  <a:pt x="511501" y="712788"/>
                </a:lnTo>
                <a:lnTo>
                  <a:pt x="498390" y="710404"/>
                </a:lnTo>
                <a:lnTo>
                  <a:pt x="484881" y="707226"/>
                </a:lnTo>
                <a:lnTo>
                  <a:pt x="472167" y="703253"/>
                </a:lnTo>
                <a:lnTo>
                  <a:pt x="459453" y="699279"/>
                </a:lnTo>
                <a:lnTo>
                  <a:pt x="446739" y="694909"/>
                </a:lnTo>
                <a:lnTo>
                  <a:pt x="434819" y="690141"/>
                </a:lnTo>
                <a:lnTo>
                  <a:pt x="422503" y="684579"/>
                </a:lnTo>
                <a:lnTo>
                  <a:pt x="410583" y="678619"/>
                </a:lnTo>
                <a:lnTo>
                  <a:pt x="398664" y="671864"/>
                </a:lnTo>
                <a:lnTo>
                  <a:pt x="387142" y="665110"/>
                </a:lnTo>
                <a:lnTo>
                  <a:pt x="376017" y="657561"/>
                </a:lnTo>
                <a:lnTo>
                  <a:pt x="364892" y="649615"/>
                </a:lnTo>
                <a:lnTo>
                  <a:pt x="354164" y="641271"/>
                </a:lnTo>
                <a:lnTo>
                  <a:pt x="343040" y="632133"/>
                </a:lnTo>
                <a:lnTo>
                  <a:pt x="332709" y="622994"/>
                </a:lnTo>
                <a:lnTo>
                  <a:pt x="322379" y="612664"/>
                </a:lnTo>
                <a:lnTo>
                  <a:pt x="309665" y="599553"/>
                </a:lnTo>
                <a:lnTo>
                  <a:pt x="297746" y="585647"/>
                </a:lnTo>
                <a:lnTo>
                  <a:pt x="286621" y="572138"/>
                </a:lnTo>
                <a:lnTo>
                  <a:pt x="276291" y="557437"/>
                </a:lnTo>
                <a:lnTo>
                  <a:pt x="267153" y="543134"/>
                </a:lnTo>
                <a:lnTo>
                  <a:pt x="258412" y="527638"/>
                </a:lnTo>
                <a:lnTo>
                  <a:pt x="250465" y="512540"/>
                </a:lnTo>
                <a:lnTo>
                  <a:pt x="243711" y="496647"/>
                </a:lnTo>
                <a:lnTo>
                  <a:pt x="237751" y="480755"/>
                </a:lnTo>
                <a:lnTo>
                  <a:pt x="231792" y="464465"/>
                </a:lnTo>
                <a:lnTo>
                  <a:pt x="227421" y="447777"/>
                </a:lnTo>
                <a:lnTo>
                  <a:pt x="223845" y="430693"/>
                </a:lnTo>
                <a:lnTo>
                  <a:pt x="221064" y="413211"/>
                </a:lnTo>
                <a:lnTo>
                  <a:pt x="219078" y="395331"/>
                </a:lnTo>
                <a:lnTo>
                  <a:pt x="217886" y="377452"/>
                </a:lnTo>
                <a:lnTo>
                  <a:pt x="217488" y="359175"/>
                </a:lnTo>
                <a:lnTo>
                  <a:pt x="217886" y="340502"/>
                </a:lnTo>
                <a:lnTo>
                  <a:pt x="219078" y="322622"/>
                </a:lnTo>
                <a:lnTo>
                  <a:pt x="221064" y="304743"/>
                </a:lnTo>
                <a:lnTo>
                  <a:pt x="223845" y="287658"/>
                </a:lnTo>
                <a:lnTo>
                  <a:pt x="227421" y="270574"/>
                </a:lnTo>
                <a:lnTo>
                  <a:pt x="231792" y="253886"/>
                </a:lnTo>
                <a:lnTo>
                  <a:pt x="237751" y="237596"/>
                </a:lnTo>
                <a:lnTo>
                  <a:pt x="243711" y="221306"/>
                </a:lnTo>
                <a:lnTo>
                  <a:pt x="250465" y="205811"/>
                </a:lnTo>
                <a:lnTo>
                  <a:pt x="258412" y="190315"/>
                </a:lnTo>
                <a:lnTo>
                  <a:pt x="267153" y="175615"/>
                </a:lnTo>
                <a:lnTo>
                  <a:pt x="276291" y="160516"/>
                </a:lnTo>
                <a:lnTo>
                  <a:pt x="286621" y="146610"/>
                </a:lnTo>
                <a:lnTo>
                  <a:pt x="297746" y="132307"/>
                </a:lnTo>
                <a:lnTo>
                  <a:pt x="309665" y="118798"/>
                </a:lnTo>
                <a:lnTo>
                  <a:pt x="322379" y="105289"/>
                </a:lnTo>
                <a:lnTo>
                  <a:pt x="335491" y="92575"/>
                </a:lnTo>
                <a:lnTo>
                  <a:pt x="349397" y="80655"/>
                </a:lnTo>
                <a:lnTo>
                  <a:pt x="363303" y="69530"/>
                </a:lnTo>
                <a:lnTo>
                  <a:pt x="378003" y="59200"/>
                </a:lnTo>
                <a:lnTo>
                  <a:pt x="392307" y="50062"/>
                </a:lnTo>
                <a:lnTo>
                  <a:pt x="407405" y="41321"/>
                </a:lnTo>
                <a:lnTo>
                  <a:pt x="422900" y="33374"/>
                </a:lnTo>
                <a:lnTo>
                  <a:pt x="438395" y="26620"/>
                </a:lnTo>
                <a:lnTo>
                  <a:pt x="454288" y="20263"/>
                </a:lnTo>
                <a:lnTo>
                  <a:pt x="470975" y="15098"/>
                </a:lnTo>
                <a:lnTo>
                  <a:pt x="487662" y="10727"/>
                </a:lnTo>
                <a:lnTo>
                  <a:pt x="504747" y="7151"/>
                </a:lnTo>
                <a:lnTo>
                  <a:pt x="522228" y="3973"/>
                </a:lnTo>
                <a:lnTo>
                  <a:pt x="539710" y="1589"/>
                </a:lnTo>
                <a:lnTo>
                  <a:pt x="557589" y="397"/>
                </a:lnTo>
                <a:lnTo>
                  <a:pt x="576263" y="0"/>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Tree>
  </p:cSld>
  <p:transition>
    <p:push dir="u"/>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2" presetSubtype="4">
                                  <p:stCondLst>
                                    <p:cond delay="0"/>
                                  </p:stCondLst>
                                  <p:childTnLst>
                                    <p:set>
                                      <p:cBhvr>
                                        <p:cTn id="68" dur="1" fill="hold">
                                          <p:stCondLst>
                                            <p:cond delay="0"/>
                                          </p:stCondLst>
                                        </p:cTn>
                                        <p:tgtEl>
                                          <p:spTgt spid="103">
                                            <p:txEl>
                                              <p:pRg st="0" end="0"/>
                                            </p:txEl>
                                          </p:spTgt>
                                        </p:tgtEl>
                                        <p:attrNameLst>
                                          <p:attrName>style.visibility</p:attrName>
                                        </p:attrNameLst>
                                      </p:cBhvr>
                                      <p:to>
                                        <p:strVal val="visible"/>
                                      </p:to>
                                    </p:set>
                                    <p:anim calcmode="lin" valueType="num">
                                      <p:cBhvr additive="repl">
                                        <p:cTn id="69"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03">
                                            <p:txEl>
                                              <p:pRg st="0" end="0"/>
                                            </p:txEl>
                                          </p:spTgt>
                                        </p:tgtEl>
                                        <p:attrNameLst>
                                          <p:attrName>ppt_y</p:attrName>
                                        </p:attrNameLst>
                                      </p:cBhvr>
                                      <p:tavLst>
                                        <p:tav tm="0">
                                          <p:val>
                                            <p:strVal val="1+#ppt_h/2"/>
                                          </p:val>
                                        </p:tav>
                                        <p:tav tm="100000">
                                          <p:val>
                                            <p:strVal val="#ppt_y"/>
                                          </p:val>
                                        </p:tav>
                                      </p:tavLst>
                                    </p:anim>
                                  </p:childTnLst>
                                </p:cTn>
                              </p:par>
                              <p:par>
                                <p:cTn id="71" dur="indefinite" nodeType="withEffect" fill="hold" presetClass="entr" presetID="2" presetSubtype="4">
                                  <p:stCondLst>
                                    <p:cond delay="0"/>
                                  </p:stCondLst>
                                  <p:childTnLst>
                                    <p:set>
                                      <p:cBhvr>
                                        <p:cTn id="72" dur="1" fill="hold">
                                          <p:stCondLst>
                                            <p:cond delay="0"/>
                                          </p:stCondLst>
                                        </p:cTn>
                                        <p:tgtEl>
                                          <p:spTgt spid="108">
                                            <p:txEl>
                                              <p:pRg st="1" end="1"/>
                                            </p:txEl>
                                          </p:spTgt>
                                        </p:tgtEl>
                                        <p:attrNameLst>
                                          <p:attrName>style.visibility</p:attrName>
                                        </p:attrNameLst>
                                      </p:cBhvr>
                                      <p:to>
                                        <p:strVal val="visible"/>
                                      </p:to>
                                    </p:set>
                                    <p:anim calcmode="lin" valueType="num">
                                      <p:cBhvr additive="repl">
                                        <p:cTn id="73"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108">
                                            <p:txEl>
                                              <p:pRg st="1" end="1"/>
                                            </p:txEl>
                                          </p:spTgt>
                                        </p:tgtEl>
                                        <p:attrNameLst>
                                          <p:attrName>ppt_y</p:attrName>
                                        </p:attrNameLst>
                                      </p:cBhvr>
                                      <p:tavLst>
                                        <p:tav tm="0">
                                          <p:val>
                                            <p:strVal val="1+#ppt_h/2"/>
                                          </p:val>
                                        </p:tav>
                                        <p:tav tm="100000">
                                          <p:val>
                                            <p:strVal val="#ppt_y"/>
                                          </p:val>
                                        </p:tav>
                                      </p:tavLst>
                                    </p:anim>
                                  </p:childTnLst>
                                </p:cTn>
                              </p:par>
                              <p:par>
                                <p:cTn id="75" dur="indefinite" nodeType="withEffect" fill="hold" presetClass="entr" presetID="2" presetSubtype="4">
                                  <p:stCondLst>
                                    <p:cond delay="0"/>
                                  </p:stCondLst>
                                  <p:childTnLst>
                                    <p:set>
                                      <p:cBhvr>
                                        <p:cTn id="76" dur="1" fill="hold">
                                          <p:stCondLst>
                                            <p:cond delay="0"/>
                                          </p:stCondLst>
                                        </p:cTn>
                                        <p:tgtEl>
                                          <p:spTgt spid="108">
                                            <p:txEl>
                                              <p:pRg st="2" end="2"/>
                                            </p:txEl>
                                          </p:spTgt>
                                        </p:tgtEl>
                                        <p:attrNameLst>
                                          <p:attrName>style.visibility</p:attrName>
                                        </p:attrNameLst>
                                      </p:cBhvr>
                                      <p:to>
                                        <p:strVal val="visible"/>
                                      </p:to>
                                    </p:set>
                                    <p:anim calcmode="lin" valueType="num">
                                      <p:cBhvr additive="repl">
                                        <p:cTn id="77"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108">
                                            <p:txEl>
                                              <p:pRg st="2" end="2"/>
                                            </p:txEl>
                                          </p:spTgt>
                                        </p:tgtEl>
                                        <p:attrNameLst>
                                          <p:attrName>ppt_y</p:attrName>
                                        </p:attrNameLst>
                                      </p:cBhvr>
                                      <p:tavLst>
                                        <p:tav tm="0">
                                          <p:val>
                                            <p:strVal val="1+#ppt_h/2"/>
                                          </p:val>
                                        </p:tav>
                                        <p:tav tm="100000">
                                          <p:val>
                                            <p:strVal val="#ppt_y"/>
                                          </p:val>
                                        </p:tav>
                                      </p:tavLst>
                                    </p:anim>
                                  </p:childTnLst>
                                </p:cTn>
                              </p:par>
                              <p:par>
                                <p:cTn id="79" dur="indefinite" nodeType="withEffect" fill="hold" presetClass="entr" presetID="2" presetSubtype="4">
                                  <p:stCondLst>
                                    <p:cond delay="0"/>
                                  </p:stCondLst>
                                  <p:childTnLst>
                                    <p:set>
                                      <p:cBhvr>
                                        <p:cTn id="80" dur="1" fill="hold">
                                          <p:stCondLst>
                                            <p:cond delay="0"/>
                                          </p:stCondLst>
                                        </p:cTn>
                                        <p:tgtEl>
                                          <p:spTgt spid="108">
                                            <p:txEl>
                                              <p:pRg st="3" end="3"/>
                                            </p:txEl>
                                          </p:spTgt>
                                        </p:tgtEl>
                                        <p:attrNameLst>
                                          <p:attrName>style.visibility</p:attrName>
                                        </p:attrNameLst>
                                      </p:cBhvr>
                                      <p:to>
                                        <p:strVal val="visible"/>
                                      </p:to>
                                    </p:set>
                                    <p:anim calcmode="lin" valueType="num">
                                      <p:cBhvr additive="repl">
                                        <p:cTn id="81"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08">
                                            <p:txEl>
                                              <p:pRg st="3" end="3"/>
                                            </p:txEl>
                                          </p:spTgt>
                                        </p:tgtEl>
                                        <p:attrNameLst>
                                          <p:attrName>ppt_y</p:attrName>
                                        </p:attrNameLst>
                                      </p:cBhvr>
                                      <p:tavLst>
                                        <p:tav tm="0">
                                          <p:val>
                                            <p:strVal val="1+#ppt_h/2"/>
                                          </p:val>
                                        </p:tav>
                                        <p:tav tm="100000">
                                          <p:val>
                                            <p:strVal val="#ppt_y"/>
                                          </p:val>
                                        </p:tav>
                                      </p:tavLst>
                                    </p:anim>
                                  </p:childTnLst>
                                </p:cTn>
                              </p:par>
                              <p:par>
                                <p:cTn id="83" dur="indefinite" nodeType="withEffect" fill="hold" presetClass="entr" presetID="2" presetSubtype="4">
                                  <p:stCondLst>
                                    <p:cond delay="0"/>
                                  </p:stCondLst>
                                  <p:childTnLst>
                                    <p:set>
                                      <p:cBhvr>
                                        <p:cTn id="84" dur="1" fill="hold">
                                          <p:stCondLst>
                                            <p:cond delay="0"/>
                                          </p:stCondLst>
                                        </p:cTn>
                                        <p:tgtEl>
                                          <p:spTgt spid="108">
                                            <p:txEl>
                                              <p:pRg st="4" end="4"/>
                                            </p:txEl>
                                          </p:spTgt>
                                        </p:tgtEl>
                                        <p:attrNameLst>
                                          <p:attrName>style.visibility</p:attrName>
                                        </p:attrNameLst>
                                      </p:cBhvr>
                                      <p:to>
                                        <p:strVal val="visible"/>
                                      </p:to>
                                    </p:set>
                                    <p:anim calcmode="lin" valueType="num">
                                      <p:cBhvr additive="repl">
                                        <p:cTn id="85"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108">
                                            <p:txEl>
                                              <p:pRg st="4" end="4"/>
                                            </p:txEl>
                                          </p:spTgt>
                                        </p:tgtEl>
                                        <p:attrNameLst>
                                          <p:attrName>ppt_y</p:attrName>
                                        </p:attrNameLst>
                                      </p:cBhvr>
                                      <p:tavLst>
                                        <p:tav tm="0">
                                          <p:val>
                                            <p:strVal val="1+#ppt_h/2"/>
                                          </p:val>
                                        </p:tav>
                                        <p:tav tm="100000">
                                          <p:val>
                                            <p:strVal val="#ppt_y"/>
                                          </p:val>
                                        </p:tav>
                                      </p:tavLst>
                                    </p:anim>
                                  </p:childTnLst>
                                </p:cTn>
                              </p:par>
                              <p:par>
                                <p:cTn id="87" dur="indefinite" nodeType="withEffect" fill="hold" presetClass="entr" presetID="2" presetSubtype="4">
                                  <p:stCondLst>
                                    <p:cond delay="0"/>
                                  </p:stCondLst>
                                  <p:childTnLst>
                                    <p:set>
                                      <p:cBhvr>
                                        <p:cTn id="88" dur="1" fill="hold">
                                          <p:stCondLst>
                                            <p:cond delay="0"/>
                                          </p:stCondLst>
                                        </p:cTn>
                                        <p:tgtEl>
                                          <p:spTgt spid="108">
                                            <p:txEl>
                                              <p:pRg st="5" end="5"/>
                                            </p:txEl>
                                          </p:spTgt>
                                        </p:tgtEl>
                                        <p:attrNameLst>
                                          <p:attrName>style.visibility</p:attrName>
                                        </p:attrNameLst>
                                      </p:cBhvr>
                                      <p:to>
                                        <p:strVal val="visible"/>
                                      </p:to>
                                    </p:set>
                                    <p:anim calcmode="lin" valueType="num">
                                      <p:cBhvr additive="repl">
                                        <p:cTn id="89" dur="5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108">
                                            <p:txEl>
                                              <p:pRg st="5" end="5"/>
                                            </p:txEl>
                                          </p:spTgt>
                                        </p:tgtEl>
                                        <p:attrNameLst>
                                          <p:attrName>ppt_y</p:attrName>
                                        </p:attrNameLst>
                                      </p:cBhvr>
                                      <p:tavLst>
                                        <p:tav tm="0">
                                          <p:val>
                                            <p:strVal val="1+#ppt_h/2"/>
                                          </p:val>
                                        </p:tav>
                                        <p:tav tm="100000">
                                          <p:val>
                                            <p:strVal val="#ppt_y"/>
                                          </p:val>
                                        </p:tav>
                                      </p:tavLst>
                                    </p:anim>
                                  </p:childTnLst>
                                </p:cTn>
                              </p:par>
                              <p:par>
                                <p:cTn id="91" dur="indefinite" nodeType="withEffect" fill="hold" presetClass="entr" presetID="2" presetSubtype="4">
                                  <p:stCondLst>
                                    <p:cond delay="0"/>
                                  </p:stCondLst>
                                  <p:childTnLst>
                                    <p:set>
                                      <p:cBhvr>
                                        <p:cTn id="92" dur="1" fill="hold">
                                          <p:stCondLst>
                                            <p:cond delay="0"/>
                                          </p:stCondLst>
                                        </p:cTn>
                                        <p:tgtEl>
                                          <p:spTgt spid="108">
                                            <p:txEl>
                                              <p:pRg st="6" end="6"/>
                                            </p:txEl>
                                          </p:spTgt>
                                        </p:tgtEl>
                                        <p:attrNameLst>
                                          <p:attrName>style.visibility</p:attrName>
                                        </p:attrNameLst>
                                      </p:cBhvr>
                                      <p:to>
                                        <p:strVal val="visible"/>
                                      </p:to>
                                    </p:set>
                                    <p:anim calcmode="lin" valueType="num">
                                      <p:cBhvr additive="repl">
                                        <p:cTn id="93" dur="5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repl">
                                        <p:cTn id="94" dur="500" fill="hold"/>
                                        <p:tgtEl>
                                          <p:spTgt spid="108">
                                            <p:txEl>
                                              <p:pRg st="6" end="6"/>
                                            </p:txEl>
                                          </p:spTgt>
                                        </p:tgtEl>
                                        <p:attrNameLst>
                                          <p:attrName>ppt_y</p:attrName>
                                        </p:attrNameLst>
                                      </p:cBhvr>
                                      <p:tavLst>
                                        <p:tav tm="0">
                                          <p:val>
                                            <p:strVal val="1+#ppt_h/2"/>
                                          </p:val>
                                        </p:tav>
                                        <p:tav tm="100000">
                                          <p:val>
                                            <p:strVal val="#ppt_y"/>
                                          </p:val>
                                        </p:tav>
                                      </p:tavLst>
                                    </p:anim>
                                  </p:childTnLst>
                                </p:cTn>
                              </p:par>
                              <p:par>
                                <p:cTn id="95" dur="indefinite" nodeType="withEffect" fill="hold" presetClass="entr" presetID="2" presetSubtype="4">
                                  <p:stCondLst>
                                    <p:cond delay="0"/>
                                  </p:stCondLst>
                                  <p:childTnLst>
                                    <p:set>
                                      <p:cBhvr>
                                        <p:cTn id="96" dur="1" fill="hold">
                                          <p:stCondLst>
                                            <p:cond delay="0"/>
                                          </p:stCondLst>
                                        </p:cTn>
                                        <p:tgtEl>
                                          <p:spTgt spid="108">
                                            <p:txEl>
                                              <p:pRg st="7" end="7"/>
                                            </p:txEl>
                                          </p:spTgt>
                                        </p:tgtEl>
                                        <p:attrNameLst>
                                          <p:attrName>style.visibility</p:attrName>
                                        </p:attrNameLst>
                                      </p:cBhvr>
                                      <p:to>
                                        <p:strVal val="visible"/>
                                      </p:to>
                                    </p:set>
                                    <p:anim calcmode="lin" valueType="num">
                                      <p:cBhvr additive="repl">
                                        <p:cTn id="97" dur="500" fill="hold"/>
                                        <p:tgtEl>
                                          <p:spTgt spid="108">
                                            <p:txEl>
                                              <p:pRg st="7" end="7"/>
                                            </p:txEl>
                                          </p:spTgt>
                                        </p:tgtEl>
                                        <p:attrNameLst>
                                          <p:attrName>ppt_x</p:attrName>
                                        </p:attrNameLst>
                                      </p:cBhvr>
                                      <p:tavLst>
                                        <p:tav tm="0">
                                          <p:val>
                                            <p:strVal val="#ppt_x"/>
                                          </p:val>
                                        </p:tav>
                                        <p:tav tm="100000">
                                          <p:val>
                                            <p:strVal val="#ppt_x"/>
                                          </p:val>
                                        </p:tav>
                                      </p:tavLst>
                                    </p:anim>
                                    <p:anim calcmode="lin" valueType="num">
                                      <p:cBhvr additive="repl">
                                        <p:cTn id="98" dur="500" fill="hold"/>
                                        <p:tgtEl>
                                          <p:spTgt spid="108">
                                            <p:txEl>
                                              <p:pRg st="7" end="7"/>
                                            </p:txEl>
                                          </p:spTgt>
                                        </p:tgtEl>
                                        <p:attrNameLst>
                                          <p:attrName>ppt_y</p:attrName>
                                        </p:attrNameLst>
                                      </p:cBhvr>
                                      <p:tavLst>
                                        <p:tav tm="0">
                                          <p:val>
                                            <p:strVal val="1+#ppt_h/2"/>
                                          </p:val>
                                        </p:tav>
                                        <p:tav tm="100000">
                                          <p:val>
                                            <p:strVal val="#ppt_y"/>
                                          </p:val>
                                        </p:tav>
                                      </p:tavLst>
                                    </p:anim>
                                  </p:childTnLst>
                                </p:cTn>
                              </p:par>
                              <p:par>
                                <p:cTn id="99" dur="indefinite" nodeType="withEffect" fill="hold" presetClass="entr" presetID="2" presetSubtype="4">
                                  <p:stCondLst>
                                    <p:cond delay="0"/>
                                  </p:stCondLst>
                                  <p:childTnLst>
                                    <p:set>
                                      <p:cBhvr>
                                        <p:cTn id="100" dur="1" fill="hold">
                                          <p:stCondLst>
                                            <p:cond delay="0"/>
                                          </p:stCondLst>
                                        </p:cTn>
                                        <p:tgtEl>
                                          <p:spTgt spid="108">
                                            <p:txEl>
                                              <p:pRg st="8" end="8"/>
                                            </p:txEl>
                                          </p:spTgt>
                                        </p:tgtEl>
                                        <p:attrNameLst>
                                          <p:attrName>style.visibility</p:attrName>
                                        </p:attrNameLst>
                                      </p:cBhvr>
                                      <p:to>
                                        <p:strVal val="visible"/>
                                      </p:to>
                                    </p:set>
                                    <p:anim calcmode="lin" valueType="num">
                                      <p:cBhvr additive="repl">
                                        <p:cTn id="101" dur="500" fill="hold"/>
                                        <p:tgtEl>
                                          <p:spTgt spid="108">
                                            <p:txEl>
                                              <p:pRg st="8" end="8"/>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108">
                                            <p:txEl>
                                              <p:pRg st="8" end="8"/>
                                            </p:txEl>
                                          </p:spTgt>
                                        </p:tgtEl>
                                        <p:attrNameLst>
                                          <p:attrName>ppt_y</p:attrName>
                                        </p:attrNameLst>
                                      </p:cBhvr>
                                      <p:tavLst>
                                        <p:tav tm="0">
                                          <p:val>
                                            <p:strVal val="1+#ppt_h/2"/>
                                          </p:val>
                                        </p:tav>
                                        <p:tav tm="100000">
                                          <p:val>
                                            <p:strVal val="#ppt_y"/>
                                          </p:val>
                                        </p:tav>
                                      </p:tavLst>
                                    </p:anim>
                                  </p:childTnLst>
                                </p:cTn>
                              </p:par>
                              <p:par>
                                <p:cTn id="103" dur="indefinite" nodeType="withEffect" fill="hold" presetClass="entr" presetID="2" presetSubtype="4">
                                  <p:stCondLst>
                                    <p:cond delay="0"/>
                                  </p:stCondLst>
                                  <p:childTnLst>
                                    <p:set>
                                      <p:cBhvr>
                                        <p:cTn id="104" dur="1" fill="hold">
                                          <p:stCondLst>
                                            <p:cond delay="0"/>
                                          </p:stCondLst>
                                        </p:cTn>
                                        <p:tgtEl>
                                          <p:spTgt spid="108">
                                            <p:txEl>
                                              <p:pRg st="9" end="9"/>
                                            </p:txEl>
                                          </p:spTgt>
                                        </p:tgtEl>
                                        <p:attrNameLst>
                                          <p:attrName>style.visibility</p:attrName>
                                        </p:attrNameLst>
                                      </p:cBhvr>
                                      <p:to>
                                        <p:strVal val="visible"/>
                                      </p:to>
                                    </p:set>
                                    <p:anim calcmode="lin" valueType="num">
                                      <p:cBhvr additive="repl">
                                        <p:cTn id="105" dur="500" fill="hold"/>
                                        <p:tgtEl>
                                          <p:spTgt spid="108">
                                            <p:txEl>
                                              <p:pRg st="9" end="9"/>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08">
                                            <p:txEl>
                                              <p:pRg st="9" end="9"/>
                                            </p:txEl>
                                          </p:spTgt>
                                        </p:tgtEl>
                                        <p:attrNameLst>
                                          <p:attrName>ppt_y</p:attrName>
                                        </p:attrNameLst>
                                      </p:cBhvr>
                                      <p:tavLst>
                                        <p:tav tm="0">
                                          <p:val>
                                            <p:strVal val="1+#ppt_h/2"/>
                                          </p:val>
                                        </p:tav>
                                        <p:tav tm="100000">
                                          <p:val>
                                            <p:strVal val="#ppt_y"/>
                                          </p:val>
                                        </p:tav>
                                      </p:tavLst>
                                    </p:anim>
                                  </p:childTnLst>
                                </p:cTn>
                              </p:par>
                              <p:par>
                                <p:cTn id="107" dur="indefinite" nodeType="withEffect" fill="hold" presetClass="entr" presetID="2" presetSubtype="4">
                                  <p:stCondLst>
                                    <p:cond delay="0"/>
                                  </p:stCondLst>
                                  <p:childTnLst>
                                    <p:set>
                                      <p:cBhvr>
                                        <p:cTn id="108" dur="1" fill="hold">
                                          <p:stCondLst>
                                            <p:cond delay="0"/>
                                          </p:stCondLst>
                                        </p:cTn>
                                        <p:tgtEl>
                                          <p:spTgt spid="108">
                                            <p:txEl>
                                              <p:pRg st="10" end="10"/>
                                            </p:txEl>
                                          </p:spTgt>
                                        </p:tgtEl>
                                        <p:attrNameLst>
                                          <p:attrName>style.visibility</p:attrName>
                                        </p:attrNameLst>
                                      </p:cBhvr>
                                      <p:to>
                                        <p:strVal val="visible"/>
                                      </p:to>
                                    </p:set>
                                    <p:anim calcmode="lin" valueType="num">
                                      <p:cBhvr additive="repl">
                                        <p:cTn id="109" dur="500" fill="hold"/>
                                        <p:tgtEl>
                                          <p:spTgt spid="108">
                                            <p:txEl>
                                              <p:pRg st="10" end="10"/>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10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1" restart="whenNotActive" nodeType="interactiveSeq" fill="hold">
                <p:stCondLst>
                  <p:cond evt="onClick">
                    <p:tgtEl>
                      <p:spTgt spid="107"/>
                    </p:tgtEl>
                  </p:cond>
                </p:stCondLst>
                <p:childTnLst>
                  <p:par>
                    <p:cTn id="112" fill="hold">
                      <p:stCondLst>
                        <p:cond evt="onClick">
                          <p:tgtEl>
                            <p:spTgt spid="107"/>
                          </p:tgtEl>
                        </p:cond>
                      </p:stCondLst>
                      <p:childTnLst>
                        <p:par>
                          <p:cTn id="113" fill="hold">
                            <p:stCondLst>
                              <p:cond delay="0"/>
                            </p:stCondLst>
                            <p:childTnLst>
                              <p:par>
                                <p:cTn id="114" dur="indefinite" nodeType="clickEffect" fill="hold" presetClass="mediacall" presetID="1">
                                  <p:stCondLst>
                                    <p:cond delay="0"/>
                                  </p:stCondLst>
                                  <p:childTnLst>
                                    <p:cmd type="call" cmd="togglePause">
                                      <p:cBhvr>
                                        <p:cTn id="115"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图片 9" descr=""/>
          <p:cNvPicPr/>
          <p:nvPr/>
        </p:nvPicPr>
        <p:blipFill>
          <a:blip r:embed="rId1"/>
          <a:srcRect l="0" t="0" r="42150" b="48020"/>
          <a:stretch/>
        </p:blipFill>
        <p:spPr>
          <a:xfrm>
            <a:off x="7345440" y="2511360"/>
            <a:ext cx="4846680" cy="4346640"/>
          </a:xfrm>
          <a:prstGeom prst="rect">
            <a:avLst/>
          </a:prstGeom>
          <a:ln w="0">
            <a:noFill/>
          </a:ln>
        </p:spPr>
      </p:pic>
      <p:sp>
        <p:nvSpPr>
          <p:cNvPr id="111" name="Rectangle 5"/>
          <p:cNvSpPr/>
          <p:nvPr/>
        </p:nvSpPr>
        <p:spPr>
          <a:xfrm>
            <a:off x="2473200" y="2049480"/>
            <a:ext cx="7245360" cy="2760480"/>
          </a:xfrm>
          <a:prstGeom prst="rect">
            <a:avLst/>
          </a:prstGeom>
          <a:noFill/>
          <a:ln w="38160">
            <a:solidFill>
              <a:srgbClr val="3d735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112" name="图片 16" descr=""/>
          <p:cNvPicPr/>
          <p:nvPr/>
        </p:nvPicPr>
        <p:blipFill>
          <a:blip r:embed="rId2"/>
          <a:srcRect l="17878" t="35014" r="0" b="43149"/>
          <a:stretch/>
        </p:blipFill>
        <p:spPr>
          <a:xfrm>
            <a:off x="0" y="0"/>
            <a:ext cx="5837400" cy="2166840"/>
          </a:xfrm>
          <a:prstGeom prst="rect">
            <a:avLst/>
          </a:prstGeom>
          <a:ln w="0">
            <a:noFill/>
          </a:ln>
        </p:spPr>
      </p:pic>
      <p:grpSp>
        <p:nvGrpSpPr>
          <p:cNvPr id="113" name="组合 29"/>
          <p:cNvGrpSpPr/>
          <p:nvPr/>
        </p:nvGrpSpPr>
        <p:grpSpPr>
          <a:xfrm>
            <a:off x="3706920" y="2793960"/>
            <a:ext cx="5543280" cy="1101240"/>
            <a:chOff x="3706920" y="2793960"/>
            <a:chExt cx="5543280" cy="1101240"/>
          </a:xfrm>
        </p:grpSpPr>
        <p:sp>
          <p:nvSpPr>
            <p:cNvPr id="114" name="文本框 13"/>
            <p:cNvSpPr/>
            <p:nvPr/>
          </p:nvSpPr>
          <p:spPr>
            <a:xfrm>
              <a:off x="4883040" y="2945520"/>
              <a:ext cx="4367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微软雅黑"/>
                  <a:ea typeface="微软雅黑"/>
                </a:rPr>
                <a:t>Pronuncation Features</a:t>
              </a:r>
              <a:endParaRPr b="0" lang="en-US" sz="28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微软雅黑"/>
                  <a:ea typeface="微软雅黑"/>
                </a:rPr>
                <a:t>of Back Vowels</a:t>
              </a:r>
              <a:endParaRPr b="0" lang="en-US" sz="2800" spc="-1" strike="noStrike">
                <a:solidFill>
                  <a:srgbClr val="000000"/>
                </a:solidFill>
                <a:latin typeface="等线"/>
              </a:endParaRPr>
            </a:p>
          </p:txBody>
        </p:sp>
        <p:sp>
          <p:nvSpPr>
            <p:cNvPr id="115" name="文本框 35"/>
            <p:cNvSpPr/>
            <p:nvPr/>
          </p:nvSpPr>
          <p:spPr>
            <a:xfrm>
              <a:off x="3740760" y="3313800"/>
              <a:ext cx="127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8265"/>
                  </a:solidFill>
                  <a:latin typeface="Impact"/>
                  <a:ea typeface="微软雅黑 Light"/>
                </a:rPr>
                <a:t>PART</a:t>
              </a:r>
              <a:endParaRPr b="0" lang="en-US" sz="3200" spc="-1" strike="noStrike">
                <a:solidFill>
                  <a:srgbClr val="000000"/>
                </a:solidFill>
                <a:latin typeface="等线"/>
              </a:endParaRPr>
            </a:p>
          </p:txBody>
        </p:sp>
        <p:sp>
          <p:nvSpPr>
            <p:cNvPr id="116" name="文本框 36"/>
            <p:cNvSpPr/>
            <p:nvPr/>
          </p:nvSpPr>
          <p:spPr>
            <a:xfrm>
              <a:off x="3706920" y="2793960"/>
              <a:ext cx="134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8265"/>
                  </a:solidFill>
                  <a:latin typeface="微软雅黑"/>
                  <a:ea typeface="微软雅黑"/>
                </a:rPr>
                <a:t>02</a:t>
              </a:r>
              <a:endParaRPr b="0" lang="en-US" sz="4000" spc="-1" strike="noStrike">
                <a:solidFill>
                  <a:srgbClr val="000000"/>
                </a:solidFill>
                <a:latin typeface="等线"/>
              </a:endParaRPr>
            </a:p>
          </p:txBody>
        </p:sp>
        <p:grpSp>
          <p:nvGrpSpPr>
            <p:cNvPr id="117" name="组合 37"/>
            <p:cNvGrpSpPr/>
            <p:nvPr/>
          </p:nvGrpSpPr>
          <p:grpSpPr>
            <a:xfrm>
              <a:off x="4356360" y="3145320"/>
              <a:ext cx="250200" cy="147240"/>
              <a:chOff x="4356360" y="3145320"/>
              <a:chExt cx="250200" cy="147240"/>
            </a:xfrm>
          </p:grpSpPr>
          <p:sp>
            <p:nvSpPr>
              <p:cNvPr id="118" name="L 形 38"/>
              <p:cNvSpPr/>
              <p:nvPr/>
            </p:nvSpPr>
            <p:spPr>
              <a:xfrm flipH="1" flipV="1" rot="2493600">
                <a:off x="4377240" y="3166200"/>
                <a:ext cx="104400" cy="104400"/>
              </a:xfrm>
              <a:custGeom>
                <a:avLst/>
                <a:gdLst/>
                <a:ahLst/>
                <a:rect l="l" t="t" r="r" b="b"/>
                <a:pathLst>
                  <a:path w="54397" h="54409">
                    <a:moveTo>
                      <a:pt x="0" y="0"/>
                    </a:moveTo>
                    <a:lnTo>
                      <a:pt x="9323" y="0"/>
                    </a:lnTo>
                    <a:lnTo>
                      <a:pt x="9323" y="46168"/>
                    </a:lnTo>
                    <a:lnTo>
                      <a:pt x="54397" y="46168"/>
                    </a:lnTo>
                    <a:lnTo>
                      <a:pt x="54397" y="54409"/>
                    </a:lnTo>
                    <a:lnTo>
                      <a:pt x="0" y="54409"/>
                    </a:lnTo>
                    <a:close/>
                  </a:path>
                </a:pathLst>
              </a:custGeom>
              <a:solidFill>
                <a:srgbClr val="6f8163"/>
              </a:solidFill>
              <a:ln w="12600">
                <a:solidFill>
                  <a:srgbClr val="7082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19" name="L 形 39"/>
              <p:cNvSpPr/>
              <p:nvPr/>
            </p:nvSpPr>
            <p:spPr>
              <a:xfrm flipH="1" flipV="1" rot="2493600">
                <a:off x="4480200" y="3166200"/>
                <a:ext cx="104400" cy="104400"/>
              </a:xfrm>
              <a:custGeom>
                <a:avLst/>
                <a:gdLst/>
                <a:ahLst/>
                <a:rect l="l" t="t" r="r" b="b"/>
                <a:pathLst>
                  <a:path w="54397" h="54409">
                    <a:moveTo>
                      <a:pt x="0" y="0"/>
                    </a:moveTo>
                    <a:lnTo>
                      <a:pt x="9323" y="0"/>
                    </a:lnTo>
                    <a:lnTo>
                      <a:pt x="9323" y="46168"/>
                    </a:lnTo>
                    <a:lnTo>
                      <a:pt x="54397" y="46168"/>
                    </a:lnTo>
                    <a:lnTo>
                      <a:pt x="54397" y="54409"/>
                    </a:lnTo>
                    <a:lnTo>
                      <a:pt x="0" y="54409"/>
                    </a:lnTo>
                    <a:close/>
                  </a:path>
                </a:pathLst>
              </a:custGeom>
              <a:solidFill>
                <a:srgbClr val="6f8163"/>
              </a:solidFill>
              <a:ln w="12600">
                <a:solidFill>
                  <a:srgbClr val="7082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grpSp>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31"/>
          <p:cNvSpPr/>
          <p:nvPr/>
        </p:nvSpPr>
        <p:spPr>
          <a:xfrm>
            <a:off x="4362480" y="1797120"/>
            <a:ext cx="6392880" cy="1276200"/>
          </a:xfrm>
          <a:prstGeom prst="rect">
            <a:avLst/>
          </a:prstGeom>
          <a:solidFill>
            <a:srgbClr val="8eb453"/>
          </a:solidFill>
          <a:ln w="1260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21" name="矩形 32"/>
          <p:cNvSpPr/>
          <p:nvPr/>
        </p:nvSpPr>
        <p:spPr>
          <a:xfrm>
            <a:off x="4362480" y="3263760"/>
            <a:ext cx="6392880" cy="1276560"/>
          </a:xfrm>
          <a:prstGeom prst="rect">
            <a:avLst/>
          </a:prstGeom>
          <a:solidFill>
            <a:srgbClr val="4c7e51"/>
          </a:solidFill>
          <a:ln w="1260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22" name="矩形 33"/>
          <p:cNvSpPr/>
          <p:nvPr/>
        </p:nvSpPr>
        <p:spPr>
          <a:xfrm>
            <a:off x="4362480" y="4730760"/>
            <a:ext cx="6392880" cy="1276200"/>
          </a:xfrm>
          <a:prstGeom prst="rect">
            <a:avLst/>
          </a:prstGeom>
          <a:solidFill>
            <a:srgbClr val="8eb453"/>
          </a:solidFill>
          <a:ln w="1260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23" name="文本框 35"/>
          <p:cNvSpPr/>
          <p:nvPr/>
        </p:nvSpPr>
        <p:spPr>
          <a:xfrm>
            <a:off x="5637960" y="1949400"/>
            <a:ext cx="463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The part of the tongue raised</a:t>
            </a:r>
            <a:endParaRPr b="0" lang="en-US" sz="2400" spc="-1" strike="noStrike">
              <a:solidFill>
                <a:srgbClr val="000000"/>
              </a:solidFill>
              <a:latin typeface="等线"/>
            </a:endParaRPr>
          </a:p>
        </p:txBody>
      </p:sp>
      <p:sp>
        <p:nvSpPr>
          <p:cNvPr id="124" name="AutoShape 115"/>
          <p:cNvSpPr/>
          <p:nvPr/>
        </p:nvSpPr>
        <p:spPr>
          <a:xfrm>
            <a:off x="4773600" y="2136600"/>
            <a:ext cx="541440" cy="597240"/>
          </a:xfrm>
          <a:custGeom>
            <a:avLst/>
            <a:gdLst/>
            <a:ahLst/>
            <a:rect l="l" t="t" r="r" b="b"/>
            <a:pathLst>
              <a:path w="21599" h="21599">
                <a:moveTo>
                  <a:pt x="21357" y="18801"/>
                </a:moveTo>
                <a:cubicBezTo>
                  <a:pt x="21518" y="18965"/>
                  <a:pt x="21599" y="19177"/>
                  <a:pt x="21599" y="19436"/>
                </a:cubicBezTo>
                <a:cubicBezTo>
                  <a:pt x="21599" y="19580"/>
                  <a:pt x="21518" y="19775"/>
                  <a:pt x="21357" y="20018"/>
                </a:cubicBezTo>
                <a:cubicBezTo>
                  <a:pt x="21193" y="20261"/>
                  <a:pt x="20989" y="20504"/>
                  <a:pt x="20746" y="20741"/>
                </a:cubicBezTo>
                <a:cubicBezTo>
                  <a:pt x="20503" y="20978"/>
                  <a:pt x="20260" y="21184"/>
                  <a:pt x="20023" y="21348"/>
                </a:cubicBezTo>
                <a:cubicBezTo>
                  <a:pt x="19783" y="21518"/>
                  <a:pt x="19593" y="21599"/>
                  <a:pt x="19447" y="21599"/>
                </a:cubicBezTo>
                <a:cubicBezTo>
                  <a:pt x="19189" y="21599"/>
                  <a:pt x="18975" y="21515"/>
                  <a:pt x="18811" y="21343"/>
                </a:cubicBezTo>
                <a:lnTo>
                  <a:pt x="13957" y="16502"/>
                </a:lnTo>
                <a:cubicBezTo>
                  <a:pt x="13217" y="16980"/>
                  <a:pt x="12428" y="17350"/>
                  <a:pt x="11589" y="17604"/>
                </a:cubicBezTo>
                <a:cubicBezTo>
                  <a:pt x="10750" y="17864"/>
                  <a:pt x="9891" y="17991"/>
                  <a:pt x="9007" y="17991"/>
                </a:cubicBezTo>
                <a:cubicBezTo>
                  <a:pt x="7769" y="17991"/>
                  <a:pt x="6608" y="17759"/>
                  <a:pt x="5517" y="17290"/>
                </a:cubicBezTo>
                <a:cubicBezTo>
                  <a:pt x="4427" y="16822"/>
                  <a:pt x="3469" y="16175"/>
                  <a:pt x="2644" y="15353"/>
                </a:cubicBezTo>
                <a:cubicBezTo>
                  <a:pt x="1816" y="14534"/>
                  <a:pt x="1172" y="13580"/>
                  <a:pt x="700" y="12487"/>
                </a:cubicBezTo>
                <a:cubicBezTo>
                  <a:pt x="231" y="11400"/>
                  <a:pt x="0" y="10236"/>
                  <a:pt x="0" y="8999"/>
                </a:cubicBezTo>
                <a:cubicBezTo>
                  <a:pt x="0" y="7768"/>
                  <a:pt x="231" y="6602"/>
                  <a:pt x="700" y="5515"/>
                </a:cubicBezTo>
                <a:cubicBezTo>
                  <a:pt x="1169" y="4422"/>
                  <a:pt x="1816" y="3467"/>
                  <a:pt x="2644" y="2645"/>
                </a:cubicBezTo>
                <a:cubicBezTo>
                  <a:pt x="3469" y="1827"/>
                  <a:pt x="4424" y="1180"/>
                  <a:pt x="5512" y="708"/>
                </a:cubicBezTo>
                <a:cubicBezTo>
                  <a:pt x="6600" y="237"/>
                  <a:pt x="7764" y="0"/>
                  <a:pt x="9007" y="0"/>
                </a:cubicBezTo>
                <a:cubicBezTo>
                  <a:pt x="10244" y="0"/>
                  <a:pt x="11403" y="237"/>
                  <a:pt x="12488" y="708"/>
                </a:cubicBezTo>
                <a:cubicBezTo>
                  <a:pt x="13573" y="1180"/>
                  <a:pt x="14530" y="1827"/>
                  <a:pt x="15358" y="2645"/>
                </a:cubicBezTo>
                <a:cubicBezTo>
                  <a:pt x="16183" y="3467"/>
                  <a:pt x="16830" y="4422"/>
                  <a:pt x="17299" y="5515"/>
                </a:cubicBezTo>
                <a:cubicBezTo>
                  <a:pt x="17768" y="6602"/>
                  <a:pt x="18003" y="7768"/>
                  <a:pt x="18003" y="8999"/>
                </a:cubicBezTo>
                <a:cubicBezTo>
                  <a:pt x="18003" y="9886"/>
                  <a:pt x="17873" y="10747"/>
                  <a:pt x="17616" y="11589"/>
                </a:cubicBezTo>
                <a:cubicBezTo>
                  <a:pt x="17359" y="12433"/>
                  <a:pt x="16991" y="13218"/>
                  <a:pt x="16514" y="13947"/>
                </a:cubicBezTo>
                <a:lnTo>
                  <a:pt x="21357" y="18801"/>
                </a:lnTo>
                <a:close/>
                <a:moveTo>
                  <a:pt x="3596" y="8999"/>
                </a:moveTo>
                <a:cubicBezTo>
                  <a:pt x="3596" y="9759"/>
                  <a:pt x="3740" y="10465"/>
                  <a:pt x="4028" y="11117"/>
                </a:cubicBezTo>
                <a:cubicBezTo>
                  <a:pt x="4317" y="11770"/>
                  <a:pt x="4707" y="12337"/>
                  <a:pt x="5193" y="12820"/>
                </a:cubicBezTo>
                <a:cubicBezTo>
                  <a:pt x="5679" y="13300"/>
                  <a:pt x="6252" y="13684"/>
                  <a:pt x="6908" y="13969"/>
                </a:cubicBezTo>
                <a:cubicBezTo>
                  <a:pt x="7566" y="14252"/>
                  <a:pt x="8264" y="14393"/>
                  <a:pt x="9004" y="14393"/>
                </a:cubicBezTo>
                <a:cubicBezTo>
                  <a:pt x="9744" y="14393"/>
                  <a:pt x="10439" y="14252"/>
                  <a:pt x="11092" y="13969"/>
                </a:cubicBezTo>
                <a:cubicBezTo>
                  <a:pt x="11745" y="13684"/>
                  <a:pt x="12318" y="13300"/>
                  <a:pt x="12801" y="12820"/>
                </a:cubicBezTo>
                <a:cubicBezTo>
                  <a:pt x="13290" y="12337"/>
                  <a:pt x="13677" y="11770"/>
                  <a:pt x="13965" y="11117"/>
                </a:cubicBezTo>
                <a:cubicBezTo>
                  <a:pt x="14254" y="10465"/>
                  <a:pt x="14398" y="9759"/>
                  <a:pt x="14398" y="8999"/>
                </a:cubicBezTo>
                <a:cubicBezTo>
                  <a:pt x="14398" y="8259"/>
                  <a:pt x="14254" y="7565"/>
                  <a:pt x="13965" y="6912"/>
                </a:cubicBezTo>
                <a:cubicBezTo>
                  <a:pt x="13674" y="6257"/>
                  <a:pt x="13290" y="5684"/>
                  <a:pt x="12801" y="5192"/>
                </a:cubicBezTo>
                <a:cubicBezTo>
                  <a:pt x="12315" y="4704"/>
                  <a:pt x="11745" y="4317"/>
                  <a:pt x="11092" y="4032"/>
                </a:cubicBezTo>
                <a:cubicBezTo>
                  <a:pt x="10439" y="3749"/>
                  <a:pt x="9741" y="3605"/>
                  <a:pt x="9004" y="3605"/>
                </a:cubicBezTo>
                <a:cubicBezTo>
                  <a:pt x="8267" y="3605"/>
                  <a:pt x="7566" y="3749"/>
                  <a:pt x="6908" y="4032"/>
                </a:cubicBezTo>
                <a:cubicBezTo>
                  <a:pt x="6252" y="4317"/>
                  <a:pt x="5676" y="4704"/>
                  <a:pt x="5193" y="5192"/>
                </a:cubicBezTo>
                <a:cubicBezTo>
                  <a:pt x="4707" y="5684"/>
                  <a:pt x="4317" y="6257"/>
                  <a:pt x="4028" y="6912"/>
                </a:cubicBezTo>
                <a:cubicBezTo>
                  <a:pt x="3740" y="7565"/>
                  <a:pt x="3596" y="8256"/>
                  <a:pt x="3596" y="8999"/>
                </a:cubicBezTo>
                <a:moveTo>
                  <a:pt x="9007" y="5591"/>
                </a:moveTo>
                <a:cubicBezTo>
                  <a:pt x="9185" y="5591"/>
                  <a:pt x="9343" y="5656"/>
                  <a:pt x="9473" y="5785"/>
                </a:cubicBezTo>
                <a:cubicBezTo>
                  <a:pt x="9603" y="5918"/>
                  <a:pt x="9668" y="6082"/>
                  <a:pt x="9668" y="6279"/>
                </a:cubicBezTo>
                <a:cubicBezTo>
                  <a:pt x="9668" y="6460"/>
                  <a:pt x="9603" y="6616"/>
                  <a:pt x="9473" y="6745"/>
                </a:cubicBezTo>
                <a:cubicBezTo>
                  <a:pt x="9343" y="6878"/>
                  <a:pt x="9185" y="6943"/>
                  <a:pt x="9007" y="6943"/>
                </a:cubicBezTo>
                <a:cubicBezTo>
                  <a:pt x="8439" y="6943"/>
                  <a:pt x="7953" y="7144"/>
                  <a:pt x="7552" y="7536"/>
                </a:cubicBezTo>
                <a:cubicBezTo>
                  <a:pt x="7151" y="7934"/>
                  <a:pt x="6950" y="8423"/>
                  <a:pt x="6950" y="8996"/>
                </a:cubicBezTo>
                <a:cubicBezTo>
                  <a:pt x="6950" y="9180"/>
                  <a:pt x="6885" y="9332"/>
                  <a:pt x="6755" y="9465"/>
                </a:cubicBezTo>
                <a:cubicBezTo>
                  <a:pt x="6622" y="9595"/>
                  <a:pt x="6467" y="9657"/>
                  <a:pt x="6289" y="9657"/>
                </a:cubicBezTo>
                <a:cubicBezTo>
                  <a:pt x="6080" y="9657"/>
                  <a:pt x="5913" y="9595"/>
                  <a:pt x="5786" y="9465"/>
                </a:cubicBezTo>
                <a:cubicBezTo>
                  <a:pt x="5659" y="9332"/>
                  <a:pt x="5599" y="9180"/>
                  <a:pt x="5599" y="8996"/>
                </a:cubicBezTo>
                <a:cubicBezTo>
                  <a:pt x="5599" y="8539"/>
                  <a:pt x="5684" y="8104"/>
                  <a:pt x="5862" y="7686"/>
                </a:cubicBezTo>
                <a:cubicBezTo>
                  <a:pt x="6037" y="7271"/>
                  <a:pt x="6280" y="6907"/>
                  <a:pt x="6597" y="6590"/>
                </a:cubicBezTo>
                <a:cubicBezTo>
                  <a:pt x="6905" y="6277"/>
                  <a:pt x="7264" y="6028"/>
                  <a:pt x="7676" y="5856"/>
                </a:cubicBezTo>
                <a:cubicBezTo>
                  <a:pt x="8086" y="5681"/>
                  <a:pt x="8529" y="5591"/>
                  <a:pt x="9007" y="5591"/>
                </a:cubicBezTo>
              </a:path>
            </a:pathLst>
          </a:custGeom>
          <a:solidFill>
            <a:srgbClr val="ffffff"/>
          </a:solidFill>
          <a:ln w="0">
            <a:noFill/>
          </a:ln>
        </p:spPr>
        <p:style>
          <a:lnRef idx="0"/>
          <a:fillRef idx="0"/>
          <a:effectRef idx="0"/>
          <a:fontRef idx="minor"/>
        </p:style>
        <p:txBody>
          <a:bodyPr lIns="101520" rIns="101520" tIns="101520" bIns="10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25" name="AutoShape 29"/>
          <p:cNvSpPr/>
          <p:nvPr/>
        </p:nvSpPr>
        <p:spPr>
          <a:xfrm>
            <a:off x="9864720" y="3648240"/>
            <a:ext cx="588960" cy="590400"/>
          </a:xfrm>
          <a:custGeom>
            <a:avLst/>
            <a:gdLst/>
            <a:ahLst/>
            <a:rect l="l" t="t" r="r" b="b"/>
            <a:pathLst>
              <a:path w="21599" h="21599">
                <a:moveTo>
                  <a:pt x="3598" y="2167"/>
                </a:moveTo>
                <a:cubicBezTo>
                  <a:pt x="3598" y="2549"/>
                  <a:pt x="3517" y="2902"/>
                  <a:pt x="3358" y="3213"/>
                </a:cubicBezTo>
                <a:cubicBezTo>
                  <a:pt x="3197" y="3525"/>
                  <a:pt x="2981" y="3792"/>
                  <a:pt x="2707" y="4006"/>
                </a:cubicBezTo>
                <a:lnTo>
                  <a:pt x="2707" y="21050"/>
                </a:lnTo>
                <a:cubicBezTo>
                  <a:pt x="2707" y="21203"/>
                  <a:pt x="2663" y="21329"/>
                  <a:pt x="2580" y="21438"/>
                </a:cubicBezTo>
                <a:cubicBezTo>
                  <a:pt x="2492" y="21547"/>
                  <a:pt x="2386" y="21599"/>
                  <a:pt x="2262" y="21599"/>
                </a:cubicBezTo>
                <a:lnTo>
                  <a:pt x="1348" y="21599"/>
                </a:lnTo>
                <a:cubicBezTo>
                  <a:pt x="1221" y="21599"/>
                  <a:pt x="1118" y="21544"/>
                  <a:pt x="1038" y="21438"/>
                </a:cubicBezTo>
                <a:cubicBezTo>
                  <a:pt x="954" y="21329"/>
                  <a:pt x="913" y="21203"/>
                  <a:pt x="913" y="21050"/>
                </a:cubicBezTo>
                <a:lnTo>
                  <a:pt x="913" y="4006"/>
                </a:lnTo>
                <a:cubicBezTo>
                  <a:pt x="641" y="3792"/>
                  <a:pt x="421" y="3525"/>
                  <a:pt x="252" y="3213"/>
                </a:cubicBezTo>
                <a:cubicBezTo>
                  <a:pt x="83" y="2902"/>
                  <a:pt x="0" y="2549"/>
                  <a:pt x="0" y="2167"/>
                </a:cubicBezTo>
                <a:cubicBezTo>
                  <a:pt x="0" y="1574"/>
                  <a:pt x="176" y="1069"/>
                  <a:pt x="528" y="640"/>
                </a:cubicBezTo>
                <a:cubicBezTo>
                  <a:pt x="878" y="211"/>
                  <a:pt x="1304" y="0"/>
                  <a:pt x="1804" y="0"/>
                </a:cubicBezTo>
                <a:cubicBezTo>
                  <a:pt x="2296" y="0"/>
                  <a:pt x="2719" y="211"/>
                  <a:pt x="3069" y="640"/>
                </a:cubicBezTo>
                <a:cubicBezTo>
                  <a:pt x="3422" y="1069"/>
                  <a:pt x="3598" y="1571"/>
                  <a:pt x="3598" y="2167"/>
                </a:cubicBezTo>
                <a:moveTo>
                  <a:pt x="20838" y="2476"/>
                </a:moveTo>
                <a:cubicBezTo>
                  <a:pt x="21063" y="2323"/>
                  <a:pt x="21247" y="2297"/>
                  <a:pt x="21389" y="2391"/>
                </a:cubicBezTo>
                <a:cubicBezTo>
                  <a:pt x="21529" y="2485"/>
                  <a:pt x="21599" y="2684"/>
                  <a:pt x="21599" y="2996"/>
                </a:cubicBezTo>
                <a:lnTo>
                  <a:pt x="21599" y="13515"/>
                </a:lnTo>
                <a:cubicBezTo>
                  <a:pt x="21599" y="13803"/>
                  <a:pt x="21526" y="14106"/>
                  <a:pt x="21382" y="14420"/>
                </a:cubicBezTo>
                <a:cubicBezTo>
                  <a:pt x="21237" y="14737"/>
                  <a:pt x="21056" y="14966"/>
                  <a:pt x="20838" y="15119"/>
                </a:cubicBezTo>
                <a:cubicBezTo>
                  <a:pt x="19954" y="15757"/>
                  <a:pt x="19146" y="16165"/>
                  <a:pt x="18412" y="16350"/>
                </a:cubicBezTo>
                <a:cubicBezTo>
                  <a:pt x="17678" y="16529"/>
                  <a:pt x="17036" y="16606"/>
                  <a:pt x="16490" y="16567"/>
                </a:cubicBezTo>
                <a:cubicBezTo>
                  <a:pt x="15849" y="16526"/>
                  <a:pt x="15281" y="16371"/>
                  <a:pt x="14791" y="16103"/>
                </a:cubicBezTo>
                <a:cubicBezTo>
                  <a:pt x="14392" y="15851"/>
                  <a:pt x="14003" y="15607"/>
                  <a:pt x="13623" y="15378"/>
                </a:cubicBezTo>
                <a:cubicBezTo>
                  <a:pt x="13244" y="15146"/>
                  <a:pt x="12857" y="14946"/>
                  <a:pt x="12458" y="14773"/>
                </a:cubicBezTo>
                <a:cubicBezTo>
                  <a:pt x="12059" y="14599"/>
                  <a:pt x="11640" y="14461"/>
                  <a:pt x="11197" y="14358"/>
                </a:cubicBezTo>
                <a:cubicBezTo>
                  <a:pt x="10757" y="14256"/>
                  <a:pt x="10269" y="14203"/>
                  <a:pt x="9738" y="14203"/>
                </a:cubicBezTo>
                <a:cubicBezTo>
                  <a:pt x="9310" y="14220"/>
                  <a:pt x="8825" y="14306"/>
                  <a:pt x="8286" y="14455"/>
                </a:cubicBezTo>
                <a:cubicBezTo>
                  <a:pt x="7824" y="14588"/>
                  <a:pt x="7266" y="14799"/>
                  <a:pt x="6605" y="15090"/>
                </a:cubicBezTo>
                <a:cubicBezTo>
                  <a:pt x="5944" y="15381"/>
                  <a:pt x="5207" y="15792"/>
                  <a:pt x="4394" y="16327"/>
                </a:cubicBezTo>
                <a:cubicBezTo>
                  <a:pt x="4169" y="16476"/>
                  <a:pt x="3978" y="16494"/>
                  <a:pt x="3826" y="16382"/>
                </a:cubicBezTo>
                <a:cubicBezTo>
                  <a:pt x="3674" y="16268"/>
                  <a:pt x="3598" y="16059"/>
                  <a:pt x="3598" y="15751"/>
                </a:cubicBezTo>
                <a:lnTo>
                  <a:pt x="3598" y="5273"/>
                </a:lnTo>
                <a:cubicBezTo>
                  <a:pt x="3598" y="4964"/>
                  <a:pt x="3674" y="4653"/>
                  <a:pt x="3826" y="4347"/>
                </a:cubicBezTo>
                <a:cubicBezTo>
                  <a:pt x="3978" y="4036"/>
                  <a:pt x="4169" y="3807"/>
                  <a:pt x="4394" y="3654"/>
                </a:cubicBezTo>
                <a:cubicBezTo>
                  <a:pt x="5207" y="3143"/>
                  <a:pt x="5941" y="2737"/>
                  <a:pt x="6597" y="2447"/>
                </a:cubicBezTo>
                <a:cubicBezTo>
                  <a:pt x="7253" y="2156"/>
                  <a:pt x="7816" y="1944"/>
                  <a:pt x="8286" y="1812"/>
                </a:cubicBezTo>
                <a:cubicBezTo>
                  <a:pt x="8832" y="1665"/>
                  <a:pt x="9317" y="1580"/>
                  <a:pt x="9738" y="1559"/>
                </a:cubicBezTo>
                <a:cubicBezTo>
                  <a:pt x="10269" y="1559"/>
                  <a:pt x="10757" y="1612"/>
                  <a:pt x="11197" y="1715"/>
                </a:cubicBezTo>
                <a:cubicBezTo>
                  <a:pt x="11640" y="1818"/>
                  <a:pt x="12059" y="1956"/>
                  <a:pt x="12458" y="2135"/>
                </a:cubicBezTo>
                <a:cubicBezTo>
                  <a:pt x="12857" y="2306"/>
                  <a:pt x="13242" y="2508"/>
                  <a:pt x="13619" y="2737"/>
                </a:cubicBezTo>
                <a:cubicBezTo>
                  <a:pt x="13993" y="2967"/>
                  <a:pt x="14385" y="3207"/>
                  <a:pt x="14791" y="3463"/>
                </a:cubicBezTo>
                <a:cubicBezTo>
                  <a:pt x="15281" y="3736"/>
                  <a:pt x="15849" y="3889"/>
                  <a:pt x="16490" y="3924"/>
                </a:cubicBezTo>
                <a:cubicBezTo>
                  <a:pt x="17036" y="3965"/>
                  <a:pt x="17678" y="3889"/>
                  <a:pt x="18412" y="3707"/>
                </a:cubicBezTo>
                <a:cubicBezTo>
                  <a:pt x="19146" y="3522"/>
                  <a:pt x="19957" y="3113"/>
                  <a:pt x="20838" y="2476"/>
                </a:cubicBezTo>
              </a:path>
            </a:pathLst>
          </a:custGeom>
          <a:solidFill>
            <a:srgbClr val="ffffff"/>
          </a:solidFill>
          <a:ln w="0">
            <a:noFill/>
          </a:ln>
        </p:spPr>
        <p:style>
          <a:lnRef idx="0"/>
          <a:fillRef idx="0"/>
          <a:effectRef idx="0"/>
          <a:fontRef idx="minor"/>
        </p:style>
        <p:txBody>
          <a:bodyPr lIns="101520" rIns="101520" tIns="101520" bIns="10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126" name="Group 2" descr=""/>
          <p:cNvPicPr/>
          <p:nvPr/>
        </p:nvPicPr>
        <p:blipFill>
          <a:blip r:embed="rId1"/>
          <a:stretch/>
        </p:blipFill>
        <p:spPr>
          <a:xfrm>
            <a:off x="4773600" y="5094360"/>
            <a:ext cx="528480" cy="536400"/>
          </a:xfrm>
          <a:prstGeom prst="rect">
            <a:avLst/>
          </a:prstGeom>
          <a:ln w="0">
            <a:noFill/>
          </a:ln>
        </p:spPr>
      </p:pic>
      <p:sp>
        <p:nvSpPr>
          <p:cNvPr id="127" name="文本框 45"/>
          <p:cNvSpPr/>
          <p:nvPr/>
        </p:nvSpPr>
        <p:spPr>
          <a:xfrm>
            <a:off x="4694040" y="3411360"/>
            <a:ext cx="263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Tongue position</a:t>
            </a:r>
            <a:endParaRPr b="0" lang="en-US" sz="2400" spc="-1" strike="noStrike">
              <a:solidFill>
                <a:srgbClr val="000000"/>
              </a:solidFill>
              <a:latin typeface="等线"/>
            </a:endParaRPr>
          </a:p>
        </p:txBody>
      </p:sp>
      <p:sp>
        <p:nvSpPr>
          <p:cNvPr id="128" name="文本框 46"/>
          <p:cNvSpPr/>
          <p:nvPr/>
        </p:nvSpPr>
        <p:spPr>
          <a:xfrm>
            <a:off x="5746320" y="491508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The shape of lips</a:t>
            </a:r>
            <a:endParaRPr b="0" lang="en-US" sz="2400" spc="-1" strike="noStrike">
              <a:solidFill>
                <a:srgbClr val="000000"/>
              </a:solidFill>
              <a:latin typeface="等线"/>
            </a:endParaRPr>
          </a:p>
        </p:txBody>
      </p:sp>
      <p:sp>
        <p:nvSpPr>
          <p:cNvPr id="129" name="矩形 47"/>
          <p:cNvSpPr/>
          <p:nvPr/>
        </p:nvSpPr>
        <p:spPr>
          <a:xfrm>
            <a:off x="5613480" y="2346480"/>
            <a:ext cx="523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fdfd"/>
                </a:solidFill>
                <a:latin typeface="微软雅黑"/>
                <a:ea typeface="微软雅黑"/>
              </a:rPr>
              <a:t>They are produced by raising the back of the</a:t>
            </a:r>
            <a:endParaRPr b="0" lang="en-US" sz="18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fdfd"/>
                </a:solidFill>
                <a:latin typeface="微软雅黑"/>
                <a:ea typeface="微软雅黑"/>
              </a:rPr>
              <a:t>tongue towards the soft palate.</a:t>
            </a:r>
            <a:endParaRPr b="0" lang="en-US" sz="1800" spc="-1" strike="noStrike">
              <a:solidFill>
                <a:srgbClr val="000000"/>
              </a:solidFill>
              <a:latin typeface="等线"/>
            </a:endParaRPr>
          </a:p>
        </p:txBody>
      </p:sp>
      <p:sp>
        <p:nvSpPr>
          <p:cNvPr id="130" name="矩形 48"/>
          <p:cNvSpPr/>
          <p:nvPr/>
        </p:nvSpPr>
        <p:spPr>
          <a:xfrm>
            <a:off x="4680000" y="3871800"/>
            <a:ext cx="505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fdfd"/>
                </a:solidFill>
                <a:latin typeface="微软雅黑"/>
                <a:ea typeface="微软雅黑"/>
              </a:rPr>
              <a:t>The tip of the tongue is slightly drawn away from the lower teeth.</a:t>
            </a:r>
            <a:endParaRPr b="0" lang="en-US" sz="1800" spc="-1" strike="noStrike">
              <a:solidFill>
                <a:srgbClr val="000000"/>
              </a:solidFill>
              <a:latin typeface="等线"/>
            </a:endParaRPr>
          </a:p>
        </p:txBody>
      </p:sp>
      <p:sp>
        <p:nvSpPr>
          <p:cNvPr id="131" name="矩形 49"/>
          <p:cNvSpPr/>
          <p:nvPr/>
        </p:nvSpPr>
        <p:spPr>
          <a:xfrm>
            <a:off x="5718240" y="5311800"/>
            <a:ext cx="545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fdfd"/>
                </a:solidFill>
                <a:latin typeface="微软雅黑"/>
                <a:ea typeface="微软雅黑"/>
              </a:rPr>
              <a:t>For all of them, lip-rounding plays an </a:t>
            </a:r>
            <a:endParaRPr b="0" lang="en-US" sz="18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fdfd"/>
                </a:solidFill>
                <a:latin typeface="微软雅黑"/>
                <a:ea typeface="微软雅黑"/>
              </a:rPr>
              <a:t>important part except for /ɑ:/. </a:t>
            </a:r>
            <a:endParaRPr b="0" lang="en-US" sz="1800" spc="-1" strike="noStrike">
              <a:solidFill>
                <a:srgbClr val="000000"/>
              </a:solidFill>
              <a:latin typeface="等线"/>
            </a:endParaRPr>
          </a:p>
        </p:txBody>
      </p:sp>
      <p:sp>
        <p:nvSpPr>
          <p:cNvPr id="132" name="矩形 47"/>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133" name="组合 65" descr=""/>
          <p:cNvPicPr/>
          <p:nvPr/>
        </p:nvPicPr>
        <p:blipFill>
          <a:blip r:embed="rId2"/>
          <a:stretch/>
        </p:blipFill>
        <p:spPr>
          <a:xfrm>
            <a:off x="237960" y="206280"/>
            <a:ext cx="578160" cy="576360"/>
          </a:xfrm>
          <a:prstGeom prst="rect">
            <a:avLst/>
          </a:prstGeom>
          <a:ln w="0">
            <a:noFill/>
          </a:ln>
        </p:spPr>
      </p:pic>
      <p:sp>
        <p:nvSpPr>
          <p:cNvPr id="134" name="文本框 25"/>
          <p:cNvSpPr/>
          <p:nvPr/>
        </p:nvSpPr>
        <p:spPr>
          <a:xfrm>
            <a:off x="910080" y="212760"/>
            <a:ext cx="809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Pronunciation Features of Back Vowels</a:t>
            </a:r>
            <a:endParaRPr b="0" lang="en-US" sz="3200" spc="-1" strike="noStrike">
              <a:solidFill>
                <a:srgbClr val="000000"/>
              </a:solidFill>
              <a:latin typeface="等线"/>
            </a:endParaRPr>
          </a:p>
        </p:txBody>
      </p:sp>
      <p:pic>
        <p:nvPicPr>
          <p:cNvPr id="135" name="图片 1" descr=""/>
          <p:cNvPicPr/>
          <p:nvPr/>
        </p:nvPicPr>
        <p:blipFill>
          <a:blip r:embed="rId3"/>
          <a:stretch/>
        </p:blipFill>
        <p:spPr>
          <a:xfrm>
            <a:off x="246240" y="2062080"/>
            <a:ext cx="3884400" cy="3505320"/>
          </a:xfrm>
          <a:prstGeom prst="rect">
            <a:avLst/>
          </a:prstGeom>
          <a:ln w="0">
            <a:noFill/>
          </a:ln>
        </p:spPr>
      </p:pic>
    </p:spTree>
  </p:cSld>
  <p:transition>
    <p:push dir="u"/>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dur="indefinite" nodeType="clickEffect" fill="hold" presetClass="entr" presetID="50">
                                  <p:stCondLst>
                                    <p:cond delay="0"/>
                                  </p:stCondLst>
                                  <p:iterate type="lt">
                                    <p:tmAbs val="25"/>
                                  </p:iterate>
                                  <p:childTnLst>
                                    <p:set>
                                      <p:cBhvr>
                                        <p:cTn id="121" dur="1" fill="hold">
                                          <p:stCondLst>
                                            <p:cond delay="0"/>
                                          </p:stCondLst>
                                        </p:cTn>
                                        <p:tgtEl>
                                          <p:spTgt spid="123"/>
                                        </p:tgtEl>
                                        <p:attrNameLst>
                                          <p:attrName>style.visibility</p:attrName>
                                        </p:attrNameLst>
                                      </p:cBhvr>
                                      <p:to>
                                        <p:strVal val="visible"/>
                                      </p:to>
                                    </p:set>
                                    <p:anim calcmode="lin" valueType="num">
                                      <p:cBhvr additive="repl">
                                        <p:cTn id="122" dur="500" fill="hold"/>
                                        <p:tgtEl>
                                          <p:spTgt spid="123"/>
                                        </p:tgtEl>
                                        <p:attrNameLst>
                                          <p:attrName>ppt_w</p:attrName>
                                        </p:attrNameLst>
                                      </p:cBhvr>
                                      <p:tavLst>
                                        <p:tav tm="0">
                                          <p:val>
                                            <p:strVal val="#ppt_w+.3"/>
                                          </p:val>
                                        </p:tav>
                                        <p:tav tm="100000">
                                          <p:val>
                                            <p:strVal val="#ppt_w"/>
                                          </p:val>
                                        </p:tav>
                                      </p:tavLst>
                                    </p:anim>
                                    <p:anim calcmode="lin" valueType="num">
                                      <p:cBhvr additive="repl">
                                        <p:cTn id="123" dur="500" fill="hold"/>
                                        <p:tgtEl>
                                          <p:spTgt spid="123"/>
                                        </p:tgtEl>
                                        <p:attrNameLst>
                                          <p:attrName>ppt_h</p:attrName>
                                        </p:attrNameLst>
                                      </p:cBhvr>
                                      <p:tavLst>
                                        <p:tav tm="0">
                                          <p:val>
                                            <p:strVal val="#ppt_h"/>
                                          </p:val>
                                        </p:tav>
                                        <p:tav tm="100000">
                                          <p:val>
                                            <p:strVal val="#ppt_h"/>
                                          </p:val>
                                        </p:tav>
                                      </p:tavLst>
                                    </p:anim>
                                    <p:animEffect filter="fade" transition="in">
                                      <p:cBhvr additive="repl">
                                        <p:cTn id="124" dur="500"/>
                                        <p:tgtEl>
                                          <p:spTgt spid="123"/>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3" presetSubtype="10">
                                  <p:stCondLst>
                                    <p:cond delay="0"/>
                                  </p:stCondLst>
                                  <p:childTnLst>
                                    <p:set>
                                      <p:cBhvr>
                                        <p:cTn id="128"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29" dur="500"/>
                                        <p:tgtEl>
                                          <p:spTgt spid="129">
                                            <p:txEl>
                                              <p:pRg st="0" end="0"/>
                                            </p:txEl>
                                          </p:spTgt>
                                        </p:tgtEl>
                                      </p:cBhvr>
                                    </p:animEffect>
                                  </p:childTnLst>
                                </p:cTn>
                              </p:par>
                              <p:par>
                                <p:cTn id="130" dur="indefinite" nodeType="withEffect" fill="hold" presetClass="entr" presetID="3" presetSubtype="10">
                                  <p:stCondLst>
                                    <p:cond delay="0"/>
                                  </p:stCondLst>
                                  <p:childTnLst>
                                    <p:set>
                                      <p:cBhvr>
                                        <p:cTn id="131"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32" dur="500"/>
                                        <p:tgtEl>
                                          <p:spTgt spid="129">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50">
                                  <p:stCondLst>
                                    <p:cond delay="0"/>
                                  </p:stCondLst>
                                  <p:iterate type="lt">
                                    <p:tmAbs val="25"/>
                                  </p:iterate>
                                  <p:childTnLst>
                                    <p:set>
                                      <p:cBhvr>
                                        <p:cTn id="136" dur="1" fill="hold">
                                          <p:stCondLst>
                                            <p:cond delay="0"/>
                                          </p:stCondLst>
                                        </p:cTn>
                                        <p:tgtEl>
                                          <p:spTgt spid="127"/>
                                        </p:tgtEl>
                                        <p:attrNameLst>
                                          <p:attrName>style.visibility</p:attrName>
                                        </p:attrNameLst>
                                      </p:cBhvr>
                                      <p:to>
                                        <p:strVal val="visible"/>
                                      </p:to>
                                    </p:set>
                                    <p:anim calcmode="lin" valueType="num">
                                      <p:cBhvr additive="repl">
                                        <p:cTn id="137" dur="500" fill="hold"/>
                                        <p:tgtEl>
                                          <p:spTgt spid="127"/>
                                        </p:tgtEl>
                                        <p:attrNameLst>
                                          <p:attrName>ppt_w</p:attrName>
                                        </p:attrNameLst>
                                      </p:cBhvr>
                                      <p:tavLst>
                                        <p:tav tm="0">
                                          <p:val>
                                            <p:strVal val="#ppt_w+.3"/>
                                          </p:val>
                                        </p:tav>
                                        <p:tav tm="100000">
                                          <p:val>
                                            <p:strVal val="#ppt_w"/>
                                          </p:val>
                                        </p:tav>
                                      </p:tavLst>
                                    </p:anim>
                                    <p:anim calcmode="lin" valueType="num">
                                      <p:cBhvr additive="repl">
                                        <p:cTn id="138" dur="500" fill="hold"/>
                                        <p:tgtEl>
                                          <p:spTgt spid="127"/>
                                        </p:tgtEl>
                                        <p:attrNameLst>
                                          <p:attrName>ppt_h</p:attrName>
                                        </p:attrNameLst>
                                      </p:cBhvr>
                                      <p:tavLst>
                                        <p:tav tm="0">
                                          <p:val>
                                            <p:strVal val="#ppt_h"/>
                                          </p:val>
                                        </p:tav>
                                        <p:tav tm="100000">
                                          <p:val>
                                            <p:strVal val="#ppt_h"/>
                                          </p:val>
                                        </p:tav>
                                      </p:tavLst>
                                    </p:anim>
                                    <p:animEffect filter="fade" transition="in">
                                      <p:cBhvr additive="repl">
                                        <p:cTn id="139" dur="500"/>
                                        <p:tgtEl>
                                          <p:spTgt spid="127"/>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3" presetSubtype="10">
                                  <p:stCondLst>
                                    <p:cond delay="0"/>
                                  </p:stCondLst>
                                  <p:childTnLst>
                                    <p:set>
                                      <p:cBhvr>
                                        <p:cTn id="143"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144" dur="500"/>
                                        <p:tgtEl>
                                          <p:spTgt spid="130">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50">
                                  <p:stCondLst>
                                    <p:cond delay="0"/>
                                  </p:stCondLst>
                                  <p:iterate type="lt">
                                    <p:tmAbs val="25"/>
                                  </p:iterate>
                                  <p:childTnLst>
                                    <p:set>
                                      <p:cBhvr>
                                        <p:cTn id="148" dur="1" fill="hold">
                                          <p:stCondLst>
                                            <p:cond delay="0"/>
                                          </p:stCondLst>
                                        </p:cTn>
                                        <p:tgtEl>
                                          <p:spTgt spid="128"/>
                                        </p:tgtEl>
                                        <p:attrNameLst>
                                          <p:attrName>style.visibility</p:attrName>
                                        </p:attrNameLst>
                                      </p:cBhvr>
                                      <p:to>
                                        <p:strVal val="visible"/>
                                      </p:to>
                                    </p:set>
                                    <p:anim calcmode="lin" valueType="num">
                                      <p:cBhvr additive="repl">
                                        <p:cTn id="149" dur="500" fill="hold"/>
                                        <p:tgtEl>
                                          <p:spTgt spid="128"/>
                                        </p:tgtEl>
                                        <p:attrNameLst>
                                          <p:attrName>ppt_w</p:attrName>
                                        </p:attrNameLst>
                                      </p:cBhvr>
                                      <p:tavLst>
                                        <p:tav tm="0">
                                          <p:val>
                                            <p:strVal val="#ppt_w+.3"/>
                                          </p:val>
                                        </p:tav>
                                        <p:tav tm="100000">
                                          <p:val>
                                            <p:strVal val="#ppt_w"/>
                                          </p:val>
                                        </p:tav>
                                      </p:tavLst>
                                    </p:anim>
                                    <p:anim calcmode="lin" valueType="num">
                                      <p:cBhvr additive="repl">
                                        <p:cTn id="150" dur="500" fill="hold"/>
                                        <p:tgtEl>
                                          <p:spTgt spid="128"/>
                                        </p:tgtEl>
                                        <p:attrNameLst>
                                          <p:attrName>ppt_h</p:attrName>
                                        </p:attrNameLst>
                                      </p:cBhvr>
                                      <p:tavLst>
                                        <p:tav tm="0">
                                          <p:val>
                                            <p:strVal val="#ppt_h"/>
                                          </p:val>
                                        </p:tav>
                                        <p:tav tm="100000">
                                          <p:val>
                                            <p:strVal val="#ppt_h"/>
                                          </p:val>
                                        </p:tav>
                                      </p:tavLst>
                                    </p:anim>
                                    <p:animEffect filter="fade" transition="in">
                                      <p:cBhvr additive="repl">
                                        <p:cTn id="151" dur="500"/>
                                        <p:tgtEl>
                                          <p:spTgt spid="128"/>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3" presetSubtype="10">
                                  <p:stCondLst>
                                    <p:cond delay="0"/>
                                  </p:stCondLst>
                                  <p:childTnLst>
                                    <p:set>
                                      <p:cBhvr>
                                        <p:cTn id="155"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156" dur="500"/>
                                        <p:tgtEl>
                                          <p:spTgt spid="131">
                                            <p:txEl>
                                              <p:pRg st="0" end="0"/>
                                            </p:txEl>
                                          </p:spTgt>
                                        </p:tgtEl>
                                      </p:cBhvr>
                                    </p:animEffect>
                                  </p:childTnLst>
                                </p:cTn>
                              </p:par>
                              <p:par>
                                <p:cTn id="157" dur="indefinite" nodeType="withEffect" fill="hold" presetClass="entr" presetID="3" presetSubtype="10">
                                  <p:stCondLst>
                                    <p:cond delay="0"/>
                                  </p:stCondLst>
                                  <p:childTnLst>
                                    <p:set>
                                      <p:cBhvr>
                                        <p:cTn id="158"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159"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组合 9"/>
          <p:cNvGrpSpPr/>
          <p:nvPr/>
        </p:nvGrpSpPr>
        <p:grpSpPr>
          <a:xfrm>
            <a:off x="679320" y="1152360"/>
            <a:ext cx="4503960" cy="5419080"/>
            <a:chOff x="679320" y="1152360"/>
            <a:chExt cx="4503960" cy="5419080"/>
          </a:xfrm>
        </p:grpSpPr>
        <p:sp>
          <p:nvSpPr>
            <p:cNvPr id="137" name="文本框 10"/>
            <p:cNvSpPr/>
            <p:nvPr/>
          </p:nvSpPr>
          <p:spPr>
            <a:xfrm>
              <a:off x="882720" y="1152360"/>
              <a:ext cx="4127400" cy="520560"/>
            </a:xfrm>
            <a:prstGeom prst="rect">
              <a:avLst/>
            </a:prstGeom>
            <a:solidFill>
              <a:srgbClr val="3d735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ɔ:/   V.S.   /ɒ/</a:t>
              </a:r>
              <a:endParaRPr b="0" lang="en-US" sz="2800" spc="-1" strike="noStrike">
                <a:solidFill>
                  <a:srgbClr val="000000"/>
                </a:solidFill>
                <a:latin typeface="等线"/>
              </a:endParaRPr>
            </a:p>
          </p:txBody>
        </p:sp>
        <p:sp>
          <p:nvSpPr>
            <p:cNvPr id="138" name="矩形 11"/>
            <p:cNvSpPr/>
            <p:nvPr/>
          </p:nvSpPr>
          <p:spPr>
            <a:xfrm>
              <a:off x="679320" y="1903680"/>
              <a:ext cx="450396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ɔ:/</a:t>
              </a:r>
              <a:endParaRPr b="0" lang="en-US" sz="2000" spc="-1" strike="noStrike">
                <a:solidFill>
                  <a:srgbClr val="000000"/>
                </a:solidFill>
                <a:latin typeface="等线"/>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ack of the tongue is raised between open-mid and close-mid position. The tip of the tongue is slightly retracted from the lower teeth. The lips are tense and slightly rounded, but not protruded. </a:t>
              </a:r>
              <a:endParaRPr b="0" lang="en-US" sz="2000" spc="-1" strike="noStrike">
                <a:solidFill>
                  <a:srgbClr val="000000"/>
                </a:solidFill>
                <a:latin typeface="等线"/>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ɒ/</a:t>
              </a:r>
              <a:endParaRPr b="0" lang="en-US" sz="2000" spc="-1" strike="noStrike">
                <a:solidFill>
                  <a:srgbClr val="000000"/>
                </a:solidFill>
                <a:latin typeface="等线"/>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ack of the tongue is slightly above the open position and it is the highest part of the tongue body. The tip of the tongue is retracted from the lower teeth and pressed down. The mouth is widely open and the lips are slightly rounded but not protruded. </a:t>
              </a:r>
              <a:endParaRPr b="0" lang="en-US" sz="2000" spc="-1" strike="noStrike">
                <a:solidFill>
                  <a:srgbClr val="000000"/>
                </a:solidFill>
                <a:latin typeface="等线"/>
              </a:endParaRPr>
            </a:p>
          </p:txBody>
        </p:sp>
      </p:grpSp>
      <p:sp>
        <p:nvSpPr>
          <p:cNvPr id="139" name="矩形 21"/>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140" name="组合 22" descr=""/>
          <p:cNvPicPr/>
          <p:nvPr/>
        </p:nvPicPr>
        <p:blipFill>
          <a:blip r:embed="rId1"/>
          <a:stretch/>
        </p:blipFill>
        <p:spPr>
          <a:xfrm>
            <a:off x="237960" y="206280"/>
            <a:ext cx="578160" cy="576360"/>
          </a:xfrm>
          <a:prstGeom prst="rect">
            <a:avLst/>
          </a:prstGeom>
          <a:ln w="0">
            <a:noFill/>
          </a:ln>
        </p:spPr>
      </p:pic>
      <p:sp>
        <p:nvSpPr>
          <p:cNvPr id="141" name="文本框 25"/>
          <p:cNvSpPr/>
          <p:nvPr/>
        </p:nvSpPr>
        <p:spPr>
          <a:xfrm>
            <a:off x="964800" y="212760"/>
            <a:ext cx="767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Pronunciation of Each Back Vowel (1)</a:t>
            </a:r>
            <a:endParaRPr b="0" lang="en-US" sz="3200" spc="-1" strike="noStrike">
              <a:solidFill>
                <a:srgbClr val="000000"/>
              </a:solidFill>
              <a:latin typeface="等线"/>
            </a:endParaRPr>
          </a:p>
        </p:txBody>
      </p:sp>
      <p:graphicFrame>
        <p:nvGraphicFramePr>
          <p:cNvPr id="142" name=""/>
          <p:cNvGraphicFramePr/>
          <p:nvPr/>
        </p:nvGraphicFramePr>
        <p:xfrm>
          <a:off x="6235560" y="1614600"/>
          <a:ext cx="4984920" cy="2182680"/>
        </p:xfrm>
        <a:graphic>
          <a:graphicData uri="http://schemas.openxmlformats.org/drawingml/2006/table">
            <a:tbl>
              <a:tblPr/>
              <a:tblGrid>
                <a:gridCol w="2492280"/>
                <a:gridCol w="2492640"/>
              </a:tblGrid>
              <a:tr h="447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ea typeface="宋体"/>
                        </a:rPr>
                        <a:t>/</a:t>
                      </a:r>
                      <a:r>
                        <a:rPr b="1" lang="en-US" sz="2000" spc="-1" strike="noStrike">
                          <a:solidFill>
                            <a:srgbClr val="ffffff"/>
                          </a:solidFill>
                          <a:latin typeface="Calibri"/>
                        </a:rPr>
                        <a:t>ɔ:</a:t>
                      </a:r>
                      <a:r>
                        <a:rPr b="1" lang="en-US" sz="1800" spc="-1" strike="noStrike">
                          <a:solidFill>
                            <a:srgbClr val="ffffff"/>
                          </a:solidFill>
                          <a:latin typeface="Century Gothic"/>
                          <a:ea typeface="宋体"/>
                        </a:rPr>
                        <a: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cd43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ea typeface="宋体"/>
                        </a:rPr>
                        <a:t>/</a:t>
                      </a:r>
                      <a:r>
                        <a:rPr b="1" lang="en-US" sz="2000" spc="-1" strike="noStrike">
                          <a:solidFill>
                            <a:srgbClr val="ffffff"/>
                          </a:solidFill>
                          <a:latin typeface="Century Gothic"/>
                          <a:ea typeface="宋体"/>
                        </a:rPr>
                        <a:t>ɒ</a:t>
                      </a:r>
                      <a:r>
                        <a:rPr b="1" lang="en-US" sz="1800" spc="-1" strike="noStrike">
                          <a:solidFill>
                            <a:srgbClr val="ffffff"/>
                          </a:solidFill>
                          <a:latin typeface="Century Gothic"/>
                          <a:ea typeface="宋体"/>
                        </a:rPr>
                        <a: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cd433"/>
                    </a:solidFill>
                  </a:tcPr>
                </a:tc>
              </a:tr>
              <a:tr h="4348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cork</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3efc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cock</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3efcd"/>
                    </a:solidFill>
                  </a:tcPr>
                </a:tc>
              </a:tr>
              <a:tr h="433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shor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sho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r>
              <a:tr h="433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chalk</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3efc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chock</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3efcd"/>
                    </a:solidFill>
                  </a:tcPr>
                </a:tc>
              </a:tr>
              <a:tr h="433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cord</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cod</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r>
            </a:tbl>
          </a:graphicData>
        </a:graphic>
      </p:graphicFrame>
      <p:pic>
        <p:nvPicPr>
          <p:cNvPr id="143" name="图片 4" descr=""/>
          <p:cNvPicPr/>
          <p:nvPr/>
        </p:nvPicPr>
        <p:blipFill>
          <a:blip r:embed="rId2"/>
          <a:stretch/>
        </p:blipFill>
        <p:spPr>
          <a:xfrm>
            <a:off x="6235560" y="3919680"/>
            <a:ext cx="4984920" cy="2714400"/>
          </a:xfrm>
          <a:prstGeom prst="rect">
            <a:avLst/>
          </a:prstGeom>
          <a:ln w="0">
            <a:noFill/>
          </a:ln>
        </p:spPr>
      </p:pic>
    </p:spTree>
  </p:cSld>
  <p:transition>
    <p:push dir="u"/>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dur="indefinite" nodeType="clickEffect" fill="hold" presetClass="entr" presetID="2" presetSubtype="4">
                                  <p:stCondLst>
                                    <p:cond delay="0"/>
                                  </p:stCondLst>
                                  <p:childTnLst>
                                    <p:set>
                                      <p:cBhvr>
                                        <p:cTn id="165" dur="1" fill="hold">
                                          <p:stCondLst>
                                            <p:cond delay="0"/>
                                          </p:stCondLst>
                                        </p:cTn>
                                        <p:tgtEl>
                                          <p:spTgt spid="136"/>
                                        </p:tgtEl>
                                        <p:attrNameLst>
                                          <p:attrName>style.visibility</p:attrName>
                                        </p:attrNameLst>
                                      </p:cBhvr>
                                      <p:to>
                                        <p:strVal val="visible"/>
                                      </p:to>
                                    </p:set>
                                    <p:anim calcmode="lin" valueType="num">
                                      <p:cBhvr additive="repl">
                                        <p:cTn id="166" dur="500" fill="hold"/>
                                        <p:tgtEl>
                                          <p:spTgt spid="136"/>
                                        </p:tgtEl>
                                        <p:attrNameLst>
                                          <p:attrName>ppt_x</p:attrName>
                                        </p:attrNameLst>
                                      </p:cBhvr>
                                      <p:tavLst>
                                        <p:tav tm="0">
                                          <p:val>
                                            <p:strVal val="#ppt_x"/>
                                          </p:val>
                                        </p:tav>
                                        <p:tav tm="100000">
                                          <p:val>
                                            <p:strVal val="#ppt_x"/>
                                          </p:val>
                                        </p:tav>
                                      </p:tavLst>
                                    </p:anim>
                                    <p:anim calcmode="lin" valueType="num">
                                      <p:cBhvr additive="repl">
                                        <p:cTn id="167"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 presetSubtype="4">
                                  <p:stCondLst>
                                    <p:cond delay="0"/>
                                  </p:stCondLst>
                                  <p:childTnLst>
                                    <p:set>
                                      <p:cBhvr>
                                        <p:cTn id="171" dur="1" fill="hold">
                                          <p:stCondLst>
                                            <p:cond delay="0"/>
                                          </p:stCondLst>
                                        </p:cTn>
                                        <p:tgtEl>
                                          <p:spTgt spid="142"/>
                                        </p:tgtEl>
                                        <p:attrNameLst>
                                          <p:attrName>style.visibility</p:attrName>
                                        </p:attrNameLst>
                                      </p:cBhvr>
                                      <p:to>
                                        <p:strVal val="visible"/>
                                      </p:to>
                                    </p:set>
                                    <p:anim calcmode="lin" valueType="num">
                                      <p:cBhvr additive="repl">
                                        <p:cTn id="172" dur="500" fill="hold"/>
                                        <p:tgtEl>
                                          <p:spTgt spid="142"/>
                                        </p:tgtEl>
                                        <p:attrNameLst>
                                          <p:attrName>ppt_x</p:attrName>
                                        </p:attrNameLst>
                                      </p:cBhvr>
                                      <p:tavLst>
                                        <p:tav tm="0">
                                          <p:val>
                                            <p:strVal val="#ppt_x"/>
                                          </p:val>
                                        </p:tav>
                                        <p:tav tm="100000">
                                          <p:val>
                                            <p:strVal val="#ppt_x"/>
                                          </p:val>
                                        </p:tav>
                                      </p:tavLst>
                                    </p:anim>
                                    <p:anim calcmode="lin" valueType="num">
                                      <p:cBhvr additive="repl">
                                        <p:cTn id="173"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2" presetSubtype="4">
                                  <p:stCondLst>
                                    <p:cond delay="0"/>
                                  </p:stCondLst>
                                  <p:childTnLst>
                                    <p:set>
                                      <p:cBhvr>
                                        <p:cTn id="177" dur="1" fill="hold">
                                          <p:stCondLst>
                                            <p:cond delay="0"/>
                                          </p:stCondLst>
                                        </p:cTn>
                                        <p:tgtEl>
                                          <p:spTgt spid="143"/>
                                        </p:tgtEl>
                                        <p:attrNameLst>
                                          <p:attrName>style.visibility</p:attrName>
                                        </p:attrNameLst>
                                      </p:cBhvr>
                                      <p:to>
                                        <p:strVal val="visible"/>
                                      </p:to>
                                    </p:set>
                                    <p:anim calcmode="lin" valueType="num">
                                      <p:cBhvr additive="repl">
                                        <p:cTn id="178" dur="500" fill="hold"/>
                                        <p:tgtEl>
                                          <p:spTgt spid="143"/>
                                        </p:tgtEl>
                                        <p:attrNameLst>
                                          <p:attrName>ppt_x</p:attrName>
                                        </p:attrNameLst>
                                      </p:cBhvr>
                                      <p:tavLst>
                                        <p:tav tm="0">
                                          <p:val>
                                            <p:strVal val="#ppt_x"/>
                                          </p:val>
                                        </p:tav>
                                        <p:tav tm="100000">
                                          <p:val>
                                            <p:strVal val="#ppt_x"/>
                                          </p:val>
                                        </p:tav>
                                      </p:tavLst>
                                    </p:anim>
                                    <p:anim calcmode="lin" valueType="num">
                                      <p:cBhvr additive="repl">
                                        <p:cTn id="179"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21"/>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145" name="组合 22" descr=""/>
          <p:cNvPicPr/>
          <p:nvPr/>
        </p:nvPicPr>
        <p:blipFill>
          <a:blip r:embed="rId1"/>
          <a:stretch/>
        </p:blipFill>
        <p:spPr>
          <a:xfrm>
            <a:off x="237960" y="206280"/>
            <a:ext cx="578160" cy="576360"/>
          </a:xfrm>
          <a:prstGeom prst="rect">
            <a:avLst/>
          </a:prstGeom>
          <a:ln w="0">
            <a:noFill/>
          </a:ln>
        </p:spPr>
      </p:pic>
      <p:sp>
        <p:nvSpPr>
          <p:cNvPr id="146" name="文本框 25"/>
          <p:cNvSpPr/>
          <p:nvPr/>
        </p:nvSpPr>
        <p:spPr>
          <a:xfrm>
            <a:off x="964800" y="212760"/>
            <a:ext cx="767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Pronunciation of Each Back Vowel (1)</a:t>
            </a:r>
            <a:endParaRPr b="0" lang="en-US" sz="3200" spc="-1" strike="noStrike">
              <a:solidFill>
                <a:srgbClr val="000000"/>
              </a:solidFill>
              <a:latin typeface="等线"/>
            </a:endParaRPr>
          </a:p>
        </p:txBody>
      </p:sp>
      <p:pic>
        <p:nvPicPr>
          <p:cNvPr id="147" name="文本框 6" descr=""/>
          <p:cNvPicPr/>
          <p:nvPr/>
        </p:nvPicPr>
        <p:blipFill>
          <a:blip r:embed="rId2"/>
          <a:stretch/>
        </p:blipFill>
        <p:spPr>
          <a:xfrm>
            <a:off x="3960720" y="5486400"/>
            <a:ext cx="4935600" cy="577800"/>
          </a:xfrm>
          <a:prstGeom prst="rect">
            <a:avLst/>
          </a:prstGeom>
          <a:ln w="0">
            <a:noFill/>
          </a:ln>
        </p:spPr>
      </p:pic>
      <p:pic>
        <p:nvPicPr>
          <p:cNvPr id="148" name="11.mp4" descr=""/>
          <p:cNvPicPr/>
          <p:nvPr/>
        </p:nvPicPr>
        <p:blipFill>
          <a:blip r:embed="rId3"/>
          <a:stretch/>
        </p:blipFill>
        <p:spPr>
          <a:xfrm>
            <a:off x="371520" y="1943280"/>
            <a:ext cx="5181480" cy="2590560"/>
          </a:xfrm>
          <a:prstGeom prst="rect">
            <a:avLst/>
          </a:prstGeom>
          <a:ln w="0">
            <a:noFill/>
          </a:ln>
        </p:spPr>
      </p:pic>
      <p:pic>
        <p:nvPicPr>
          <p:cNvPr id="149" name="04.mp4" descr=""/>
          <p:cNvPicPr/>
          <p:nvPr/>
        </p:nvPicPr>
        <p:blipFill>
          <a:blip r:embed="rId4"/>
          <a:stretch/>
        </p:blipFill>
        <p:spPr>
          <a:xfrm>
            <a:off x="6108840" y="1943280"/>
            <a:ext cx="5181480" cy="2590560"/>
          </a:xfrm>
          <a:prstGeom prst="rect">
            <a:avLst/>
          </a:prstGeom>
          <a:ln w="0">
            <a:noFill/>
          </a:ln>
        </p:spPr>
      </p:pic>
      <p:sp>
        <p:nvSpPr>
          <p:cNvPr id="150" name=" 2050"/>
          <p:cNvSpPr/>
          <p:nvPr/>
        </p:nvSpPr>
        <p:spPr>
          <a:xfrm>
            <a:off x="669960" y="4313160"/>
            <a:ext cx="380880" cy="517680"/>
          </a:xfrm>
          <a:custGeom>
            <a:avLst/>
            <a:gdLst/>
            <a:ahLst/>
            <a:rect l="l" t="t" r="r" b="b"/>
            <a:pathLst>
              <a:path w="1646238" h="2433638">
                <a:moveTo>
                  <a:pt x="577732" y="161925"/>
                </a:moveTo>
                <a:lnTo>
                  <a:pt x="586070" y="162719"/>
                </a:lnTo>
                <a:lnTo>
                  <a:pt x="593614" y="163910"/>
                </a:lnTo>
                <a:lnTo>
                  <a:pt x="597585" y="164703"/>
                </a:lnTo>
                <a:lnTo>
                  <a:pt x="601953" y="165894"/>
                </a:lnTo>
                <a:lnTo>
                  <a:pt x="605526" y="167482"/>
                </a:lnTo>
                <a:lnTo>
                  <a:pt x="609100" y="169069"/>
                </a:lnTo>
                <a:lnTo>
                  <a:pt x="612674" y="171053"/>
                </a:lnTo>
                <a:lnTo>
                  <a:pt x="616247" y="173435"/>
                </a:lnTo>
                <a:lnTo>
                  <a:pt x="619821" y="176610"/>
                </a:lnTo>
                <a:lnTo>
                  <a:pt x="623394" y="179388"/>
                </a:lnTo>
                <a:lnTo>
                  <a:pt x="626968" y="182563"/>
                </a:lnTo>
                <a:lnTo>
                  <a:pt x="630145" y="186135"/>
                </a:lnTo>
                <a:lnTo>
                  <a:pt x="633321" y="190103"/>
                </a:lnTo>
                <a:lnTo>
                  <a:pt x="636498" y="194469"/>
                </a:lnTo>
                <a:lnTo>
                  <a:pt x="639674" y="199232"/>
                </a:lnTo>
                <a:lnTo>
                  <a:pt x="642454" y="204788"/>
                </a:lnTo>
                <a:lnTo>
                  <a:pt x="645233" y="210344"/>
                </a:lnTo>
                <a:lnTo>
                  <a:pt x="648013" y="216297"/>
                </a:lnTo>
                <a:lnTo>
                  <a:pt x="650792" y="222647"/>
                </a:lnTo>
                <a:lnTo>
                  <a:pt x="653969" y="229394"/>
                </a:lnTo>
                <a:lnTo>
                  <a:pt x="656351" y="237332"/>
                </a:lnTo>
                <a:lnTo>
                  <a:pt x="658733" y="245269"/>
                </a:lnTo>
                <a:lnTo>
                  <a:pt x="838208" y="927100"/>
                </a:lnTo>
                <a:lnTo>
                  <a:pt x="840193" y="928291"/>
                </a:lnTo>
                <a:lnTo>
                  <a:pt x="841781" y="933450"/>
                </a:lnTo>
                <a:lnTo>
                  <a:pt x="899356" y="921941"/>
                </a:lnTo>
                <a:lnTo>
                  <a:pt x="911665" y="922338"/>
                </a:lnTo>
                <a:lnTo>
                  <a:pt x="923180" y="923529"/>
                </a:lnTo>
                <a:lnTo>
                  <a:pt x="935489" y="924719"/>
                </a:lnTo>
                <a:lnTo>
                  <a:pt x="946607" y="926704"/>
                </a:lnTo>
                <a:lnTo>
                  <a:pt x="957725" y="929482"/>
                </a:lnTo>
                <a:lnTo>
                  <a:pt x="969240" y="932657"/>
                </a:lnTo>
                <a:lnTo>
                  <a:pt x="979960" y="936229"/>
                </a:lnTo>
                <a:lnTo>
                  <a:pt x="991078" y="939800"/>
                </a:lnTo>
                <a:lnTo>
                  <a:pt x="1001402" y="944166"/>
                </a:lnTo>
                <a:lnTo>
                  <a:pt x="1011726" y="948929"/>
                </a:lnTo>
                <a:lnTo>
                  <a:pt x="1022049" y="954485"/>
                </a:lnTo>
                <a:lnTo>
                  <a:pt x="1031976" y="960438"/>
                </a:lnTo>
                <a:lnTo>
                  <a:pt x="1041506" y="966788"/>
                </a:lnTo>
                <a:lnTo>
                  <a:pt x="1051432" y="973535"/>
                </a:lnTo>
                <a:lnTo>
                  <a:pt x="1060565" y="980679"/>
                </a:lnTo>
                <a:lnTo>
                  <a:pt x="1069697" y="988616"/>
                </a:lnTo>
                <a:lnTo>
                  <a:pt x="1076050" y="994172"/>
                </a:lnTo>
                <a:lnTo>
                  <a:pt x="1081212" y="999729"/>
                </a:lnTo>
                <a:lnTo>
                  <a:pt x="1086374" y="1005682"/>
                </a:lnTo>
                <a:lnTo>
                  <a:pt x="1090345" y="1012032"/>
                </a:lnTo>
                <a:lnTo>
                  <a:pt x="1126478" y="1071960"/>
                </a:lnTo>
                <a:lnTo>
                  <a:pt x="1183258" y="1074341"/>
                </a:lnTo>
                <a:lnTo>
                  <a:pt x="1184847" y="1075532"/>
                </a:lnTo>
                <a:lnTo>
                  <a:pt x="1199538" y="1077913"/>
                </a:lnTo>
                <a:lnTo>
                  <a:pt x="1214230" y="1081088"/>
                </a:lnTo>
                <a:lnTo>
                  <a:pt x="1228524" y="1085057"/>
                </a:lnTo>
                <a:lnTo>
                  <a:pt x="1242818" y="1089422"/>
                </a:lnTo>
                <a:lnTo>
                  <a:pt x="1256716" y="1094582"/>
                </a:lnTo>
                <a:lnTo>
                  <a:pt x="1271010" y="1100932"/>
                </a:lnTo>
                <a:lnTo>
                  <a:pt x="1284510" y="1106885"/>
                </a:lnTo>
                <a:lnTo>
                  <a:pt x="1298011" y="1114029"/>
                </a:lnTo>
                <a:lnTo>
                  <a:pt x="1310717" y="1121172"/>
                </a:lnTo>
                <a:lnTo>
                  <a:pt x="1323820" y="1129507"/>
                </a:lnTo>
                <a:lnTo>
                  <a:pt x="1336129" y="1137444"/>
                </a:lnTo>
                <a:lnTo>
                  <a:pt x="1348041" y="1146175"/>
                </a:lnTo>
                <a:lnTo>
                  <a:pt x="1359953" y="1155700"/>
                </a:lnTo>
                <a:lnTo>
                  <a:pt x="1371071" y="1165225"/>
                </a:lnTo>
                <a:lnTo>
                  <a:pt x="1381792" y="1175147"/>
                </a:lnTo>
                <a:lnTo>
                  <a:pt x="1392115" y="1185863"/>
                </a:lnTo>
                <a:lnTo>
                  <a:pt x="1408792" y="1204119"/>
                </a:lnTo>
                <a:lnTo>
                  <a:pt x="1424278" y="1223566"/>
                </a:lnTo>
                <a:lnTo>
                  <a:pt x="1439763" y="1243410"/>
                </a:lnTo>
                <a:lnTo>
                  <a:pt x="1454058" y="1263254"/>
                </a:lnTo>
                <a:lnTo>
                  <a:pt x="1467955" y="1283891"/>
                </a:lnTo>
                <a:lnTo>
                  <a:pt x="1480264" y="1305322"/>
                </a:lnTo>
                <a:lnTo>
                  <a:pt x="1492970" y="1327150"/>
                </a:lnTo>
                <a:lnTo>
                  <a:pt x="1504088" y="1348582"/>
                </a:lnTo>
                <a:lnTo>
                  <a:pt x="1505279" y="1351360"/>
                </a:lnTo>
                <a:lnTo>
                  <a:pt x="1506471" y="1352154"/>
                </a:lnTo>
                <a:lnTo>
                  <a:pt x="1508059" y="1352550"/>
                </a:lnTo>
                <a:lnTo>
                  <a:pt x="1518780" y="1353344"/>
                </a:lnTo>
                <a:lnTo>
                  <a:pt x="1528309" y="1355329"/>
                </a:lnTo>
                <a:lnTo>
                  <a:pt x="1537839" y="1357710"/>
                </a:lnTo>
                <a:lnTo>
                  <a:pt x="1546971" y="1360885"/>
                </a:lnTo>
                <a:lnTo>
                  <a:pt x="1555707" y="1364457"/>
                </a:lnTo>
                <a:lnTo>
                  <a:pt x="1563648" y="1368822"/>
                </a:lnTo>
                <a:lnTo>
                  <a:pt x="1571590" y="1373982"/>
                </a:lnTo>
                <a:lnTo>
                  <a:pt x="1578737" y="1379935"/>
                </a:lnTo>
                <a:lnTo>
                  <a:pt x="1585487" y="1385888"/>
                </a:lnTo>
                <a:lnTo>
                  <a:pt x="1591840" y="1392238"/>
                </a:lnTo>
                <a:lnTo>
                  <a:pt x="1597796" y="1398985"/>
                </a:lnTo>
                <a:lnTo>
                  <a:pt x="1603752" y="1406525"/>
                </a:lnTo>
                <a:lnTo>
                  <a:pt x="1608914" y="1413669"/>
                </a:lnTo>
                <a:lnTo>
                  <a:pt x="1613678" y="1421607"/>
                </a:lnTo>
                <a:lnTo>
                  <a:pt x="1618046" y="1429544"/>
                </a:lnTo>
                <a:lnTo>
                  <a:pt x="1622017" y="1437879"/>
                </a:lnTo>
                <a:lnTo>
                  <a:pt x="1625988" y="1446213"/>
                </a:lnTo>
                <a:lnTo>
                  <a:pt x="1629561" y="1454547"/>
                </a:lnTo>
                <a:lnTo>
                  <a:pt x="1632738" y="1463279"/>
                </a:lnTo>
                <a:lnTo>
                  <a:pt x="1635517" y="1471613"/>
                </a:lnTo>
                <a:lnTo>
                  <a:pt x="1637900" y="1479947"/>
                </a:lnTo>
                <a:lnTo>
                  <a:pt x="1639885" y="1488282"/>
                </a:lnTo>
                <a:lnTo>
                  <a:pt x="1641473" y="1497013"/>
                </a:lnTo>
                <a:lnTo>
                  <a:pt x="1643062" y="1504950"/>
                </a:lnTo>
                <a:lnTo>
                  <a:pt x="1644253" y="1512491"/>
                </a:lnTo>
                <a:lnTo>
                  <a:pt x="1645047" y="1520429"/>
                </a:lnTo>
                <a:lnTo>
                  <a:pt x="1645841" y="1527969"/>
                </a:lnTo>
                <a:lnTo>
                  <a:pt x="1646238" y="1534716"/>
                </a:lnTo>
                <a:lnTo>
                  <a:pt x="1646238" y="1541463"/>
                </a:lnTo>
                <a:lnTo>
                  <a:pt x="1646238" y="1548210"/>
                </a:lnTo>
                <a:lnTo>
                  <a:pt x="1645841" y="1553766"/>
                </a:lnTo>
                <a:lnTo>
                  <a:pt x="1645444" y="1558925"/>
                </a:lnTo>
                <a:lnTo>
                  <a:pt x="1643458" y="1570832"/>
                </a:lnTo>
                <a:lnTo>
                  <a:pt x="1642267" y="1583532"/>
                </a:lnTo>
                <a:lnTo>
                  <a:pt x="1641473" y="1595835"/>
                </a:lnTo>
                <a:lnTo>
                  <a:pt x="1640679" y="1608535"/>
                </a:lnTo>
                <a:lnTo>
                  <a:pt x="1634723" y="1749029"/>
                </a:lnTo>
                <a:lnTo>
                  <a:pt x="1628370" y="1889126"/>
                </a:lnTo>
                <a:lnTo>
                  <a:pt x="1627973" y="1902222"/>
                </a:lnTo>
                <a:lnTo>
                  <a:pt x="1626385" y="1915716"/>
                </a:lnTo>
                <a:lnTo>
                  <a:pt x="1625194" y="1928416"/>
                </a:lnTo>
                <a:lnTo>
                  <a:pt x="1623208" y="1941910"/>
                </a:lnTo>
                <a:lnTo>
                  <a:pt x="1621223" y="1954610"/>
                </a:lnTo>
                <a:lnTo>
                  <a:pt x="1618840" y="1968104"/>
                </a:lnTo>
                <a:lnTo>
                  <a:pt x="1616061" y="1980804"/>
                </a:lnTo>
                <a:lnTo>
                  <a:pt x="1612884" y="1993504"/>
                </a:lnTo>
                <a:lnTo>
                  <a:pt x="1604546" y="2026444"/>
                </a:lnTo>
                <a:lnTo>
                  <a:pt x="1595414" y="2058988"/>
                </a:lnTo>
                <a:lnTo>
                  <a:pt x="1586281" y="2091532"/>
                </a:lnTo>
                <a:lnTo>
                  <a:pt x="1577148" y="2123679"/>
                </a:lnTo>
                <a:lnTo>
                  <a:pt x="1579134" y="2125663"/>
                </a:lnTo>
                <a:lnTo>
                  <a:pt x="1617252" y="2294732"/>
                </a:lnTo>
                <a:lnTo>
                  <a:pt x="1571590" y="2303463"/>
                </a:lnTo>
                <a:lnTo>
                  <a:pt x="1487411" y="2318147"/>
                </a:lnTo>
                <a:lnTo>
                  <a:pt x="1251951" y="2359026"/>
                </a:lnTo>
                <a:lnTo>
                  <a:pt x="1000608" y="2402285"/>
                </a:lnTo>
                <a:lnTo>
                  <a:pt x="897370" y="2420541"/>
                </a:lnTo>
                <a:lnTo>
                  <a:pt x="824310" y="2433638"/>
                </a:lnTo>
                <a:lnTo>
                  <a:pt x="785398" y="2236391"/>
                </a:lnTo>
                <a:lnTo>
                  <a:pt x="781030" y="2228851"/>
                </a:lnTo>
                <a:lnTo>
                  <a:pt x="776662" y="2221707"/>
                </a:lnTo>
                <a:lnTo>
                  <a:pt x="771897" y="2214563"/>
                </a:lnTo>
                <a:lnTo>
                  <a:pt x="767133" y="2207816"/>
                </a:lnTo>
                <a:lnTo>
                  <a:pt x="761574" y="2201069"/>
                </a:lnTo>
                <a:lnTo>
                  <a:pt x="756015" y="2194719"/>
                </a:lnTo>
                <a:lnTo>
                  <a:pt x="750456" y="2188369"/>
                </a:lnTo>
                <a:lnTo>
                  <a:pt x="744897" y="2182416"/>
                </a:lnTo>
                <a:lnTo>
                  <a:pt x="738544" y="2176463"/>
                </a:lnTo>
                <a:lnTo>
                  <a:pt x="732191" y="2170907"/>
                </a:lnTo>
                <a:lnTo>
                  <a:pt x="725441" y="2165351"/>
                </a:lnTo>
                <a:lnTo>
                  <a:pt x="719088" y="2159794"/>
                </a:lnTo>
                <a:lnTo>
                  <a:pt x="711940" y="2155032"/>
                </a:lnTo>
                <a:lnTo>
                  <a:pt x="704396" y="2149873"/>
                </a:lnTo>
                <a:lnTo>
                  <a:pt x="697249" y="2145507"/>
                </a:lnTo>
                <a:lnTo>
                  <a:pt x="689705" y="2141141"/>
                </a:lnTo>
                <a:lnTo>
                  <a:pt x="678984" y="2135585"/>
                </a:lnTo>
                <a:lnTo>
                  <a:pt x="668660" y="2130029"/>
                </a:lnTo>
                <a:lnTo>
                  <a:pt x="648807" y="2118519"/>
                </a:lnTo>
                <a:lnTo>
                  <a:pt x="630145" y="2106216"/>
                </a:lnTo>
                <a:lnTo>
                  <a:pt x="611482" y="2093119"/>
                </a:lnTo>
                <a:lnTo>
                  <a:pt x="593217" y="2080022"/>
                </a:lnTo>
                <a:lnTo>
                  <a:pt x="576144" y="2065735"/>
                </a:lnTo>
                <a:lnTo>
                  <a:pt x="559070" y="2051447"/>
                </a:lnTo>
                <a:lnTo>
                  <a:pt x="543187" y="2035969"/>
                </a:lnTo>
                <a:lnTo>
                  <a:pt x="526907" y="2020491"/>
                </a:lnTo>
                <a:lnTo>
                  <a:pt x="511422" y="2004616"/>
                </a:lnTo>
                <a:lnTo>
                  <a:pt x="496333" y="1988344"/>
                </a:lnTo>
                <a:lnTo>
                  <a:pt x="481245" y="1971676"/>
                </a:lnTo>
                <a:lnTo>
                  <a:pt x="466951" y="1954610"/>
                </a:lnTo>
                <a:lnTo>
                  <a:pt x="452259" y="1937147"/>
                </a:lnTo>
                <a:lnTo>
                  <a:pt x="424067" y="1902222"/>
                </a:lnTo>
                <a:lnTo>
                  <a:pt x="418111" y="1894285"/>
                </a:lnTo>
                <a:lnTo>
                  <a:pt x="412552" y="1886744"/>
                </a:lnTo>
                <a:lnTo>
                  <a:pt x="401435" y="1870472"/>
                </a:lnTo>
                <a:lnTo>
                  <a:pt x="391508" y="1853804"/>
                </a:lnTo>
                <a:lnTo>
                  <a:pt x="381978" y="1837532"/>
                </a:lnTo>
                <a:lnTo>
                  <a:pt x="372846" y="1820069"/>
                </a:lnTo>
                <a:lnTo>
                  <a:pt x="364110" y="1803401"/>
                </a:lnTo>
                <a:lnTo>
                  <a:pt x="356169" y="1785541"/>
                </a:lnTo>
                <a:lnTo>
                  <a:pt x="348228" y="1768079"/>
                </a:lnTo>
                <a:lnTo>
                  <a:pt x="332345" y="1733551"/>
                </a:lnTo>
                <a:lnTo>
                  <a:pt x="324404" y="1716485"/>
                </a:lnTo>
                <a:lnTo>
                  <a:pt x="316065" y="1699022"/>
                </a:lnTo>
                <a:lnTo>
                  <a:pt x="307727" y="1682354"/>
                </a:lnTo>
                <a:lnTo>
                  <a:pt x="298991" y="1666082"/>
                </a:lnTo>
                <a:lnTo>
                  <a:pt x="289462" y="1649413"/>
                </a:lnTo>
                <a:lnTo>
                  <a:pt x="279535" y="1633935"/>
                </a:lnTo>
                <a:lnTo>
                  <a:pt x="275962" y="1624410"/>
                </a:lnTo>
                <a:lnTo>
                  <a:pt x="271594" y="1614885"/>
                </a:lnTo>
                <a:lnTo>
                  <a:pt x="266829" y="1605360"/>
                </a:lnTo>
                <a:lnTo>
                  <a:pt x="261667" y="1595835"/>
                </a:lnTo>
                <a:lnTo>
                  <a:pt x="256505" y="1586310"/>
                </a:lnTo>
                <a:lnTo>
                  <a:pt x="250946" y="1577182"/>
                </a:lnTo>
                <a:lnTo>
                  <a:pt x="239431" y="1558132"/>
                </a:lnTo>
                <a:lnTo>
                  <a:pt x="227122" y="1539479"/>
                </a:lnTo>
                <a:lnTo>
                  <a:pt x="214813" y="1521619"/>
                </a:lnTo>
                <a:lnTo>
                  <a:pt x="190592" y="1486694"/>
                </a:lnTo>
                <a:lnTo>
                  <a:pt x="185827" y="1479154"/>
                </a:lnTo>
                <a:lnTo>
                  <a:pt x="181063" y="1470422"/>
                </a:lnTo>
                <a:lnTo>
                  <a:pt x="170342" y="1450579"/>
                </a:lnTo>
                <a:lnTo>
                  <a:pt x="164783" y="1441054"/>
                </a:lnTo>
                <a:lnTo>
                  <a:pt x="159224" y="1431132"/>
                </a:lnTo>
                <a:lnTo>
                  <a:pt x="156444" y="1427163"/>
                </a:lnTo>
                <a:lnTo>
                  <a:pt x="153268" y="1423194"/>
                </a:lnTo>
                <a:lnTo>
                  <a:pt x="149694" y="1419622"/>
                </a:lnTo>
                <a:lnTo>
                  <a:pt x="146518" y="1416447"/>
                </a:lnTo>
                <a:lnTo>
                  <a:pt x="143738" y="1413272"/>
                </a:lnTo>
                <a:lnTo>
                  <a:pt x="140959" y="1409304"/>
                </a:lnTo>
                <a:lnTo>
                  <a:pt x="138576" y="1404541"/>
                </a:lnTo>
                <a:lnTo>
                  <a:pt x="136591" y="1398985"/>
                </a:lnTo>
                <a:lnTo>
                  <a:pt x="134209" y="1393429"/>
                </a:lnTo>
                <a:lnTo>
                  <a:pt x="132620" y="1387475"/>
                </a:lnTo>
                <a:lnTo>
                  <a:pt x="129047" y="1373982"/>
                </a:lnTo>
                <a:lnTo>
                  <a:pt x="125870" y="1360488"/>
                </a:lnTo>
                <a:lnTo>
                  <a:pt x="122694" y="1346994"/>
                </a:lnTo>
                <a:lnTo>
                  <a:pt x="120311" y="1335485"/>
                </a:lnTo>
                <a:lnTo>
                  <a:pt x="117532" y="1325563"/>
                </a:lnTo>
                <a:lnTo>
                  <a:pt x="109194" y="1300560"/>
                </a:lnTo>
                <a:lnTo>
                  <a:pt x="100458" y="1276350"/>
                </a:lnTo>
                <a:lnTo>
                  <a:pt x="95296" y="1264047"/>
                </a:lnTo>
                <a:lnTo>
                  <a:pt x="90531" y="1252538"/>
                </a:lnTo>
                <a:lnTo>
                  <a:pt x="85767" y="1241425"/>
                </a:lnTo>
                <a:lnTo>
                  <a:pt x="80208" y="1229916"/>
                </a:lnTo>
                <a:lnTo>
                  <a:pt x="77031" y="1223566"/>
                </a:lnTo>
                <a:lnTo>
                  <a:pt x="73458" y="1217216"/>
                </a:lnTo>
                <a:lnTo>
                  <a:pt x="65119" y="1203722"/>
                </a:lnTo>
                <a:lnTo>
                  <a:pt x="55987" y="1190625"/>
                </a:lnTo>
                <a:lnTo>
                  <a:pt x="46457" y="1177132"/>
                </a:lnTo>
                <a:lnTo>
                  <a:pt x="26207" y="1150938"/>
                </a:lnTo>
                <a:lnTo>
                  <a:pt x="6353" y="1125538"/>
                </a:lnTo>
                <a:lnTo>
                  <a:pt x="3574" y="1121172"/>
                </a:lnTo>
                <a:lnTo>
                  <a:pt x="1589" y="1116410"/>
                </a:lnTo>
                <a:lnTo>
                  <a:pt x="397" y="1111250"/>
                </a:lnTo>
                <a:lnTo>
                  <a:pt x="0" y="1106091"/>
                </a:lnTo>
                <a:lnTo>
                  <a:pt x="0" y="1100535"/>
                </a:lnTo>
                <a:lnTo>
                  <a:pt x="794" y="1094582"/>
                </a:lnTo>
                <a:lnTo>
                  <a:pt x="1986" y="1088629"/>
                </a:lnTo>
                <a:lnTo>
                  <a:pt x="3574" y="1083072"/>
                </a:lnTo>
                <a:lnTo>
                  <a:pt x="5559" y="1077516"/>
                </a:lnTo>
                <a:lnTo>
                  <a:pt x="8339" y="1071960"/>
                </a:lnTo>
                <a:lnTo>
                  <a:pt x="11118" y="1066404"/>
                </a:lnTo>
                <a:lnTo>
                  <a:pt x="14295" y="1061641"/>
                </a:lnTo>
                <a:lnTo>
                  <a:pt x="17868" y="1056879"/>
                </a:lnTo>
                <a:lnTo>
                  <a:pt x="21045" y="1052910"/>
                </a:lnTo>
                <a:lnTo>
                  <a:pt x="24618" y="1048941"/>
                </a:lnTo>
                <a:lnTo>
                  <a:pt x="28192" y="1045766"/>
                </a:lnTo>
                <a:lnTo>
                  <a:pt x="33751" y="1041400"/>
                </a:lnTo>
                <a:lnTo>
                  <a:pt x="39310" y="1037432"/>
                </a:lnTo>
                <a:lnTo>
                  <a:pt x="45663" y="1034257"/>
                </a:lnTo>
                <a:lnTo>
                  <a:pt x="52016" y="1031479"/>
                </a:lnTo>
                <a:lnTo>
                  <a:pt x="58369" y="1029097"/>
                </a:lnTo>
                <a:lnTo>
                  <a:pt x="64722" y="1027113"/>
                </a:lnTo>
                <a:lnTo>
                  <a:pt x="71869" y="1025922"/>
                </a:lnTo>
                <a:lnTo>
                  <a:pt x="78619" y="1024732"/>
                </a:lnTo>
                <a:lnTo>
                  <a:pt x="85767" y="1023938"/>
                </a:lnTo>
                <a:lnTo>
                  <a:pt x="92517" y="1023541"/>
                </a:lnTo>
                <a:lnTo>
                  <a:pt x="100061" y="1023938"/>
                </a:lnTo>
                <a:lnTo>
                  <a:pt x="107208" y="1024335"/>
                </a:lnTo>
                <a:lnTo>
                  <a:pt x="114355" y="1024732"/>
                </a:lnTo>
                <a:lnTo>
                  <a:pt x="121503" y="1025922"/>
                </a:lnTo>
                <a:lnTo>
                  <a:pt x="129047" y="1027510"/>
                </a:lnTo>
                <a:lnTo>
                  <a:pt x="136194" y="1029097"/>
                </a:lnTo>
                <a:lnTo>
                  <a:pt x="143341" y="1031082"/>
                </a:lnTo>
                <a:lnTo>
                  <a:pt x="150488" y="1033066"/>
                </a:lnTo>
                <a:lnTo>
                  <a:pt x="157636" y="1035844"/>
                </a:lnTo>
                <a:lnTo>
                  <a:pt x="164783" y="1038622"/>
                </a:lnTo>
                <a:lnTo>
                  <a:pt x="171533" y="1041400"/>
                </a:lnTo>
                <a:lnTo>
                  <a:pt x="177886" y="1044972"/>
                </a:lnTo>
                <a:lnTo>
                  <a:pt x="185033" y="1048544"/>
                </a:lnTo>
                <a:lnTo>
                  <a:pt x="191386" y="1052116"/>
                </a:lnTo>
                <a:lnTo>
                  <a:pt x="197739" y="1055688"/>
                </a:lnTo>
                <a:lnTo>
                  <a:pt x="203695" y="1059657"/>
                </a:lnTo>
                <a:lnTo>
                  <a:pt x="209651" y="1064022"/>
                </a:lnTo>
                <a:lnTo>
                  <a:pt x="215210" y="1067991"/>
                </a:lnTo>
                <a:lnTo>
                  <a:pt x="220769" y="1072754"/>
                </a:lnTo>
                <a:lnTo>
                  <a:pt x="225534" y="1077516"/>
                </a:lnTo>
                <a:lnTo>
                  <a:pt x="230299" y="1081882"/>
                </a:lnTo>
                <a:lnTo>
                  <a:pt x="235064" y="1086644"/>
                </a:lnTo>
                <a:lnTo>
                  <a:pt x="239828" y="1092200"/>
                </a:lnTo>
                <a:lnTo>
                  <a:pt x="244593" y="1097757"/>
                </a:lnTo>
                <a:lnTo>
                  <a:pt x="252932" y="1109663"/>
                </a:lnTo>
                <a:lnTo>
                  <a:pt x="260873" y="1121966"/>
                </a:lnTo>
                <a:lnTo>
                  <a:pt x="268814" y="1135063"/>
                </a:lnTo>
                <a:lnTo>
                  <a:pt x="283903" y="1160463"/>
                </a:lnTo>
                <a:lnTo>
                  <a:pt x="291447" y="1173163"/>
                </a:lnTo>
                <a:lnTo>
                  <a:pt x="299388" y="1185069"/>
                </a:lnTo>
                <a:lnTo>
                  <a:pt x="306139" y="1195785"/>
                </a:lnTo>
                <a:lnTo>
                  <a:pt x="312889" y="1206897"/>
                </a:lnTo>
                <a:lnTo>
                  <a:pt x="327580" y="1230710"/>
                </a:lnTo>
                <a:lnTo>
                  <a:pt x="342272" y="1255713"/>
                </a:lnTo>
                <a:lnTo>
                  <a:pt x="357757" y="1281113"/>
                </a:lnTo>
                <a:lnTo>
                  <a:pt x="365699" y="1293416"/>
                </a:lnTo>
                <a:lnTo>
                  <a:pt x="373640" y="1305719"/>
                </a:lnTo>
                <a:lnTo>
                  <a:pt x="382375" y="1317229"/>
                </a:lnTo>
                <a:lnTo>
                  <a:pt x="390714" y="1328738"/>
                </a:lnTo>
                <a:lnTo>
                  <a:pt x="399846" y="1339454"/>
                </a:lnTo>
                <a:lnTo>
                  <a:pt x="409376" y="1348979"/>
                </a:lnTo>
                <a:lnTo>
                  <a:pt x="418905" y="1358504"/>
                </a:lnTo>
                <a:lnTo>
                  <a:pt x="423670" y="1362472"/>
                </a:lnTo>
                <a:lnTo>
                  <a:pt x="428832" y="1366441"/>
                </a:lnTo>
                <a:lnTo>
                  <a:pt x="437171" y="1372791"/>
                </a:lnTo>
                <a:lnTo>
                  <a:pt x="445112" y="1378744"/>
                </a:lnTo>
                <a:lnTo>
                  <a:pt x="453450" y="1383904"/>
                </a:lnTo>
                <a:lnTo>
                  <a:pt x="462186" y="1388666"/>
                </a:lnTo>
                <a:lnTo>
                  <a:pt x="470921" y="1392635"/>
                </a:lnTo>
                <a:lnTo>
                  <a:pt x="479260" y="1396207"/>
                </a:lnTo>
                <a:lnTo>
                  <a:pt x="488789" y="1399382"/>
                </a:lnTo>
                <a:lnTo>
                  <a:pt x="497525" y="1402160"/>
                </a:lnTo>
                <a:lnTo>
                  <a:pt x="506657" y="1404144"/>
                </a:lnTo>
                <a:lnTo>
                  <a:pt x="516187" y="1405732"/>
                </a:lnTo>
                <a:lnTo>
                  <a:pt x="525716" y="1407319"/>
                </a:lnTo>
                <a:lnTo>
                  <a:pt x="535246" y="1408113"/>
                </a:lnTo>
                <a:lnTo>
                  <a:pt x="545172" y="1408113"/>
                </a:lnTo>
                <a:lnTo>
                  <a:pt x="555099" y="1407716"/>
                </a:lnTo>
                <a:lnTo>
                  <a:pt x="565423" y="1406922"/>
                </a:lnTo>
                <a:lnTo>
                  <a:pt x="575746" y="1404938"/>
                </a:lnTo>
                <a:lnTo>
                  <a:pt x="578923" y="1404541"/>
                </a:lnTo>
                <a:lnTo>
                  <a:pt x="582497" y="1402954"/>
                </a:lnTo>
                <a:lnTo>
                  <a:pt x="586467" y="1401366"/>
                </a:lnTo>
                <a:lnTo>
                  <a:pt x="590041" y="1398985"/>
                </a:lnTo>
                <a:lnTo>
                  <a:pt x="594012" y="1395810"/>
                </a:lnTo>
                <a:lnTo>
                  <a:pt x="597585" y="1392635"/>
                </a:lnTo>
                <a:lnTo>
                  <a:pt x="601556" y="1389460"/>
                </a:lnTo>
                <a:lnTo>
                  <a:pt x="604335" y="1385491"/>
                </a:lnTo>
                <a:lnTo>
                  <a:pt x="609894" y="1379141"/>
                </a:lnTo>
                <a:lnTo>
                  <a:pt x="614659" y="1372394"/>
                </a:lnTo>
                <a:lnTo>
                  <a:pt x="619424" y="1365647"/>
                </a:lnTo>
                <a:lnTo>
                  <a:pt x="623394" y="1358900"/>
                </a:lnTo>
                <a:lnTo>
                  <a:pt x="627762" y="1352154"/>
                </a:lnTo>
                <a:lnTo>
                  <a:pt x="631336" y="1344613"/>
                </a:lnTo>
                <a:lnTo>
                  <a:pt x="634512" y="1337469"/>
                </a:lnTo>
                <a:lnTo>
                  <a:pt x="637292" y="1330325"/>
                </a:lnTo>
                <a:lnTo>
                  <a:pt x="640071" y="1323182"/>
                </a:lnTo>
                <a:lnTo>
                  <a:pt x="642057" y="1315244"/>
                </a:lnTo>
                <a:lnTo>
                  <a:pt x="644042" y="1307704"/>
                </a:lnTo>
                <a:lnTo>
                  <a:pt x="645233" y="1299766"/>
                </a:lnTo>
                <a:lnTo>
                  <a:pt x="646424" y="1291829"/>
                </a:lnTo>
                <a:lnTo>
                  <a:pt x="647218" y="1283891"/>
                </a:lnTo>
                <a:lnTo>
                  <a:pt x="647616" y="1275557"/>
                </a:lnTo>
                <a:lnTo>
                  <a:pt x="648013" y="1267619"/>
                </a:lnTo>
                <a:lnTo>
                  <a:pt x="647616" y="1259682"/>
                </a:lnTo>
                <a:lnTo>
                  <a:pt x="647218" y="1252538"/>
                </a:lnTo>
                <a:lnTo>
                  <a:pt x="646424" y="1245394"/>
                </a:lnTo>
                <a:lnTo>
                  <a:pt x="645233" y="1237457"/>
                </a:lnTo>
                <a:lnTo>
                  <a:pt x="466951" y="280988"/>
                </a:lnTo>
                <a:lnTo>
                  <a:pt x="465362" y="271463"/>
                </a:lnTo>
                <a:lnTo>
                  <a:pt x="464568" y="263128"/>
                </a:lnTo>
                <a:lnTo>
                  <a:pt x="464568" y="254397"/>
                </a:lnTo>
                <a:lnTo>
                  <a:pt x="464965" y="246857"/>
                </a:lnTo>
                <a:lnTo>
                  <a:pt x="465759" y="239316"/>
                </a:lnTo>
                <a:lnTo>
                  <a:pt x="467348" y="232569"/>
                </a:lnTo>
                <a:lnTo>
                  <a:pt x="468936" y="225822"/>
                </a:lnTo>
                <a:lnTo>
                  <a:pt x="471318" y="219869"/>
                </a:lnTo>
                <a:lnTo>
                  <a:pt x="473701" y="214313"/>
                </a:lnTo>
                <a:lnTo>
                  <a:pt x="476480" y="209153"/>
                </a:lnTo>
                <a:lnTo>
                  <a:pt x="479657" y="204391"/>
                </a:lnTo>
                <a:lnTo>
                  <a:pt x="482833" y="199628"/>
                </a:lnTo>
                <a:lnTo>
                  <a:pt x="486407" y="195263"/>
                </a:lnTo>
                <a:lnTo>
                  <a:pt x="490775" y="191691"/>
                </a:lnTo>
                <a:lnTo>
                  <a:pt x="494348" y="188119"/>
                </a:lnTo>
                <a:lnTo>
                  <a:pt x="498319" y="184944"/>
                </a:lnTo>
                <a:lnTo>
                  <a:pt x="502289" y="182166"/>
                </a:lnTo>
                <a:lnTo>
                  <a:pt x="506657" y="179785"/>
                </a:lnTo>
                <a:lnTo>
                  <a:pt x="514201" y="175419"/>
                </a:lnTo>
                <a:lnTo>
                  <a:pt x="522143" y="171450"/>
                </a:lnTo>
                <a:lnTo>
                  <a:pt x="528893" y="169069"/>
                </a:lnTo>
                <a:lnTo>
                  <a:pt x="534849" y="167482"/>
                </a:lnTo>
                <a:lnTo>
                  <a:pt x="539614" y="166291"/>
                </a:lnTo>
                <a:lnTo>
                  <a:pt x="543981" y="165497"/>
                </a:lnTo>
                <a:lnTo>
                  <a:pt x="552320" y="163910"/>
                </a:lnTo>
                <a:lnTo>
                  <a:pt x="561055" y="162719"/>
                </a:lnTo>
                <a:lnTo>
                  <a:pt x="569393" y="162322"/>
                </a:lnTo>
                <a:lnTo>
                  <a:pt x="577732" y="161925"/>
                </a:lnTo>
                <a:close/>
                <a:moveTo>
                  <a:pt x="576263" y="0"/>
                </a:moveTo>
                <a:lnTo>
                  <a:pt x="594539" y="397"/>
                </a:lnTo>
                <a:lnTo>
                  <a:pt x="612419" y="1589"/>
                </a:lnTo>
                <a:lnTo>
                  <a:pt x="630298" y="3973"/>
                </a:lnTo>
                <a:lnTo>
                  <a:pt x="647780" y="7151"/>
                </a:lnTo>
                <a:lnTo>
                  <a:pt x="664864" y="10727"/>
                </a:lnTo>
                <a:lnTo>
                  <a:pt x="681551" y="15098"/>
                </a:lnTo>
                <a:lnTo>
                  <a:pt x="697841" y="20263"/>
                </a:lnTo>
                <a:lnTo>
                  <a:pt x="714131" y="26620"/>
                </a:lnTo>
                <a:lnTo>
                  <a:pt x="729626" y="33374"/>
                </a:lnTo>
                <a:lnTo>
                  <a:pt x="745122" y="41321"/>
                </a:lnTo>
                <a:lnTo>
                  <a:pt x="759822" y="50062"/>
                </a:lnTo>
                <a:lnTo>
                  <a:pt x="774920" y="59200"/>
                </a:lnTo>
                <a:lnTo>
                  <a:pt x="788826" y="69530"/>
                </a:lnTo>
                <a:lnTo>
                  <a:pt x="803130" y="80655"/>
                </a:lnTo>
                <a:lnTo>
                  <a:pt x="816638" y="92575"/>
                </a:lnTo>
                <a:lnTo>
                  <a:pt x="830147" y="105289"/>
                </a:lnTo>
                <a:lnTo>
                  <a:pt x="842464" y="118798"/>
                </a:lnTo>
                <a:lnTo>
                  <a:pt x="854780" y="132307"/>
                </a:lnTo>
                <a:lnTo>
                  <a:pt x="865508" y="146610"/>
                </a:lnTo>
                <a:lnTo>
                  <a:pt x="876235" y="160516"/>
                </a:lnTo>
                <a:lnTo>
                  <a:pt x="885374" y="175615"/>
                </a:lnTo>
                <a:lnTo>
                  <a:pt x="894115" y="190315"/>
                </a:lnTo>
                <a:lnTo>
                  <a:pt x="901664" y="205811"/>
                </a:lnTo>
                <a:lnTo>
                  <a:pt x="908815" y="221306"/>
                </a:lnTo>
                <a:lnTo>
                  <a:pt x="915172" y="237596"/>
                </a:lnTo>
                <a:lnTo>
                  <a:pt x="920337" y="253886"/>
                </a:lnTo>
                <a:lnTo>
                  <a:pt x="924708" y="270574"/>
                </a:lnTo>
                <a:lnTo>
                  <a:pt x="928284" y="287658"/>
                </a:lnTo>
                <a:lnTo>
                  <a:pt x="931462" y="304743"/>
                </a:lnTo>
                <a:lnTo>
                  <a:pt x="933449" y="322622"/>
                </a:lnTo>
                <a:lnTo>
                  <a:pt x="934641" y="340502"/>
                </a:lnTo>
                <a:lnTo>
                  <a:pt x="935038" y="359175"/>
                </a:lnTo>
                <a:lnTo>
                  <a:pt x="934641" y="377452"/>
                </a:lnTo>
                <a:lnTo>
                  <a:pt x="933449" y="395331"/>
                </a:lnTo>
                <a:lnTo>
                  <a:pt x="931462" y="413211"/>
                </a:lnTo>
                <a:lnTo>
                  <a:pt x="928284" y="430693"/>
                </a:lnTo>
                <a:lnTo>
                  <a:pt x="924708" y="447777"/>
                </a:lnTo>
                <a:lnTo>
                  <a:pt x="920337" y="464465"/>
                </a:lnTo>
                <a:lnTo>
                  <a:pt x="915172" y="480755"/>
                </a:lnTo>
                <a:lnTo>
                  <a:pt x="908815" y="496647"/>
                </a:lnTo>
                <a:lnTo>
                  <a:pt x="901664" y="512540"/>
                </a:lnTo>
                <a:lnTo>
                  <a:pt x="894115" y="527638"/>
                </a:lnTo>
                <a:lnTo>
                  <a:pt x="885374" y="543134"/>
                </a:lnTo>
                <a:lnTo>
                  <a:pt x="876235" y="557437"/>
                </a:lnTo>
                <a:lnTo>
                  <a:pt x="865508" y="572138"/>
                </a:lnTo>
                <a:lnTo>
                  <a:pt x="854780" y="585647"/>
                </a:lnTo>
                <a:lnTo>
                  <a:pt x="842464" y="599553"/>
                </a:lnTo>
                <a:lnTo>
                  <a:pt x="830147" y="612664"/>
                </a:lnTo>
                <a:lnTo>
                  <a:pt x="830147" y="613061"/>
                </a:lnTo>
                <a:lnTo>
                  <a:pt x="822201" y="620611"/>
                </a:lnTo>
                <a:lnTo>
                  <a:pt x="813857" y="628160"/>
                </a:lnTo>
                <a:lnTo>
                  <a:pt x="805911" y="634914"/>
                </a:lnTo>
                <a:lnTo>
                  <a:pt x="797964" y="641668"/>
                </a:lnTo>
                <a:lnTo>
                  <a:pt x="791607" y="619419"/>
                </a:lnTo>
                <a:lnTo>
                  <a:pt x="785250" y="597963"/>
                </a:lnTo>
                <a:lnTo>
                  <a:pt x="778496" y="576111"/>
                </a:lnTo>
                <a:lnTo>
                  <a:pt x="771344" y="553861"/>
                </a:lnTo>
                <a:lnTo>
                  <a:pt x="780880" y="543928"/>
                </a:lnTo>
                <a:lnTo>
                  <a:pt x="790018" y="533201"/>
                </a:lnTo>
                <a:lnTo>
                  <a:pt x="798759" y="522473"/>
                </a:lnTo>
                <a:lnTo>
                  <a:pt x="806705" y="511745"/>
                </a:lnTo>
                <a:lnTo>
                  <a:pt x="813857" y="500223"/>
                </a:lnTo>
                <a:lnTo>
                  <a:pt x="820611" y="488701"/>
                </a:lnTo>
                <a:lnTo>
                  <a:pt x="826571" y="476782"/>
                </a:lnTo>
                <a:lnTo>
                  <a:pt x="831736" y="464862"/>
                </a:lnTo>
                <a:lnTo>
                  <a:pt x="836504" y="452545"/>
                </a:lnTo>
                <a:lnTo>
                  <a:pt x="840477" y="439831"/>
                </a:lnTo>
                <a:lnTo>
                  <a:pt x="844053" y="427117"/>
                </a:lnTo>
                <a:lnTo>
                  <a:pt x="846834" y="414005"/>
                </a:lnTo>
                <a:lnTo>
                  <a:pt x="849218" y="400894"/>
                </a:lnTo>
                <a:lnTo>
                  <a:pt x="850807" y="386988"/>
                </a:lnTo>
                <a:lnTo>
                  <a:pt x="851602" y="373479"/>
                </a:lnTo>
                <a:lnTo>
                  <a:pt x="851999" y="359175"/>
                </a:lnTo>
                <a:lnTo>
                  <a:pt x="851602" y="344872"/>
                </a:lnTo>
                <a:lnTo>
                  <a:pt x="850807" y="330966"/>
                </a:lnTo>
                <a:lnTo>
                  <a:pt x="849218" y="317457"/>
                </a:lnTo>
                <a:lnTo>
                  <a:pt x="846834" y="303948"/>
                </a:lnTo>
                <a:lnTo>
                  <a:pt x="844053" y="291234"/>
                </a:lnTo>
                <a:lnTo>
                  <a:pt x="840477" y="278123"/>
                </a:lnTo>
                <a:lnTo>
                  <a:pt x="836504" y="265806"/>
                </a:lnTo>
                <a:lnTo>
                  <a:pt x="831736" y="253092"/>
                </a:lnTo>
                <a:lnTo>
                  <a:pt x="826571" y="241172"/>
                </a:lnTo>
                <a:lnTo>
                  <a:pt x="820611" y="229253"/>
                </a:lnTo>
                <a:lnTo>
                  <a:pt x="813460" y="217730"/>
                </a:lnTo>
                <a:lnTo>
                  <a:pt x="806308" y="206605"/>
                </a:lnTo>
                <a:lnTo>
                  <a:pt x="798759" y="195481"/>
                </a:lnTo>
                <a:lnTo>
                  <a:pt x="789621" y="185150"/>
                </a:lnTo>
                <a:lnTo>
                  <a:pt x="780880" y="174820"/>
                </a:lnTo>
                <a:lnTo>
                  <a:pt x="770947" y="164092"/>
                </a:lnTo>
                <a:lnTo>
                  <a:pt x="760617" y="154556"/>
                </a:lnTo>
                <a:lnTo>
                  <a:pt x="750287" y="145021"/>
                </a:lnTo>
                <a:lnTo>
                  <a:pt x="739559" y="136677"/>
                </a:lnTo>
                <a:lnTo>
                  <a:pt x="728434" y="129128"/>
                </a:lnTo>
                <a:lnTo>
                  <a:pt x="717310" y="121976"/>
                </a:lnTo>
                <a:lnTo>
                  <a:pt x="705788" y="114825"/>
                </a:lnTo>
                <a:lnTo>
                  <a:pt x="693868" y="108865"/>
                </a:lnTo>
                <a:lnTo>
                  <a:pt x="682346" y="103700"/>
                </a:lnTo>
                <a:lnTo>
                  <a:pt x="669632" y="98932"/>
                </a:lnTo>
                <a:lnTo>
                  <a:pt x="657315" y="94959"/>
                </a:lnTo>
                <a:lnTo>
                  <a:pt x="644204" y="91383"/>
                </a:lnTo>
                <a:lnTo>
                  <a:pt x="631490" y="88204"/>
                </a:lnTo>
                <a:lnTo>
                  <a:pt x="617584" y="86218"/>
                </a:lnTo>
                <a:lnTo>
                  <a:pt x="604472" y="84628"/>
                </a:lnTo>
                <a:lnTo>
                  <a:pt x="590169" y="83436"/>
                </a:lnTo>
                <a:lnTo>
                  <a:pt x="576263" y="83436"/>
                </a:lnTo>
                <a:lnTo>
                  <a:pt x="561960" y="83436"/>
                </a:lnTo>
                <a:lnTo>
                  <a:pt x="548451" y="84628"/>
                </a:lnTo>
                <a:lnTo>
                  <a:pt x="534545" y="86218"/>
                </a:lnTo>
                <a:lnTo>
                  <a:pt x="521434" y="88204"/>
                </a:lnTo>
                <a:lnTo>
                  <a:pt x="507925" y="91383"/>
                </a:lnTo>
                <a:lnTo>
                  <a:pt x="495211" y="94959"/>
                </a:lnTo>
                <a:lnTo>
                  <a:pt x="482497" y="98932"/>
                </a:lnTo>
                <a:lnTo>
                  <a:pt x="470578" y="103700"/>
                </a:lnTo>
                <a:lnTo>
                  <a:pt x="458658" y="108865"/>
                </a:lnTo>
                <a:lnTo>
                  <a:pt x="446341" y="114825"/>
                </a:lnTo>
                <a:lnTo>
                  <a:pt x="435217" y="121976"/>
                </a:lnTo>
                <a:lnTo>
                  <a:pt x="423694" y="129128"/>
                </a:lnTo>
                <a:lnTo>
                  <a:pt x="412967" y="136677"/>
                </a:lnTo>
                <a:lnTo>
                  <a:pt x="401842" y="145021"/>
                </a:lnTo>
                <a:lnTo>
                  <a:pt x="391512" y="154556"/>
                </a:lnTo>
                <a:lnTo>
                  <a:pt x="381579" y="164092"/>
                </a:lnTo>
                <a:lnTo>
                  <a:pt x="381182" y="164092"/>
                </a:lnTo>
                <a:lnTo>
                  <a:pt x="371249" y="174820"/>
                </a:lnTo>
                <a:lnTo>
                  <a:pt x="362111" y="185150"/>
                </a:lnTo>
                <a:lnTo>
                  <a:pt x="353767" y="195481"/>
                </a:lnTo>
                <a:lnTo>
                  <a:pt x="345821" y="207003"/>
                </a:lnTo>
                <a:lnTo>
                  <a:pt x="338669" y="218128"/>
                </a:lnTo>
                <a:lnTo>
                  <a:pt x="331915" y="229253"/>
                </a:lnTo>
                <a:lnTo>
                  <a:pt x="325955" y="241172"/>
                </a:lnTo>
                <a:lnTo>
                  <a:pt x="320790" y="253092"/>
                </a:lnTo>
                <a:lnTo>
                  <a:pt x="315625" y="265806"/>
                </a:lnTo>
                <a:lnTo>
                  <a:pt x="311652" y="278123"/>
                </a:lnTo>
                <a:lnTo>
                  <a:pt x="308473" y="291234"/>
                </a:lnTo>
                <a:lnTo>
                  <a:pt x="305692" y="303948"/>
                </a:lnTo>
                <a:lnTo>
                  <a:pt x="303308" y="317457"/>
                </a:lnTo>
                <a:lnTo>
                  <a:pt x="301719" y="330966"/>
                </a:lnTo>
                <a:lnTo>
                  <a:pt x="300924" y="345269"/>
                </a:lnTo>
                <a:lnTo>
                  <a:pt x="300527" y="359175"/>
                </a:lnTo>
                <a:lnTo>
                  <a:pt x="300924" y="373479"/>
                </a:lnTo>
                <a:lnTo>
                  <a:pt x="301719" y="386988"/>
                </a:lnTo>
                <a:lnTo>
                  <a:pt x="303308" y="400894"/>
                </a:lnTo>
                <a:lnTo>
                  <a:pt x="305692" y="414005"/>
                </a:lnTo>
                <a:lnTo>
                  <a:pt x="308473" y="427514"/>
                </a:lnTo>
                <a:lnTo>
                  <a:pt x="311652" y="440228"/>
                </a:lnTo>
                <a:lnTo>
                  <a:pt x="315625" y="452545"/>
                </a:lnTo>
                <a:lnTo>
                  <a:pt x="320790" y="464862"/>
                </a:lnTo>
                <a:lnTo>
                  <a:pt x="325955" y="476782"/>
                </a:lnTo>
                <a:lnTo>
                  <a:pt x="331915" y="489098"/>
                </a:lnTo>
                <a:lnTo>
                  <a:pt x="338669" y="500223"/>
                </a:lnTo>
                <a:lnTo>
                  <a:pt x="345821" y="511745"/>
                </a:lnTo>
                <a:lnTo>
                  <a:pt x="353767" y="522870"/>
                </a:lnTo>
                <a:lnTo>
                  <a:pt x="362111" y="533201"/>
                </a:lnTo>
                <a:lnTo>
                  <a:pt x="371249" y="543928"/>
                </a:lnTo>
                <a:lnTo>
                  <a:pt x="381182" y="554258"/>
                </a:lnTo>
                <a:lnTo>
                  <a:pt x="387539" y="560218"/>
                </a:lnTo>
                <a:lnTo>
                  <a:pt x="393896" y="566575"/>
                </a:lnTo>
                <a:lnTo>
                  <a:pt x="400650" y="572138"/>
                </a:lnTo>
                <a:lnTo>
                  <a:pt x="407405" y="577700"/>
                </a:lnTo>
                <a:lnTo>
                  <a:pt x="414159" y="582468"/>
                </a:lnTo>
                <a:lnTo>
                  <a:pt x="420913" y="587633"/>
                </a:lnTo>
                <a:lnTo>
                  <a:pt x="428065" y="592401"/>
                </a:lnTo>
                <a:lnTo>
                  <a:pt x="435614" y="597169"/>
                </a:lnTo>
                <a:lnTo>
                  <a:pt x="442368" y="601142"/>
                </a:lnTo>
                <a:lnTo>
                  <a:pt x="449917" y="605115"/>
                </a:lnTo>
                <a:lnTo>
                  <a:pt x="457069" y="608691"/>
                </a:lnTo>
                <a:lnTo>
                  <a:pt x="465015" y="612267"/>
                </a:lnTo>
                <a:lnTo>
                  <a:pt x="472564" y="615445"/>
                </a:lnTo>
                <a:lnTo>
                  <a:pt x="480113" y="618227"/>
                </a:lnTo>
                <a:lnTo>
                  <a:pt x="488457" y="621008"/>
                </a:lnTo>
                <a:lnTo>
                  <a:pt x="496403" y="623789"/>
                </a:lnTo>
                <a:lnTo>
                  <a:pt x="498787" y="634914"/>
                </a:lnTo>
                <a:lnTo>
                  <a:pt x="501171" y="645642"/>
                </a:lnTo>
                <a:lnTo>
                  <a:pt x="505541" y="667891"/>
                </a:lnTo>
                <a:lnTo>
                  <a:pt x="508720" y="690141"/>
                </a:lnTo>
                <a:lnTo>
                  <a:pt x="511501" y="712788"/>
                </a:lnTo>
                <a:lnTo>
                  <a:pt x="498390" y="710404"/>
                </a:lnTo>
                <a:lnTo>
                  <a:pt x="484881" y="707226"/>
                </a:lnTo>
                <a:lnTo>
                  <a:pt x="472167" y="703253"/>
                </a:lnTo>
                <a:lnTo>
                  <a:pt x="459453" y="699279"/>
                </a:lnTo>
                <a:lnTo>
                  <a:pt x="446739" y="694909"/>
                </a:lnTo>
                <a:lnTo>
                  <a:pt x="434819" y="690141"/>
                </a:lnTo>
                <a:lnTo>
                  <a:pt x="422503" y="684579"/>
                </a:lnTo>
                <a:lnTo>
                  <a:pt x="410583" y="678619"/>
                </a:lnTo>
                <a:lnTo>
                  <a:pt x="398664" y="671864"/>
                </a:lnTo>
                <a:lnTo>
                  <a:pt x="387142" y="665110"/>
                </a:lnTo>
                <a:lnTo>
                  <a:pt x="376017" y="657561"/>
                </a:lnTo>
                <a:lnTo>
                  <a:pt x="364892" y="649615"/>
                </a:lnTo>
                <a:lnTo>
                  <a:pt x="354164" y="641271"/>
                </a:lnTo>
                <a:lnTo>
                  <a:pt x="343040" y="632133"/>
                </a:lnTo>
                <a:lnTo>
                  <a:pt x="332709" y="622994"/>
                </a:lnTo>
                <a:lnTo>
                  <a:pt x="322379" y="612664"/>
                </a:lnTo>
                <a:lnTo>
                  <a:pt x="309665" y="599553"/>
                </a:lnTo>
                <a:lnTo>
                  <a:pt x="297746" y="585647"/>
                </a:lnTo>
                <a:lnTo>
                  <a:pt x="286621" y="572138"/>
                </a:lnTo>
                <a:lnTo>
                  <a:pt x="276291" y="557437"/>
                </a:lnTo>
                <a:lnTo>
                  <a:pt x="267153" y="543134"/>
                </a:lnTo>
                <a:lnTo>
                  <a:pt x="258412" y="527638"/>
                </a:lnTo>
                <a:lnTo>
                  <a:pt x="250465" y="512540"/>
                </a:lnTo>
                <a:lnTo>
                  <a:pt x="243711" y="496647"/>
                </a:lnTo>
                <a:lnTo>
                  <a:pt x="237751" y="480755"/>
                </a:lnTo>
                <a:lnTo>
                  <a:pt x="231792" y="464465"/>
                </a:lnTo>
                <a:lnTo>
                  <a:pt x="227421" y="447777"/>
                </a:lnTo>
                <a:lnTo>
                  <a:pt x="223845" y="430693"/>
                </a:lnTo>
                <a:lnTo>
                  <a:pt x="221064" y="413211"/>
                </a:lnTo>
                <a:lnTo>
                  <a:pt x="219078" y="395331"/>
                </a:lnTo>
                <a:lnTo>
                  <a:pt x="217886" y="377452"/>
                </a:lnTo>
                <a:lnTo>
                  <a:pt x="217488" y="359175"/>
                </a:lnTo>
                <a:lnTo>
                  <a:pt x="217886" y="340502"/>
                </a:lnTo>
                <a:lnTo>
                  <a:pt x="219078" y="322622"/>
                </a:lnTo>
                <a:lnTo>
                  <a:pt x="221064" y="304743"/>
                </a:lnTo>
                <a:lnTo>
                  <a:pt x="223845" y="287658"/>
                </a:lnTo>
                <a:lnTo>
                  <a:pt x="227421" y="270574"/>
                </a:lnTo>
                <a:lnTo>
                  <a:pt x="231792" y="253886"/>
                </a:lnTo>
                <a:lnTo>
                  <a:pt x="237751" y="237596"/>
                </a:lnTo>
                <a:lnTo>
                  <a:pt x="243711" y="221306"/>
                </a:lnTo>
                <a:lnTo>
                  <a:pt x="250465" y="205811"/>
                </a:lnTo>
                <a:lnTo>
                  <a:pt x="258412" y="190315"/>
                </a:lnTo>
                <a:lnTo>
                  <a:pt x="267153" y="175615"/>
                </a:lnTo>
                <a:lnTo>
                  <a:pt x="276291" y="160516"/>
                </a:lnTo>
                <a:lnTo>
                  <a:pt x="286621" y="146610"/>
                </a:lnTo>
                <a:lnTo>
                  <a:pt x="297746" y="132307"/>
                </a:lnTo>
                <a:lnTo>
                  <a:pt x="309665" y="118798"/>
                </a:lnTo>
                <a:lnTo>
                  <a:pt x="322379" y="105289"/>
                </a:lnTo>
                <a:lnTo>
                  <a:pt x="335491" y="92575"/>
                </a:lnTo>
                <a:lnTo>
                  <a:pt x="349397" y="80655"/>
                </a:lnTo>
                <a:lnTo>
                  <a:pt x="363303" y="69530"/>
                </a:lnTo>
                <a:lnTo>
                  <a:pt x="378003" y="59200"/>
                </a:lnTo>
                <a:lnTo>
                  <a:pt x="392307" y="50062"/>
                </a:lnTo>
                <a:lnTo>
                  <a:pt x="407405" y="41321"/>
                </a:lnTo>
                <a:lnTo>
                  <a:pt x="422900" y="33374"/>
                </a:lnTo>
                <a:lnTo>
                  <a:pt x="438395" y="26620"/>
                </a:lnTo>
                <a:lnTo>
                  <a:pt x="454288" y="20263"/>
                </a:lnTo>
                <a:lnTo>
                  <a:pt x="470975" y="15098"/>
                </a:lnTo>
                <a:lnTo>
                  <a:pt x="487662" y="10727"/>
                </a:lnTo>
                <a:lnTo>
                  <a:pt x="504747" y="7151"/>
                </a:lnTo>
                <a:lnTo>
                  <a:pt x="522228" y="3973"/>
                </a:lnTo>
                <a:lnTo>
                  <a:pt x="539710" y="1589"/>
                </a:lnTo>
                <a:lnTo>
                  <a:pt x="557589" y="397"/>
                </a:lnTo>
                <a:lnTo>
                  <a:pt x="576263" y="0"/>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51" name=" 3"/>
          <p:cNvSpPr/>
          <p:nvPr/>
        </p:nvSpPr>
        <p:spPr>
          <a:xfrm>
            <a:off x="6505560" y="4327560"/>
            <a:ext cx="336600" cy="549360"/>
          </a:xfrm>
          <a:custGeom>
            <a:avLst/>
            <a:gdLst/>
            <a:ahLst/>
            <a:rect l="l" t="t" r="r" b="b"/>
            <a:pathLst>
              <a:path w="1646238" h="2433638">
                <a:moveTo>
                  <a:pt x="577732" y="161925"/>
                </a:moveTo>
                <a:lnTo>
                  <a:pt x="586070" y="162719"/>
                </a:lnTo>
                <a:lnTo>
                  <a:pt x="593614" y="163910"/>
                </a:lnTo>
                <a:lnTo>
                  <a:pt x="597585" y="164703"/>
                </a:lnTo>
                <a:lnTo>
                  <a:pt x="601953" y="165894"/>
                </a:lnTo>
                <a:lnTo>
                  <a:pt x="605526" y="167482"/>
                </a:lnTo>
                <a:lnTo>
                  <a:pt x="609100" y="169069"/>
                </a:lnTo>
                <a:lnTo>
                  <a:pt x="612674" y="171053"/>
                </a:lnTo>
                <a:lnTo>
                  <a:pt x="616247" y="173435"/>
                </a:lnTo>
                <a:lnTo>
                  <a:pt x="619821" y="176610"/>
                </a:lnTo>
                <a:lnTo>
                  <a:pt x="623394" y="179388"/>
                </a:lnTo>
                <a:lnTo>
                  <a:pt x="626968" y="182563"/>
                </a:lnTo>
                <a:lnTo>
                  <a:pt x="630145" y="186135"/>
                </a:lnTo>
                <a:lnTo>
                  <a:pt x="633321" y="190103"/>
                </a:lnTo>
                <a:lnTo>
                  <a:pt x="636498" y="194469"/>
                </a:lnTo>
                <a:lnTo>
                  <a:pt x="639674" y="199232"/>
                </a:lnTo>
                <a:lnTo>
                  <a:pt x="642454" y="204788"/>
                </a:lnTo>
                <a:lnTo>
                  <a:pt x="645233" y="210344"/>
                </a:lnTo>
                <a:lnTo>
                  <a:pt x="648013" y="216297"/>
                </a:lnTo>
                <a:lnTo>
                  <a:pt x="650792" y="222647"/>
                </a:lnTo>
                <a:lnTo>
                  <a:pt x="653969" y="229394"/>
                </a:lnTo>
                <a:lnTo>
                  <a:pt x="656351" y="237332"/>
                </a:lnTo>
                <a:lnTo>
                  <a:pt x="658733" y="245269"/>
                </a:lnTo>
                <a:lnTo>
                  <a:pt x="838208" y="927100"/>
                </a:lnTo>
                <a:lnTo>
                  <a:pt x="840193" y="928291"/>
                </a:lnTo>
                <a:lnTo>
                  <a:pt x="841781" y="933450"/>
                </a:lnTo>
                <a:lnTo>
                  <a:pt x="899356" y="921941"/>
                </a:lnTo>
                <a:lnTo>
                  <a:pt x="911665" y="922338"/>
                </a:lnTo>
                <a:lnTo>
                  <a:pt x="923180" y="923529"/>
                </a:lnTo>
                <a:lnTo>
                  <a:pt x="935489" y="924719"/>
                </a:lnTo>
                <a:lnTo>
                  <a:pt x="946607" y="926704"/>
                </a:lnTo>
                <a:lnTo>
                  <a:pt x="957725" y="929482"/>
                </a:lnTo>
                <a:lnTo>
                  <a:pt x="969240" y="932657"/>
                </a:lnTo>
                <a:lnTo>
                  <a:pt x="979960" y="936229"/>
                </a:lnTo>
                <a:lnTo>
                  <a:pt x="991078" y="939800"/>
                </a:lnTo>
                <a:lnTo>
                  <a:pt x="1001402" y="944166"/>
                </a:lnTo>
                <a:lnTo>
                  <a:pt x="1011726" y="948929"/>
                </a:lnTo>
                <a:lnTo>
                  <a:pt x="1022049" y="954485"/>
                </a:lnTo>
                <a:lnTo>
                  <a:pt x="1031976" y="960438"/>
                </a:lnTo>
                <a:lnTo>
                  <a:pt x="1041506" y="966788"/>
                </a:lnTo>
                <a:lnTo>
                  <a:pt x="1051432" y="973535"/>
                </a:lnTo>
                <a:lnTo>
                  <a:pt x="1060565" y="980679"/>
                </a:lnTo>
                <a:lnTo>
                  <a:pt x="1069697" y="988616"/>
                </a:lnTo>
                <a:lnTo>
                  <a:pt x="1076050" y="994172"/>
                </a:lnTo>
                <a:lnTo>
                  <a:pt x="1081212" y="999729"/>
                </a:lnTo>
                <a:lnTo>
                  <a:pt x="1086374" y="1005682"/>
                </a:lnTo>
                <a:lnTo>
                  <a:pt x="1090345" y="1012032"/>
                </a:lnTo>
                <a:lnTo>
                  <a:pt x="1126478" y="1071960"/>
                </a:lnTo>
                <a:lnTo>
                  <a:pt x="1183258" y="1074341"/>
                </a:lnTo>
                <a:lnTo>
                  <a:pt x="1184847" y="1075532"/>
                </a:lnTo>
                <a:lnTo>
                  <a:pt x="1199538" y="1077913"/>
                </a:lnTo>
                <a:lnTo>
                  <a:pt x="1214230" y="1081088"/>
                </a:lnTo>
                <a:lnTo>
                  <a:pt x="1228524" y="1085057"/>
                </a:lnTo>
                <a:lnTo>
                  <a:pt x="1242818" y="1089422"/>
                </a:lnTo>
                <a:lnTo>
                  <a:pt x="1256716" y="1094582"/>
                </a:lnTo>
                <a:lnTo>
                  <a:pt x="1271010" y="1100932"/>
                </a:lnTo>
                <a:lnTo>
                  <a:pt x="1284510" y="1106885"/>
                </a:lnTo>
                <a:lnTo>
                  <a:pt x="1298011" y="1114029"/>
                </a:lnTo>
                <a:lnTo>
                  <a:pt x="1310717" y="1121172"/>
                </a:lnTo>
                <a:lnTo>
                  <a:pt x="1323820" y="1129507"/>
                </a:lnTo>
                <a:lnTo>
                  <a:pt x="1336129" y="1137444"/>
                </a:lnTo>
                <a:lnTo>
                  <a:pt x="1348041" y="1146175"/>
                </a:lnTo>
                <a:lnTo>
                  <a:pt x="1359953" y="1155700"/>
                </a:lnTo>
                <a:lnTo>
                  <a:pt x="1371071" y="1165225"/>
                </a:lnTo>
                <a:lnTo>
                  <a:pt x="1381792" y="1175147"/>
                </a:lnTo>
                <a:lnTo>
                  <a:pt x="1392115" y="1185863"/>
                </a:lnTo>
                <a:lnTo>
                  <a:pt x="1408792" y="1204119"/>
                </a:lnTo>
                <a:lnTo>
                  <a:pt x="1424278" y="1223566"/>
                </a:lnTo>
                <a:lnTo>
                  <a:pt x="1439763" y="1243410"/>
                </a:lnTo>
                <a:lnTo>
                  <a:pt x="1454058" y="1263254"/>
                </a:lnTo>
                <a:lnTo>
                  <a:pt x="1467955" y="1283891"/>
                </a:lnTo>
                <a:lnTo>
                  <a:pt x="1480264" y="1305322"/>
                </a:lnTo>
                <a:lnTo>
                  <a:pt x="1492970" y="1327150"/>
                </a:lnTo>
                <a:lnTo>
                  <a:pt x="1504088" y="1348582"/>
                </a:lnTo>
                <a:lnTo>
                  <a:pt x="1505279" y="1351360"/>
                </a:lnTo>
                <a:lnTo>
                  <a:pt x="1506471" y="1352154"/>
                </a:lnTo>
                <a:lnTo>
                  <a:pt x="1508059" y="1352550"/>
                </a:lnTo>
                <a:lnTo>
                  <a:pt x="1518780" y="1353344"/>
                </a:lnTo>
                <a:lnTo>
                  <a:pt x="1528309" y="1355329"/>
                </a:lnTo>
                <a:lnTo>
                  <a:pt x="1537839" y="1357710"/>
                </a:lnTo>
                <a:lnTo>
                  <a:pt x="1546971" y="1360885"/>
                </a:lnTo>
                <a:lnTo>
                  <a:pt x="1555707" y="1364457"/>
                </a:lnTo>
                <a:lnTo>
                  <a:pt x="1563648" y="1368822"/>
                </a:lnTo>
                <a:lnTo>
                  <a:pt x="1571590" y="1373982"/>
                </a:lnTo>
                <a:lnTo>
                  <a:pt x="1578737" y="1379935"/>
                </a:lnTo>
                <a:lnTo>
                  <a:pt x="1585487" y="1385888"/>
                </a:lnTo>
                <a:lnTo>
                  <a:pt x="1591840" y="1392238"/>
                </a:lnTo>
                <a:lnTo>
                  <a:pt x="1597796" y="1398985"/>
                </a:lnTo>
                <a:lnTo>
                  <a:pt x="1603752" y="1406525"/>
                </a:lnTo>
                <a:lnTo>
                  <a:pt x="1608914" y="1413669"/>
                </a:lnTo>
                <a:lnTo>
                  <a:pt x="1613678" y="1421607"/>
                </a:lnTo>
                <a:lnTo>
                  <a:pt x="1618046" y="1429544"/>
                </a:lnTo>
                <a:lnTo>
                  <a:pt x="1622017" y="1437879"/>
                </a:lnTo>
                <a:lnTo>
                  <a:pt x="1625988" y="1446213"/>
                </a:lnTo>
                <a:lnTo>
                  <a:pt x="1629561" y="1454547"/>
                </a:lnTo>
                <a:lnTo>
                  <a:pt x="1632738" y="1463279"/>
                </a:lnTo>
                <a:lnTo>
                  <a:pt x="1635517" y="1471613"/>
                </a:lnTo>
                <a:lnTo>
                  <a:pt x="1637900" y="1479947"/>
                </a:lnTo>
                <a:lnTo>
                  <a:pt x="1639885" y="1488282"/>
                </a:lnTo>
                <a:lnTo>
                  <a:pt x="1641473" y="1497013"/>
                </a:lnTo>
                <a:lnTo>
                  <a:pt x="1643062" y="1504950"/>
                </a:lnTo>
                <a:lnTo>
                  <a:pt x="1644253" y="1512491"/>
                </a:lnTo>
                <a:lnTo>
                  <a:pt x="1645047" y="1520429"/>
                </a:lnTo>
                <a:lnTo>
                  <a:pt x="1645841" y="1527969"/>
                </a:lnTo>
                <a:lnTo>
                  <a:pt x="1646238" y="1534716"/>
                </a:lnTo>
                <a:lnTo>
                  <a:pt x="1646238" y="1541463"/>
                </a:lnTo>
                <a:lnTo>
                  <a:pt x="1646238" y="1548210"/>
                </a:lnTo>
                <a:lnTo>
                  <a:pt x="1645841" y="1553766"/>
                </a:lnTo>
                <a:lnTo>
                  <a:pt x="1645444" y="1558925"/>
                </a:lnTo>
                <a:lnTo>
                  <a:pt x="1643458" y="1570832"/>
                </a:lnTo>
                <a:lnTo>
                  <a:pt x="1642267" y="1583532"/>
                </a:lnTo>
                <a:lnTo>
                  <a:pt x="1641473" y="1595835"/>
                </a:lnTo>
                <a:lnTo>
                  <a:pt x="1640679" y="1608535"/>
                </a:lnTo>
                <a:lnTo>
                  <a:pt x="1634723" y="1749029"/>
                </a:lnTo>
                <a:lnTo>
                  <a:pt x="1628370" y="1889126"/>
                </a:lnTo>
                <a:lnTo>
                  <a:pt x="1627973" y="1902222"/>
                </a:lnTo>
                <a:lnTo>
                  <a:pt x="1626385" y="1915716"/>
                </a:lnTo>
                <a:lnTo>
                  <a:pt x="1625194" y="1928416"/>
                </a:lnTo>
                <a:lnTo>
                  <a:pt x="1623208" y="1941910"/>
                </a:lnTo>
                <a:lnTo>
                  <a:pt x="1621223" y="1954610"/>
                </a:lnTo>
                <a:lnTo>
                  <a:pt x="1618840" y="1968104"/>
                </a:lnTo>
                <a:lnTo>
                  <a:pt x="1616061" y="1980804"/>
                </a:lnTo>
                <a:lnTo>
                  <a:pt x="1612884" y="1993504"/>
                </a:lnTo>
                <a:lnTo>
                  <a:pt x="1604546" y="2026444"/>
                </a:lnTo>
                <a:lnTo>
                  <a:pt x="1595414" y="2058988"/>
                </a:lnTo>
                <a:lnTo>
                  <a:pt x="1586281" y="2091532"/>
                </a:lnTo>
                <a:lnTo>
                  <a:pt x="1577148" y="2123679"/>
                </a:lnTo>
                <a:lnTo>
                  <a:pt x="1579134" y="2125663"/>
                </a:lnTo>
                <a:lnTo>
                  <a:pt x="1617252" y="2294732"/>
                </a:lnTo>
                <a:lnTo>
                  <a:pt x="1571590" y="2303463"/>
                </a:lnTo>
                <a:lnTo>
                  <a:pt x="1487411" y="2318147"/>
                </a:lnTo>
                <a:lnTo>
                  <a:pt x="1251951" y="2359026"/>
                </a:lnTo>
                <a:lnTo>
                  <a:pt x="1000608" y="2402285"/>
                </a:lnTo>
                <a:lnTo>
                  <a:pt x="897370" y="2420541"/>
                </a:lnTo>
                <a:lnTo>
                  <a:pt x="824310" y="2433638"/>
                </a:lnTo>
                <a:lnTo>
                  <a:pt x="785398" y="2236391"/>
                </a:lnTo>
                <a:lnTo>
                  <a:pt x="781030" y="2228851"/>
                </a:lnTo>
                <a:lnTo>
                  <a:pt x="776662" y="2221707"/>
                </a:lnTo>
                <a:lnTo>
                  <a:pt x="771897" y="2214563"/>
                </a:lnTo>
                <a:lnTo>
                  <a:pt x="767133" y="2207816"/>
                </a:lnTo>
                <a:lnTo>
                  <a:pt x="761574" y="2201069"/>
                </a:lnTo>
                <a:lnTo>
                  <a:pt x="756015" y="2194719"/>
                </a:lnTo>
                <a:lnTo>
                  <a:pt x="750456" y="2188369"/>
                </a:lnTo>
                <a:lnTo>
                  <a:pt x="744897" y="2182416"/>
                </a:lnTo>
                <a:lnTo>
                  <a:pt x="738544" y="2176463"/>
                </a:lnTo>
                <a:lnTo>
                  <a:pt x="732191" y="2170907"/>
                </a:lnTo>
                <a:lnTo>
                  <a:pt x="725441" y="2165351"/>
                </a:lnTo>
                <a:lnTo>
                  <a:pt x="719088" y="2159794"/>
                </a:lnTo>
                <a:lnTo>
                  <a:pt x="711940" y="2155032"/>
                </a:lnTo>
                <a:lnTo>
                  <a:pt x="704396" y="2149873"/>
                </a:lnTo>
                <a:lnTo>
                  <a:pt x="697249" y="2145507"/>
                </a:lnTo>
                <a:lnTo>
                  <a:pt x="689705" y="2141141"/>
                </a:lnTo>
                <a:lnTo>
                  <a:pt x="678984" y="2135585"/>
                </a:lnTo>
                <a:lnTo>
                  <a:pt x="668660" y="2130029"/>
                </a:lnTo>
                <a:lnTo>
                  <a:pt x="648807" y="2118519"/>
                </a:lnTo>
                <a:lnTo>
                  <a:pt x="630145" y="2106216"/>
                </a:lnTo>
                <a:lnTo>
                  <a:pt x="611482" y="2093119"/>
                </a:lnTo>
                <a:lnTo>
                  <a:pt x="593217" y="2080022"/>
                </a:lnTo>
                <a:lnTo>
                  <a:pt x="576144" y="2065735"/>
                </a:lnTo>
                <a:lnTo>
                  <a:pt x="559070" y="2051447"/>
                </a:lnTo>
                <a:lnTo>
                  <a:pt x="543187" y="2035969"/>
                </a:lnTo>
                <a:lnTo>
                  <a:pt x="526907" y="2020491"/>
                </a:lnTo>
                <a:lnTo>
                  <a:pt x="511422" y="2004616"/>
                </a:lnTo>
                <a:lnTo>
                  <a:pt x="496333" y="1988344"/>
                </a:lnTo>
                <a:lnTo>
                  <a:pt x="481245" y="1971676"/>
                </a:lnTo>
                <a:lnTo>
                  <a:pt x="466951" y="1954610"/>
                </a:lnTo>
                <a:lnTo>
                  <a:pt x="452259" y="1937147"/>
                </a:lnTo>
                <a:lnTo>
                  <a:pt x="424067" y="1902222"/>
                </a:lnTo>
                <a:lnTo>
                  <a:pt x="418111" y="1894285"/>
                </a:lnTo>
                <a:lnTo>
                  <a:pt x="412552" y="1886744"/>
                </a:lnTo>
                <a:lnTo>
                  <a:pt x="401435" y="1870472"/>
                </a:lnTo>
                <a:lnTo>
                  <a:pt x="391508" y="1853804"/>
                </a:lnTo>
                <a:lnTo>
                  <a:pt x="381978" y="1837532"/>
                </a:lnTo>
                <a:lnTo>
                  <a:pt x="372846" y="1820069"/>
                </a:lnTo>
                <a:lnTo>
                  <a:pt x="364110" y="1803401"/>
                </a:lnTo>
                <a:lnTo>
                  <a:pt x="356169" y="1785541"/>
                </a:lnTo>
                <a:lnTo>
                  <a:pt x="348228" y="1768079"/>
                </a:lnTo>
                <a:lnTo>
                  <a:pt x="332345" y="1733551"/>
                </a:lnTo>
                <a:lnTo>
                  <a:pt x="324404" y="1716485"/>
                </a:lnTo>
                <a:lnTo>
                  <a:pt x="316065" y="1699022"/>
                </a:lnTo>
                <a:lnTo>
                  <a:pt x="307727" y="1682354"/>
                </a:lnTo>
                <a:lnTo>
                  <a:pt x="298991" y="1666082"/>
                </a:lnTo>
                <a:lnTo>
                  <a:pt x="289462" y="1649413"/>
                </a:lnTo>
                <a:lnTo>
                  <a:pt x="279535" y="1633935"/>
                </a:lnTo>
                <a:lnTo>
                  <a:pt x="275962" y="1624410"/>
                </a:lnTo>
                <a:lnTo>
                  <a:pt x="271594" y="1614885"/>
                </a:lnTo>
                <a:lnTo>
                  <a:pt x="266829" y="1605360"/>
                </a:lnTo>
                <a:lnTo>
                  <a:pt x="261667" y="1595835"/>
                </a:lnTo>
                <a:lnTo>
                  <a:pt x="256505" y="1586310"/>
                </a:lnTo>
                <a:lnTo>
                  <a:pt x="250946" y="1577182"/>
                </a:lnTo>
                <a:lnTo>
                  <a:pt x="239431" y="1558132"/>
                </a:lnTo>
                <a:lnTo>
                  <a:pt x="227122" y="1539479"/>
                </a:lnTo>
                <a:lnTo>
                  <a:pt x="214813" y="1521619"/>
                </a:lnTo>
                <a:lnTo>
                  <a:pt x="190592" y="1486694"/>
                </a:lnTo>
                <a:lnTo>
                  <a:pt x="185827" y="1479154"/>
                </a:lnTo>
                <a:lnTo>
                  <a:pt x="181063" y="1470422"/>
                </a:lnTo>
                <a:lnTo>
                  <a:pt x="170342" y="1450579"/>
                </a:lnTo>
                <a:lnTo>
                  <a:pt x="164783" y="1441054"/>
                </a:lnTo>
                <a:lnTo>
                  <a:pt x="159224" y="1431132"/>
                </a:lnTo>
                <a:lnTo>
                  <a:pt x="156444" y="1427163"/>
                </a:lnTo>
                <a:lnTo>
                  <a:pt x="153268" y="1423194"/>
                </a:lnTo>
                <a:lnTo>
                  <a:pt x="149694" y="1419622"/>
                </a:lnTo>
                <a:lnTo>
                  <a:pt x="146518" y="1416447"/>
                </a:lnTo>
                <a:lnTo>
                  <a:pt x="143738" y="1413272"/>
                </a:lnTo>
                <a:lnTo>
                  <a:pt x="140959" y="1409304"/>
                </a:lnTo>
                <a:lnTo>
                  <a:pt x="138576" y="1404541"/>
                </a:lnTo>
                <a:lnTo>
                  <a:pt x="136591" y="1398985"/>
                </a:lnTo>
                <a:lnTo>
                  <a:pt x="134209" y="1393429"/>
                </a:lnTo>
                <a:lnTo>
                  <a:pt x="132620" y="1387475"/>
                </a:lnTo>
                <a:lnTo>
                  <a:pt x="129047" y="1373982"/>
                </a:lnTo>
                <a:lnTo>
                  <a:pt x="125870" y="1360488"/>
                </a:lnTo>
                <a:lnTo>
                  <a:pt x="122694" y="1346994"/>
                </a:lnTo>
                <a:lnTo>
                  <a:pt x="120311" y="1335485"/>
                </a:lnTo>
                <a:lnTo>
                  <a:pt x="117532" y="1325563"/>
                </a:lnTo>
                <a:lnTo>
                  <a:pt x="109194" y="1300560"/>
                </a:lnTo>
                <a:lnTo>
                  <a:pt x="100458" y="1276350"/>
                </a:lnTo>
                <a:lnTo>
                  <a:pt x="95296" y="1264047"/>
                </a:lnTo>
                <a:lnTo>
                  <a:pt x="90531" y="1252538"/>
                </a:lnTo>
                <a:lnTo>
                  <a:pt x="85767" y="1241425"/>
                </a:lnTo>
                <a:lnTo>
                  <a:pt x="80208" y="1229916"/>
                </a:lnTo>
                <a:lnTo>
                  <a:pt x="77031" y="1223566"/>
                </a:lnTo>
                <a:lnTo>
                  <a:pt x="73458" y="1217216"/>
                </a:lnTo>
                <a:lnTo>
                  <a:pt x="65119" y="1203722"/>
                </a:lnTo>
                <a:lnTo>
                  <a:pt x="55987" y="1190625"/>
                </a:lnTo>
                <a:lnTo>
                  <a:pt x="46457" y="1177132"/>
                </a:lnTo>
                <a:lnTo>
                  <a:pt x="26207" y="1150938"/>
                </a:lnTo>
                <a:lnTo>
                  <a:pt x="6353" y="1125538"/>
                </a:lnTo>
                <a:lnTo>
                  <a:pt x="3574" y="1121172"/>
                </a:lnTo>
                <a:lnTo>
                  <a:pt x="1589" y="1116410"/>
                </a:lnTo>
                <a:lnTo>
                  <a:pt x="397" y="1111250"/>
                </a:lnTo>
                <a:lnTo>
                  <a:pt x="0" y="1106091"/>
                </a:lnTo>
                <a:lnTo>
                  <a:pt x="0" y="1100535"/>
                </a:lnTo>
                <a:lnTo>
                  <a:pt x="794" y="1094582"/>
                </a:lnTo>
                <a:lnTo>
                  <a:pt x="1986" y="1088629"/>
                </a:lnTo>
                <a:lnTo>
                  <a:pt x="3574" y="1083072"/>
                </a:lnTo>
                <a:lnTo>
                  <a:pt x="5559" y="1077516"/>
                </a:lnTo>
                <a:lnTo>
                  <a:pt x="8339" y="1071960"/>
                </a:lnTo>
                <a:lnTo>
                  <a:pt x="11118" y="1066404"/>
                </a:lnTo>
                <a:lnTo>
                  <a:pt x="14295" y="1061641"/>
                </a:lnTo>
                <a:lnTo>
                  <a:pt x="17868" y="1056879"/>
                </a:lnTo>
                <a:lnTo>
                  <a:pt x="21045" y="1052910"/>
                </a:lnTo>
                <a:lnTo>
                  <a:pt x="24618" y="1048941"/>
                </a:lnTo>
                <a:lnTo>
                  <a:pt x="28192" y="1045766"/>
                </a:lnTo>
                <a:lnTo>
                  <a:pt x="33751" y="1041400"/>
                </a:lnTo>
                <a:lnTo>
                  <a:pt x="39310" y="1037432"/>
                </a:lnTo>
                <a:lnTo>
                  <a:pt x="45663" y="1034257"/>
                </a:lnTo>
                <a:lnTo>
                  <a:pt x="52016" y="1031479"/>
                </a:lnTo>
                <a:lnTo>
                  <a:pt x="58369" y="1029097"/>
                </a:lnTo>
                <a:lnTo>
                  <a:pt x="64722" y="1027113"/>
                </a:lnTo>
                <a:lnTo>
                  <a:pt x="71869" y="1025922"/>
                </a:lnTo>
                <a:lnTo>
                  <a:pt x="78619" y="1024732"/>
                </a:lnTo>
                <a:lnTo>
                  <a:pt x="85767" y="1023938"/>
                </a:lnTo>
                <a:lnTo>
                  <a:pt x="92517" y="1023541"/>
                </a:lnTo>
                <a:lnTo>
                  <a:pt x="100061" y="1023938"/>
                </a:lnTo>
                <a:lnTo>
                  <a:pt x="107208" y="1024335"/>
                </a:lnTo>
                <a:lnTo>
                  <a:pt x="114355" y="1024732"/>
                </a:lnTo>
                <a:lnTo>
                  <a:pt x="121503" y="1025922"/>
                </a:lnTo>
                <a:lnTo>
                  <a:pt x="129047" y="1027510"/>
                </a:lnTo>
                <a:lnTo>
                  <a:pt x="136194" y="1029097"/>
                </a:lnTo>
                <a:lnTo>
                  <a:pt x="143341" y="1031082"/>
                </a:lnTo>
                <a:lnTo>
                  <a:pt x="150488" y="1033066"/>
                </a:lnTo>
                <a:lnTo>
                  <a:pt x="157636" y="1035844"/>
                </a:lnTo>
                <a:lnTo>
                  <a:pt x="164783" y="1038622"/>
                </a:lnTo>
                <a:lnTo>
                  <a:pt x="171533" y="1041400"/>
                </a:lnTo>
                <a:lnTo>
                  <a:pt x="177886" y="1044972"/>
                </a:lnTo>
                <a:lnTo>
                  <a:pt x="185033" y="1048544"/>
                </a:lnTo>
                <a:lnTo>
                  <a:pt x="191386" y="1052116"/>
                </a:lnTo>
                <a:lnTo>
                  <a:pt x="197739" y="1055688"/>
                </a:lnTo>
                <a:lnTo>
                  <a:pt x="203695" y="1059657"/>
                </a:lnTo>
                <a:lnTo>
                  <a:pt x="209651" y="1064022"/>
                </a:lnTo>
                <a:lnTo>
                  <a:pt x="215210" y="1067991"/>
                </a:lnTo>
                <a:lnTo>
                  <a:pt x="220769" y="1072754"/>
                </a:lnTo>
                <a:lnTo>
                  <a:pt x="225534" y="1077516"/>
                </a:lnTo>
                <a:lnTo>
                  <a:pt x="230299" y="1081882"/>
                </a:lnTo>
                <a:lnTo>
                  <a:pt x="235064" y="1086644"/>
                </a:lnTo>
                <a:lnTo>
                  <a:pt x="239828" y="1092200"/>
                </a:lnTo>
                <a:lnTo>
                  <a:pt x="244593" y="1097757"/>
                </a:lnTo>
                <a:lnTo>
                  <a:pt x="252932" y="1109663"/>
                </a:lnTo>
                <a:lnTo>
                  <a:pt x="260873" y="1121966"/>
                </a:lnTo>
                <a:lnTo>
                  <a:pt x="268814" y="1135063"/>
                </a:lnTo>
                <a:lnTo>
                  <a:pt x="283903" y="1160463"/>
                </a:lnTo>
                <a:lnTo>
                  <a:pt x="291447" y="1173163"/>
                </a:lnTo>
                <a:lnTo>
                  <a:pt x="299388" y="1185069"/>
                </a:lnTo>
                <a:lnTo>
                  <a:pt x="306139" y="1195785"/>
                </a:lnTo>
                <a:lnTo>
                  <a:pt x="312889" y="1206897"/>
                </a:lnTo>
                <a:lnTo>
                  <a:pt x="327580" y="1230710"/>
                </a:lnTo>
                <a:lnTo>
                  <a:pt x="342272" y="1255713"/>
                </a:lnTo>
                <a:lnTo>
                  <a:pt x="357757" y="1281113"/>
                </a:lnTo>
                <a:lnTo>
                  <a:pt x="365699" y="1293416"/>
                </a:lnTo>
                <a:lnTo>
                  <a:pt x="373640" y="1305719"/>
                </a:lnTo>
                <a:lnTo>
                  <a:pt x="382375" y="1317229"/>
                </a:lnTo>
                <a:lnTo>
                  <a:pt x="390714" y="1328738"/>
                </a:lnTo>
                <a:lnTo>
                  <a:pt x="399846" y="1339454"/>
                </a:lnTo>
                <a:lnTo>
                  <a:pt x="409376" y="1348979"/>
                </a:lnTo>
                <a:lnTo>
                  <a:pt x="418905" y="1358504"/>
                </a:lnTo>
                <a:lnTo>
                  <a:pt x="423670" y="1362472"/>
                </a:lnTo>
                <a:lnTo>
                  <a:pt x="428832" y="1366441"/>
                </a:lnTo>
                <a:lnTo>
                  <a:pt x="437171" y="1372791"/>
                </a:lnTo>
                <a:lnTo>
                  <a:pt x="445112" y="1378744"/>
                </a:lnTo>
                <a:lnTo>
                  <a:pt x="453450" y="1383904"/>
                </a:lnTo>
                <a:lnTo>
                  <a:pt x="462186" y="1388666"/>
                </a:lnTo>
                <a:lnTo>
                  <a:pt x="470921" y="1392635"/>
                </a:lnTo>
                <a:lnTo>
                  <a:pt x="479260" y="1396207"/>
                </a:lnTo>
                <a:lnTo>
                  <a:pt x="488789" y="1399382"/>
                </a:lnTo>
                <a:lnTo>
                  <a:pt x="497525" y="1402160"/>
                </a:lnTo>
                <a:lnTo>
                  <a:pt x="506657" y="1404144"/>
                </a:lnTo>
                <a:lnTo>
                  <a:pt x="516187" y="1405732"/>
                </a:lnTo>
                <a:lnTo>
                  <a:pt x="525716" y="1407319"/>
                </a:lnTo>
                <a:lnTo>
                  <a:pt x="535246" y="1408113"/>
                </a:lnTo>
                <a:lnTo>
                  <a:pt x="545172" y="1408113"/>
                </a:lnTo>
                <a:lnTo>
                  <a:pt x="555099" y="1407716"/>
                </a:lnTo>
                <a:lnTo>
                  <a:pt x="565423" y="1406922"/>
                </a:lnTo>
                <a:lnTo>
                  <a:pt x="575746" y="1404938"/>
                </a:lnTo>
                <a:lnTo>
                  <a:pt x="578923" y="1404541"/>
                </a:lnTo>
                <a:lnTo>
                  <a:pt x="582497" y="1402954"/>
                </a:lnTo>
                <a:lnTo>
                  <a:pt x="586467" y="1401366"/>
                </a:lnTo>
                <a:lnTo>
                  <a:pt x="590041" y="1398985"/>
                </a:lnTo>
                <a:lnTo>
                  <a:pt x="594012" y="1395810"/>
                </a:lnTo>
                <a:lnTo>
                  <a:pt x="597585" y="1392635"/>
                </a:lnTo>
                <a:lnTo>
                  <a:pt x="601556" y="1389460"/>
                </a:lnTo>
                <a:lnTo>
                  <a:pt x="604335" y="1385491"/>
                </a:lnTo>
                <a:lnTo>
                  <a:pt x="609894" y="1379141"/>
                </a:lnTo>
                <a:lnTo>
                  <a:pt x="614659" y="1372394"/>
                </a:lnTo>
                <a:lnTo>
                  <a:pt x="619424" y="1365647"/>
                </a:lnTo>
                <a:lnTo>
                  <a:pt x="623394" y="1358900"/>
                </a:lnTo>
                <a:lnTo>
                  <a:pt x="627762" y="1352154"/>
                </a:lnTo>
                <a:lnTo>
                  <a:pt x="631336" y="1344613"/>
                </a:lnTo>
                <a:lnTo>
                  <a:pt x="634512" y="1337469"/>
                </a:lnTo>
                <a:lnTo>
                  <a:pt x="637292" y="1330325"/>
                </a:lnTo>
                <a:lnTo>
                  <a:pt x="640071" y="1323182"/>
                </a:lnTo>
                <a:lnTo>
                  <a:pt x="642057" y="1315244"/>
                </a:lnTo>
                <a:lnTo>
                  <a:pt x="644042" y="1307704"/>
                </a:lnTo>
                <a:lnTo>
                  <a:pt x="645233" y="1299766"/>
                </a:lnTo>
                <a:lnTo>
                  <a:pt x="646424" y="1291829"/>
                </a:lnTo>
                <a:lnTo>
                  <a:pt x="647218" y="1283891"/>
                </a:lnTo>
                <a:lnTo>
                  <a:pt x="647616" y="1275557"/>
                </a:lnTo>
                <a:lnTo>
                  <a:pt x="648013" y="1267619"/>
                </a:lnTo>
                <a:lnTo>
                  <a:pt x="647616" y="1259682"/>
                </a:lnTo>
                <a:lnTo>
                  <a:pt x="647218" y="1252538"/>
                </a:lnTo>
                <a:lnTo>
                  <a:pt x="646424" y="1245394"/>
                </a:lnTo>
                <a:lnTo>
                  <a:pt x="645233" y="1237457"/>
                </a:lnTo>
                <a:lnTo>
                  <a:pt x="466951" y="280988"/>
                </a:lnTo>
                <a:lnTo>
                  <a:pt x="465362" y="271463"/>
                </a:lnTo>
                <a:lnTo>
                  <a:pt x="464568" y="263128"/>
                </a:lnTo>
                <a:lnTo>
                  <a:pt x="464568" y="254397"/>
                </a:lnTo>
                <a:lnTo>
                  <a:pt x="464965" y="246857"/>
                </a:lnTo>
                <a:lnTo>
                  <a:pt x="465759" y="239316"/>
                </a:lnTo>
                <a:lnTo>
                  <a:pt x="467348" y="232569"/>
                </a:lnTo>
                <a:lnTo>
                  <a:pt x="468936" y="225822"/>
                </a:lnTo>
                <a:lnTo>
                  <a:pt x="471318" y="219869"/>
                </a:lnTo>
                <a:lnTo>
                  <a:pt x="473701" y="214313"/>
                </a:lnTo>
                <a:lnTo>
                  <a:pt x="476480" y="209153"/>
                </a:lnTo>
                <a:lnTo>
                  <a:pt x="479657" y="204391"/>
                </a:lnTo>
                <a:lnTo>
                  <a:pt x="482833" y="199628"/>
                </a:lnTo>
                <a:lnTo>
                  <a:pt x="486407" y="195263"/>
                </a:lnTo>
                <a:lnTo>
                  <a:pt x="490775" y="191691"/>
                </a:lnTo>
                <a:lnTo>
                  <a:pt x="494348" y="188119"/>
                </a:lnTo>
                <a:lnTo>
                  <a:pt x="498319" y="184944"/>
                </a:lnTo>
                <a:lnTo>
                  <a:pt x="502289" y="182166"/>
                </a:lnTo>
                <a:lnTo>
                  <a:pt x="506657" y="179785"/>
                </a:lnTo>
                <a:lnTo>
                  <a:pt x="514201" y="175419"/>
                </a:lnTo>
                <a:lnTo>
                  <a:pt x="522143" y="171450"/>
                </a:lnTo>
                <a:lnTo>
                  <a:pt x="528893" y="169069"/>
                </a:lnTo>
                <a:lnTo>
                  <a:pt x="534849" y="167482"/>
                </a:lnTo>
                <a:lnTo>
                  <a:pt x="539614" y="166291"/>
                </a:lnTo>
                <a:lnTo>
                  <a:pt x="543981" y="165497"/>
                </a:lnTo>
                <a:lnTo>
                  <a:pt x="552320" y="163910"/>
                </a:lnTo>
                <a:lnTo>
                  <a:pt x="561055" y="162719"/>
                </a:lnTo>
                <a:lnTo>
                  <a:pt x="569393" y="162322"/>
                </a:lnTo>
                <a:lnTo>
                  <a:pt x="577732" y="161925"/>
                </a:lnTo>
                <a:close/>
                <a:moveTo>
                  <a:pt x="576263" y="0"/>
                </a:moveTo>
                <a:lnTo>
                  <a:pt x="594539" y="397"/>
                </a:lnTo>
                <a:lnTo>
                  <a:pt x="612419" y="1589"/>
                </a:lnTo>
                <a:lnTo>
                  <a:pt x="630298" y="3973"/>
                </a:lnTo>
                <a:lnTo>
                  <a:pt x="647780" y="7151"/>
                </a:lnTo>
                <a:lnTo>
                  <a:pt x="664864" y="10727"/>
                </a:lnTo>
                <a:lnTo>
                  <a:pt x="681551" y="15098"/>
                </a:lnTo>
                <a:lnTo>
                  <a:pt x="697841" y="20263"/>
                </a:lnTo>
                <a:lnTo>
                  <a:pt x="714131" y="26620"/>
                </a:lnTo>
                <a:lnTo>
                  <a:pt x="729626" y="33374"/>
                </a:lnTo>
                <a:lnTo>
                  <a:pt x="745122" y="41321"/>
                </a:lnTo>
                <a:lnTo>
                  <a:pt x="759822" y="50062"/>
                </a:lnTo>
                <a:lnTo>
                  <a:pt x="774920" y="59200"/>
                </a:lnTo>
                <a:lnTo>
                  <a:pt x="788826" y="69530"/>
                </a:lnTo>
                <a:lnTo>
                  <a:pt x="803130" y="80655"/>
                </a:lnTo>
                <a:lnTo>
                  <a:pt x="816638" y="92575"/>
                </a:lnTo>
                <a:lnTo>
                  <a:pt x="830147" y="105289"/>
                </a:lnTo>
                <a:lnTo>
                  <a:pt x="842464" y="118798"/>
                </a:lnTo>
                <a:lnTo>
                  <a:pt x="854780" y="132307"/>
                </a:lnTo>
                <a:lnTo>
                  <a:pt x="865508" y="146610"/>
                </a:lnTo>
                <a:lnTo>
                  <a:pt x="876235" y="160516"/>
                </a:lnTo>
                <a:lnTo>
                  <a:pt x="885374" y="175615"/>
                </a:lnTo>
                <a:lnTo>
                  <a:pt x="894115" y="190315"/>
                </a:lnTo>
                <a:lnTo>
                  <a:pt x="901664" y="205811"/>
                </a:lnTo>
                <a:lnTo>
                  <a:pt x="908815" y="221306"/>
                </a:lnTo>
                <a:lnTo>
                  <a:pt x="915172" y="237596"/>
                </a:lnTo>
                <a:lnTo>
                  <a:pt x="920337" y="253886"/>
                </a:lnTo>
                <a:lnTo>
                  <a:pt x="924708" y="270574"/>
                </a:lnTo>
                <a:lnTo>
                  <a:pt x="928284" y="287658"/>
                </a:lnTo>
                <a:lnTo>
                  <a:pt x="931462" y="304743"/>
                </a:lnTo>
                <a:lnTo>
                  <a:pt x="933449" y="322622"/>
                </a:lnTo>
                <a:lnTo>
                  <a:pt x="934641" y="340502"/>
                </a:lnTo>
                <a:lnTo>
                  <a:pt x="935038" y="359175"/>
                </a:lnTo>
                <a:lnTo>
                  <a:pt x="934641" y="377452"/>
                </a:lnTo>
                <a:lnTo>
                  <a:pt x="933449" y="395331"/>
                </a:lnTo>
                <a:lnTo>
                  <a:pt x="931462" y="413211"/>
                </a:lnTo>
                <a:lnTo>
                  <a:pt x="928284" y="430693"/>
                </a:lnTo>
                <a:lnTo>
                  <a:pt x="924708" y="447777"/>
                </a:lnTo>
                <a:lnTo>
                  <a:pt x="920337" y="464465"/>
                </a:lnTo>
                <a:lnTo>
                  <a:pt x="915172" y="480755"/>
                </a:lnTo>
                <a:lnTo>
                  <a:pt x="908815" y="496647"/>
                </a:lnTo>
                <a:lnTo>
                  <a:pt x="901664" y="512540"/>
                </a:lnTo>
                <a:lnTo>
                  <a:pt x="894115" y="527638"/>
                </a:lnTo>
                <a:lnTo>
                  <a:pt x="885374" y="543134"/>
                </a:lnTo>
                <a:lnTo>
                  <a:pt x="876235" y="557437"/>
                </a:lnTo>
                <a:lnTo>
                  <a:pt x="865508" y="572138"/>
                </a:lnTo>
                <a:lnTo>
                  <a:pt x="854780" y="585647"/>
                </a:lnTo>
                <a:lnTo>
                  <a:pt x="842464" y="599553"/>
                </a:lnTo>
                <a:lnTo>
                  <a:pt x="830147" y="612664"/>
                </a:lnTo>
                <a:lnTo>
                  <a:pt x="830147" y="613061"/>
                </a:lnTo>
                <a:lnTo>
                  <a:pt x="822201" y="620611"/>
                </a:lnTo>
                <a:lnTo>
                  <a:pt x="813857" y="628160"/>
                </a:lnTo>
                <a:lnTo>
                  <a:pt x="805911" y="634914"/>
                </a:lnTo>
                <a:lnTo>
                  <a:pt x="797964" y="641668"/>
                </a:lnTo>
                <a:lnTo>
                  <a:pt x="791607" y="619419"/>
                </a:lnTo>
                <a:lnTo>
                  <a:pt x="785250" y="597963"/>
                </a:lnTo>
                <a:lnTo>
                  <a:pt x="778496" y="576111"/>
                </a:lnTo>
                <a:lnTo>
                  <a:pt x="771344" y="553861"/>
                </a:lnTo>
                <a:lnTo>
                  <a:pt x="780880" y="543928"/>
                </a:lnTo>
                <a:lnTo>
                  <a:pt x="790018" y="533201"/>
                </a:lnTo>
                <a:lnTo>
                  <a:pt x="798759" y="522473"/>
                </a:lnTo>
                <a:lnTo>
                  <a:pt x="806705" y="511745"/>
                </a:lnTo>
                <a:lnTo>
                  <a:pt x="813857" y="500223"/>
                </a:lnTo>
                <a:lnTo>
                  <a:pt x="820611" y="488701"/>
                </a:lnTo>
                <a:lnTo>
                  <a:pt x="826571" y="476782"/>
                </a:lnTo>
                <a:lnTo>
                  <a:pt x="831736" y="464862"/>
                </a:lnTo>
                <a:lnTo>
                  <a:pt x="836504" y="452545"/>
                </a:lnTo>
                <a:lnTo>
                  <a:pt x="840477" y="439831"/>
                </a:lnTo>
                <a:lnTo>
                  <a:pt x="844053" y="427117"/>
                </a:lnTo>
                <a:lnTo>
                  <a:pt x="846834" y="414005"/>
                </a:lnTo>
                <a:lnTo>
                  <a:pt x="849218" y="400894"/>
                </a:lnTo>
                <a:lnTo>
                  <a:pt x="850807" y="386988"/>
                </a:lnTo>
                <a:lnTo>
                  <a:pt x="851602" y="373479"/>
                </a:lnTo>
                <a:lnTo>
                  <a:pt x="851999" y="359175"/>
                </a:lnTo>
                <a:lnTo>
                  <a:pt x="851602" y="344872"/>
                </a:lnTo>
                <a:lnTo>
                  <a:pt x="850807" y="330966"/>
                </a:lnTo>
                <a:lnTo>
                  <a:pt x="849218" y="317457"/>
                </a:lnTo>
                <a:lnTo>
                  <a:pt x="846834" y="303948"/>
                </a:lnTo>
                <a:lnTo>
                  <a:pt x="844053" y="291234"/>
                </a:lnTo>
                <a:lnTo>
                  <a:pt x="840477" y="278123"/>
                </a:lnTo>
                <a:lnTo>
                  <a:pt x="836504" y="265806"/>
                </a:lnTo>
                <a:lnTo>
                  <a:pt x="831736" y="253092"/>
                </a:lnTo>
                <a:lnTo>
                  <a:pt x="826571" y="241172"/>
                </a:lnTo>
                <a:lnTo>
                  <a:pt x="820611" y="229253"/>
                </a:lnTo>
                <a:lnTo>
                  <a:pt x="813460" y="217730"/>
                </a:lnTo>
                <a:lnTo>
                  <a:pt x="806308" y="206605"/>
                </a:lnTo>
                <a:lnTo>
                  <a:pt x="798759" y="195481"/>
                </a:lnTo>
                <a:lnTo>
                  <a:pt x="789621" y="185150"/>
                </a:lnTo>
                <a:lnTo>
                  <a:pt x="780880" y="174820"/>
                </a:lnTo>
                <a:lnTo>
                  <a:pt x="770947" y="164092"/>
                </a:lnTo>
                <a:lnTo>
                  <a:pt x="760617" y="154556"/>
                </a:lnTo>
                <a:lnTo>
                  <a:pt x="750287" y="145021"/>
                </a:lnTo>
                <a:lnTo>
                  <a:pt x="739559" y="136677"/>
                </a:lnTo>
                <a:lnTo>
                  <a:pt x="728434" y="129128"/>
                </a:lnTo>
                <a:lnTo>
                  <a:pt x="717310" y="121976"/>
                </a:lnTo>
                <a:lnTo>
                  <a:pt x="705788" y="114825"/>
                </a:lnTo>
                <a:lnTo>
                  <a:pt x="693868" y="108865"/>
                </a:lnTo>
                <a:lnTo>
                  <a:pt x="682346" y="103700"/>
                </a:lnTo>
                <a:lnTo>
                  <a:pt x="669632" y="98932"/>
                </a:lnTo>
                <a:lnTo>
                  <a:pt x="657315" y="94959"/>
                </a:lnTo>
                <a:lnTo>
                  <a:pt x="644204" y="91383"/>
                </a:lnTo>
                <a:lnTo>
                  <a:pt x="631490" y="88204"/>
                </a:lnTo>
                <a:lnTo>
                  <a:pt x="617584" y="86218"/>
                </a:lnTo>
                <a:lnTo>
                  <a:pt x="604472" y="84628"/>
                </a:lnTo>
                <a:lnTo>
                  <a:pt x="590169" y="83436"/>
                </a:lnTo>
                <a:lnTo>
                  <a:pt x="576263" y="83436"/>
                </a:lnTo>
                <a:lnTo>
                  <a:pt x="561960" y="83436"/>
                </a:lnTo>
                <a:lnTo>
                  <a:pt x="548451" y="84628"/>
                </a:lnTo>
                <a:lnTo>
                  <a:pt x="534545" y="86218"/>
                </a:lnTo>
                <a:lnTo>
                  <a:pt x="521434" y="88204"/>
                </a:lnTo>
                <a:lnTo>
                  <a:pt x="507925" y="91383"/>
                </a:lnTo>
                <a:lnTo>
                  <a:pt x="495211" y="94959"/>
                </a:lnTo>
                <a:lnTo>
                  <a:pt x="482497" y="98932"/>
                </a:lnTo>
                <a:lnTo>
                  <a:pt x="470578" y="103700"/>
                </a:lnTo>
                <a:lnTo>
                  <a:pt x="458658" y="108865"/>
                </a:lnTo>
                <a:lnTo>
                  <a:pt x="446341" y="114825"/>
                </a:lnTo>
                <a:lnTo>
                  <a:pt x="435217" y="121976"/>
                </a:lnTo>
                <a:lnTo>
                  <a:pt x="423694" y="129128"/>
                </a:lnTo>
                <a:lnTo>
                  <a:pt x="412967" y="136677"/>
                </a:lnTo>
                <a:lnTo>
                  <a:pt x="401842" y="145021"/>
                </a:lnTo>
                <a:lnTo>
                  <a:pt x="391512" y="154556"/>
                </a:lnTo>
                <a:lnTo>
                  <a:pt x="381579" y="164092"/>
                </a:lnTo>
                <a:lnTo>
                  <a:pt x="381182" y="164092"/>
                </a:lnTo>
                <a:lnTo>
                  <a:pt x="371249" y="174820"/>
                </a:lnTo>
                <a:lnTo>
                  <a:pt x="362111" y="185150"/>
                </a:lnTo>
                <a:lnTo>
                  <a:pt x="353767" y="195481"/>
                </a:lnTo>
                <a:lnTo>
                  <a:pt x="345821" y="207003"/>
                </a:lnTo>
                <a:lnTo>
                  <a:pt x="338669" y="218128"/>
                </a:lnTo>
                <a:lnTo>
                  <a:pt x="331915" y="229253"/>
                </a:lnTo>
                <a:lnTo>
                  <a:pt x="325955" y="241172"/>
                </a:lnTo>
                <a:lnTo>
                  <a:pt x="320790" y="253092"/>
                </a:lnTo>
                <a:lnTo>
                  <a:pt x="315625" y="265806"/>
                </a:lnTo>
                <a:lnTo>
                  <a:pt x="311652" y="278123"/>
                </a:lnTo>
                <a:lnTo>
                  <a:pt x="308473" y="291234"/>
                </a:lnTo>
                <a:lnTo>
                  <a:pt x="305692" y="303948"/>
                </a:lnTo>
                <a:lnTo>
                  <a:pt x="303308" y="317457"/>
                </a:lnTo>
                <a:lnTo>
                  <a:pt x="301719" y="330966"/>
                </a:lnTo>
                <a:lnTo>
                  <a:pt x="300924" y="345269"/>
                </a:lnTo>
                <a:lnTo>
                  <a:pt x="300527" y="359175"/>
                </a:lnTo>
                <a:lnTo>
                  <a:pt x="300924" y="373479"/>
                </a:lnTo>
                <a:lnTo>
                  <a:pt x="301719" y="386988"/>
                </a:lnTo>
                <a:lnTo>
                  <a:pt x="303308" y="400894"/>
                </a:lnTo>
                <a:lnTo>
                  <a:pt x="305692" y="414005"/>
                </a:lnTo>
                <a:lnTo>
                  <a:pt x="308473" y="427514"/>
                </a:lnTo>
                <a:lnTo>
                  <a:pt x="311652" y="440228"/>
                </a:lnTo>
                <a:lnTo>
                  <a:pt x="315625" y="452545"/>
                </a:lnTo>
                <a:lnTo>
                  <a:pt x="320790" y="464862"/>
                </a:lnTo>
                <a:lnTo>
                  <a:pt x="325955" y="476782"/>
                </a:lnTo>
                <a:lnTo>
                  <a:pt x="331915" y="489098"/>
                </a:lnTo>
                <a:lnTo>
                  <a:pt x="338669" y="500223"/>
                </a:lnTo>
                <a:lnTo>
                  <a:pt x="345821" y="511745"/>
                </a:lnTo>
                <a:lnTo>
                  <a:pt x="353767" y="522870"/>
                </a:lnTo>
                <a:lnTo>
                  <a:pt x="362111" y="533201"/>
                </a:lnTo>
                <a:lnTo>
                  <a:pt x="371249" y="543928"/>
                </a:lnTo>
                <a:lnTo>
                  <a:pt x="381182" y="554258"/>
                </a:lnTo>
                <a:lnTo>
                  <a:pt x="387539" y="560218"/>
                </a:lnTo>
                <a:lnTo>
                  <a:pt x="393896" y="566575"/>
                </a:lnTo>
                <a:lnTo>
                  <a:pt x="400650" y="572138"/>
                </a:lnTo>
                <a:lnTo>
                  <a:pt x="407405" y="577700"/>
                </a:lnTo>
                <a:lnTo>
                  <a:pt x="414159" y="582468"/>
                </a:lnTo>
                <a:lnTo>
                  <a:pt x="420913" y="587633"/>
                </a:lnTo>
                <a:lnTo>
                  <a:pt x="428065" y="592401"/>
                </a:lnTo>
                <a:lnTo>
                  <a:pt x="435614" y="597169"/>
                </a:lnTo>
                <a:lnTo>
                  <a:pt x="442368" y="601142"/>
                </a:lnTo>
                <a:lnTo>
                  <a:pt x="449917" y="605115"/>
                </a:lnTo>
                <a:lnTo>
                  <a:pt x="457069" y="608691"/>
                </a:lnTo>
                <a:lnTo>
                  <a:pt x="465015" y="612267"/>
                </a:lnTo>
                <a:lnTo>
                  <a:pt x="472564" y="615445"/>
                </a:lnTo>
                <a:lnTo>
                  <a:pt x="480113" y="618227"/>
                </a:lnTo>
                <a:lnTo>
                  <a:pt x="488457" y="621008"/>
                </a:lnTo>
                <a:lnTo>
                  <a:pt x="496403" y="623789"/>
                </a:lnTo>
                <a:lnTo>
                  <a:pt x="498787" y="634914"/>
                </a:lnTo>
                <a:lnTo>
                  <a:pt x="501171" y="645642"/>
                </a:lnTo>
                <a:lnTo>
                  <a:pt x="505541" y="667891"/>
                </a:lnTo>
                <a:lnTo>
                  <a:pt x="508720" y="690141"/>
                </a:lnTo>
                <a:lnTo>
                  <a:pt x="511501" y="712788"/>
                </a:lnTo>
                <a:lnTo>
                  <a:pt x="498390" y="710404"/>
                </a:lnTo>
                <a:lnTo>
                  <a:pt x="484881" y="707226"/>
                </a:lnTo>
                <a:lnTo>
                  <a:pt x="472167" y="703253"/>
                </a:lnTo>
                <a:lnTo>
                  <a:pt x="459453" y="699279"/>
                </a:lnTo>
                <a:lnTo>
                  <a:pt x="446739" y="694909"/>
                </a:lnTo>
                <a:lnTo>
                  <a:pt x="434819" y="690141"/>
                </a:lnTo>
                <a:lnTo>
                  <a:pt x="422503" y="684579"/>
                </a:lnTo>
                <a:lnTo>
                  <a:pt x="410583" y="678619"/>
                </a:lnTo>
                <a:lnTo>
                  <a:pt x="398664" y="671864"/>
                </a:lnTo>
                <a:lnTo>
                  <a:pt x="387142" y="665110"/>
                </a:lnTo>
                <a:lnTo>
                  <a:pt x="376017" y="657561"/>
                </a:lnTo>
                <a:lnTo>
                  <a:pt x="364892" y="649615"/>
                </a:lnTo>
                <a:lnTo>
                  <a:pt x="354164" y="641271"/>
                </a:lnTo>
                <a:lnTo>
                  <a:pt x="343040" y="632133"/>
                </a:lnTo>
                <a:lnTo>
                  <a:pt x="332709" y="622994"/>
                </a:lnTo>
                <a:lnTo>
                  <a:pt x="322379" y="612664"/>
                </a:lnTo>
                <a:lnTo>
                  <a:pt x="309665" y="599553"/>
                </a:lnTo>
                <a:lnTo>
                  <a:pt x="297746" y="585647"/>
                </a:lnTo>
                <a:lnTo>
                  <a:pt x="286621" y="572138"/>
                </a:lnTo>
                <a:lnTo>
                  <a:pt x="276291" y="557437"/>
                </a:lnTo>
                <a:lnTo>
                  <a:pt x="267153" y="543134"/>
                </a:lnTo>
                <a:lnTo>
                  <a:pt x="258412" y="527638"/>
                </a:lnTo>
                <a:lnTo>
                  <a:pt x="250465" y="512540"/>
                </a:lnTo>
                <a:lnTo>
                  <a:pt x="243711" y="496647"/>
                </a:lnTo>
                <a:lnTo>
                  <a:pt x="237751" y="480755"/>
                </a:lnTo>
                <a:lnTo>
                  <a:pt x="231792" y="464465"/>
                </a:lnTo>
                <a:lnTo>
                  <a:pt x="227421" y="447777"/>
                </a:lnTo>
                <a:lnTo>
                  <a:pt x="223845" y="430693"/>
                </a:lnTo>
                <a:lnTo>
                  <a:pt x="221064" y="413211"/>
                </a:lnTo>
                <a:lnTo>
                  <a:pt x="219078" y="395331"/>
                </a:lnTo>
                <a:lnTo>
                  <a:pt x="217886" y="377452"/>
                </a:lnTo>
                <a:lnTo>
                  <a:pt x="217488" y="359175"/>
                </a:lnTo>
                <a:lnTo>
                  <a:pt x="217886" y="340502"/>
                </a:lnTo>
                <a:lnTo>
                  <a:pt x="219078" y="322622"/>
                </a:lnTo>
                <a:lnTo>
                  <a:pt x="221064" y="304743"/>
                </a:lnTo>
                <a:lnTo>
                  <a:pt x="223845" y="287658"/>
                </a:lnTo>
                <a:lnTo>
                  <a:pt x="227421" y="270574"/>
                </a:lnTo>
                <a:lnTo>
                  <a:pt x="231792" y="253886"/>
                </a:lnTo>
                <a:lnTo>
                  <a:pt x="237751" y="237596"/>
                </a:lnTo>
                <a:lnTo>
                  <a:pt x="243711" y="221306"/>
                </a:lnTo>
                <a:lnTo>
                  <a:pt x="250465" y="205811"/>
                </a:lnTo>
                <a:lnTo>
                  <a:pt x="258412" y="190315"/>
                </a:lnTo>
                <a:lnTo>
                  <a:pt x="267153" y="175615"/>
                </a:lnTo>
                <a:lnTo>
                  <a:pt x="276291" y="160516"/>
                </a:lnTo>
                <a:lnTo>
                  <a:pt x="286621" y="146610"/>
                </a:lnTo>
                <a:lnTo>
                  <a:pt x="297746" y="132307"/>
                </a:lnTo>
                <a:lnTo>
                  <a:pt x="309665" y="118798"/>
                </a:lnTo>
                <a:lnTo>
                  <a:pt x="322379" y="105289"/>
                </a:lnTo>
                <a:lnTo>
                  <a:pt x="335491" y="92575"/>
                </a:lnTo>
                <a:lnTo>
                  <a:pt x="349397" y="80655"/>
                </a:lnTo>
                <a:lnTo>
                  <a:pt x="363303" y="69530"/>
                </a:lnTo>
                <a:lnTo>
                  <a:pt x="378003" y="59200"/>
                </a:lnTo>
                <a:lnTo>
                  <a:pt x="392307" y="50062"/>
                </a:lnTo>
                <a:lnTo>
                  <a:pt x="407405" y="41321"/>
                </a:lnTo>
                <a:lnTo>
                  <a:pt x="422900" y="33374"/>
                </a:lnTo>
                <a:lnTo>
                  <a:pt x="438395" y="26620"/>
                </a:lnTo>
                <a:lnTo>
                  <a:pt x="454288" y="20263"/>
                </a:lnTo>
                <a:lnTo>
                  <a:pt x="470975" y="15098"/>
                </a:lnTo>
                <a:lnTo>
                  <a:pt x="487662" y="10727"/>
                </a:lnTo>
                <a:lnTo>
                  <a:pt x="504747" y="7151"/>
                </a:lnTo>
                <a:lnTo>
                  <a:pt x="522228" y="3973"/>
                </a:lnTo>
                <a:lnTo>
                  <a:pt x="539710" y="1589"/>
                </a:lnTo>
                <a:lnTo>
                  <a:pt x="557589" y="397"/>
                </a:lnTo>
                <a:lnTo>
                  <a:pt x="576263" y="0"/>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Tree>
  </p:cSld>
  <p:transition>
    <p:push dir="u"/>
  </p:transition>
  <p:timing>
    <p:tnLst>
      <p:par>
        <p:cTn id="180" dur="indefinite" restart="never" nodeType="tmRoot">
          <p:childTnLst>
            <p:seq>
              <p:cTn id="181" restart="whenNotActive" nodeType="interactiveSeq" fill="hold">
                <p:stCondLst>
                  <p:cond evt="onClick">
                    <p:tgtEl>
                      <p:spTgt spid="148"/>
                    </p:tgtEl>
                  </p:cond>
                </p:stCondLst>
                <p:childTnLst>
                  <p:par>
                    <p:cTn id="182" fill="hold">
                      <p:stCondLst>
                        <p:cond evt="onClick">
                          <p:tgtEl>
                            <p:spTgt spid="148"/>
                          </p:tgtEl>
                        </p:cond>
                      </p:stCondLst>
                      <p:childTnLst>
                        <p:par>
                          <p:cTn id="183" fill="hold">
                            <p:stCondLst>
                              <p:cond delay="0"/>
                            </p:stCondLst>
                            <p:childTnLst>
                              <p:par>
                                <p:cTn id="184" dur="indefinite" nodeType="clickEffect" fill="hold" presetClass="mediacall" presetID="2">
                                  <p:stCondLst>
                                    <p:cond delay="0"/>
                                  </p:stCondLst>
                                  <p:childTnLst>
                                    <p:cmd type="call" cmd="togglePause">
                                      <p:cBhvr>
                                        <p:cTn id="185"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seq>
              <p:cTn id="186" restart="whenNotActive" nodeType="interactiveSeq" fill="hold">
                <p:stCondLst>
                  <p:cond evt="onClick">
                    <p:tgtEl>
                      <p:spTgt spid="149"/>
                    </p:tgtEl>
                  </p:cond>
                </p:stCondLst>
                <p:childTnLst>
                  <p:par>
                    <p:cTn id="187" fill="hold">
                      <p:stCondLst>
                        <p:cond evt="onClick">
                          <p:tgtEl>
                            <p:spTgt spid="149"/>
                          </p:tgtEl>
                        </p:cond>
                      </p:stCondLst>
                      <p:childTnLst>
                        <p:par>
                          <p:cTn id="188" fill="hold">
                            <p:stCondLst>
                              <p:cond delay="0"/>
                            </p:stCondLst>
                            <p:childTnLst>
                              <p:par>
                                <p:cTn id="189" dur="indefinite" nodeType="clickEffect" fill="hold" presetClass="mediacall" presetID="2">
                                  <p:stCondLst>
                                    <p:cond delay="0"/>
                                  </p:stCondLst>
                                  <p:childTnLst>
                                    <p:cmd type="call" cmd="togglePause">
                                      <p:cBhvr>
                                        <p:cTn id="190"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18T19:05:00Z</dcterms:created>
  <dc:creator/>
  <dc:description/>
  <dc:language>en-US</dc:language>
  <cp:lastModifiedBy>Lenovo</cp:lastModifiedBy>
  <dcterms:modified xsi:type="dcterms:W3CDTF">2016-11-19T05:49:3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